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B6C-5D0B-445F-BF36-11AF2A80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D24-718D-47AE-ACBB-305D0DA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B9D-04A2-4F56-A18C-E1AEF2D7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05E-6141-4571-8168-CB782BE5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FFDF-26D3-4144-AE6E-B36AE4F5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DFD1-91F4-4448-A017-7BC2435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01A0-2786-41D0-87F1-6809C915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F342-0F86-4AC2-8671-5ACA75CB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7FAF-69C4-48DD-97FC-8DA28A2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139-F262-4D3E-B9A4-C0EBE3C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B9F-A800-499E-A7B2-99BB678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B4B-A10A-46E0-9166-80A54D29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827-36B2-45A7-8DB6-76BCBEE8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8CC8-6792-4499-984C-78264A0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5ECA-832E-42EB-810F-43912B2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1213-1EEA-42C8-9BF4-79ABAAED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634-336C-4F20-A5D6-47C8647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3A26-93DA-45EF-AD00-C7D32CA9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1681-C790-4F26-A737-BF88615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9F54-EA5C-4D8F-A012-814E467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B09A-35EE-4A46-916C-64C8F8DF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632E-659F-4850-A7A9-BA13CAE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402-46DB-47B2-A0DA-50CE186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FF71-7C62-49A2-BB5C-7CD2F2A9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91CF-198C-45F6-A61A-8D3F72A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C477-4B41-4E82-AC77-98D7B8D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93C2-1AB1-47C3-9E4F-B378B82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56FA-E847-4A92-9551-9D99C78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C15A-AF8C-46DF-97B5-F5BAEB6B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6CE6-BDDB-4DF9-A6FC-969A078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2D95-9460-415E-BB19-80A7B4C4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C644-2164-4B14-9DF3-2C4B545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6B82-02D1-4541-9674-C3539B0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971-DCFA-4574-91B8-0AC8E6E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A323-2B2D-4CAC-B729-AC64D578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D703-2B32-4091-9BC1-1EBDA9B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CB9A-3B4D-4290-95DB-357F49B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B717-DCC3-4054-BBCD-ED83F09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8E5F-AAB9-482F-B838-04287BD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BA96-D27E-4B28-BB5D-8BE393EA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DDC0-DDB9-4814-89A1-A2465AB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1981-D502-4954-9D7E-793A9FC1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5D90-2A67-4588-97CF-277AF5EC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70592-75DA-468F-BEFA-AC9D0346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59D-012D-494E-9563-CEFE03A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15F7-0B8F-4AF5-8C74-567F35B1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5999-E8C1-412F-B3C3-B30E59A0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1EE5-4D1F-4821-9617-50BE131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4071-9185-4F66-938D-0941B31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4AC7-3554-48E3-B4ED-CE09C85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2772-2177-49E2-87E5-4DEAF3D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FB87-0857-48E1-BE41-2A618BE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DDC25-9F00-40FA-80A7-1680EC7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D8A1-1FA9-4097-AC74-AC77317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6A0C-28AA-4F3A-8CE6-8E662584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0CB-2271-4BCE-996D-C0D4A69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E4FF4-0A8F-4625-9D39-9C633C74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0EF7-337D-4913-BF92-25EE1887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785E-C8EE-4DCF-A208-4BC3B13E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38DE-D747-4E5C-9117-A178AEE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D1DF-96D3-43C8-9522-855238F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11DC-9DCB-491A-9F0D-F58F75E1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305E-5BA7-4B18-8D4B-E9E4782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1126-F3E9-46AC-96EC-FCA5256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E6F5-277B-4FD4-980C-EABD1720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F25E-4452-46D9-AAFD-55D1DEC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E0C-2227-4E0B-9C5F-DCC2B37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D47D-640B-4E98-B108-8093B0C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D026-6523-41BC-B327-4C0374B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A5F1-0C03-4E83-8AB7-1CADC90E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3CAB0-D192-4335-ADAB-A177D38B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81B6-BB63-43C5-9472-ECF9566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DCF2-8D8C-4D73-AA8A-2104E221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93AD-45BD-48FF-BCD0-1E40BF69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35B2-A679-4A8C-9118-1D8D099F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8BE9-F517-454A-A79A-AA51C9B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91323-6766-4607-B80E-3FDB3C41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838-79A5-4BBB-811E-49B271F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3FD24-1378-4348-8713-EBA564E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A902-6B1E-4730-A80B-3615D07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6CF3-2694-4026-A02A-F45B927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E3DE-2A60-4F63-8F07-E5CF2344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AD04-90FA-4C63-B595-ED85FF8F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6B2-9D44-44FC-B6AF-833C18A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DA58-F7A0-4157-971E-B42BE20D3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BFCF-DABB-4D70-A548-49068796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97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98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07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0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13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16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19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22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2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28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31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34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43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4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52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55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58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63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6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72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75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78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84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87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0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93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3E7-F7C1-41B3-8C4C-0E017EF71DC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9BE-EC6A-4AA3-9EFC-5D87A998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734-AD38-402B-8611-ADEB800B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34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35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35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35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6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37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37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8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38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39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39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39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9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40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40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40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41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41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41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42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42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42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43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43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43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44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44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44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45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5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C208-1674-434F-9F2F-7ABA991EC82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F291-9475-485B-9EC4-ED202014D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457200" y="38088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e1f08"/>
                </a:solidFill>
                <a:latin typeface="Arial"/>
                <a:ea typeface="隶书"/>
              </a:rPr>
              <a:t>第八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8"/>
          <p:cNvSpPr txBox="1"/>
          <p:nvPr/>
        </p:nvSpPr>
        <p:spPr>
          <a:xfrm>
            <a:off x="380880" y="2286000"/>
            <a:ext cx="84250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99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植物中水分、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干物质和灰分的测定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838080" y="1893600"/>
            <a:ext cx="746784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  ① 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风干植物样品的测定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称量容器烘干恒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取洁净的称量瓶或洁净的铝盒，放入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的恒温烘箱中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分钟，取出，盖好盖，转入盛有硅胶的干燥器中冷却至室温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约需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20-30min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取出，称量；再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min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称量，两次称量之差小于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mg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为恒重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1691280" y="685800"/>
            <a:ext cx="590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、测定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066680" y="838080"/>
            <a:ext cx="723924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样品烘干恒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粉碎后混匀的风干样品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平铺于已恒重的称量瓶中，称取其准确质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；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将盖子打开后，放于已升温至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1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的烘箱中，关好烘箱门，调节温度在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，烘干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4-6h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出，盖好盒盖，转入干燥器中冷却至室温、称量；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再烘干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称量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直至前后两次质量差小于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mg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为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94"/>
            </a:gs>
            <a:gs pos="50000">
              <a:srgbClr val="000000"/>
            </a:gs>
            <a:gs pos="100000">
              <a:srgbClr val="3c00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685800" y="1653840"/>
            <a:ext cx="79930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宋体"/>
              </a:rPr>
              <a:t>② 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新鲜植物样品中水分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取一小烧杯，放入约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干净的石英砂和一支小玻棒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水分不多时可不加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移入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烘箱中烘至恒重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将新鲜样品约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，于小烧杯中，与石英砂混匀后称量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将小烧杯和样品先在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干燥箱中鼓风干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中间可翻动样品两到三次，样品烘脆后，轻轻压碎，转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100-105℃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不鼓风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约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冷却、称量。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再同法烘约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，称量，至恒重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2007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380880" y="829080"/>
            <a:ext cx="83520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ccff66"/>
                </a:solidFill>
                <a:latin typeface="宋体"/>
              </a:rPr>
              <a:t>、结果计算：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水分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干物质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式中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风干样或鲜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干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533520" y="609480"/>
            <a:ext cx="820872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石英砂的清洗方法：先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盐酸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再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氢氧化钠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烘干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、 每次冷却的时间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9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ff99"/>
                </a:solidFill>
                <a:latin typeface="宋体"/>
              </a:rPr>
              <a:t>、 在空气湿度较大时，要注意称量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 在新鲜样品测定中，注意混匀时不要造成样品、砂等的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609480" y="2010600"/>
            <a:ext cx="79758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注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续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新鲜植物组织样品的含水量较高，不宜直接在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100℃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烘干。因为在高温条件下，表面组织容易快速干燥，形成干壳，导致内部组织的水分不易蒸发出来，烘干速度反而较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在常规分析中，水分的计算，习惯上都是以分析样为基础的，即多数为风干样。如需要新鲜植物的水分含量，一定注意，在采样后，样品制备的同时，取一部分样品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要有代表性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测定水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8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1295280" y="2627280"/>
            <a:ext cx="70405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99"/>
                </a:solidFill>
                <a:latin typeface="Arial"/>
              </a:rPr>
              <a:t>在减压下，水分的沸点降低，可使植物样品中的水分在较低的温度下蒸发，根据干燥前、后的质量差，计算水分含量。该法适用于含糖较多的样品，但不适用于含挥发性物质的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321000" y="404640"/>
            <a:ext cx="279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三、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80880" y="1492560"/>
            <a:ext cx="849816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操作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样品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3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于已知恒重质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铝盒中，打开盒盖，放入已预热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0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真空干燥箱内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抽气减压至要求的压力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400kPa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调节温度至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关闭抽气活塞，停止抽气。使干燥箱内保持一定的温度和压力，经一定时间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3-5h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后，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打开进气活塞，使空气经干燥装置后漫漫进入干燥箱内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进气速度不能过快，以免空气对流强烈而吹散已烘干的样品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至箱内压力与大气压相平衡后，打开箱门，取出铝盒盖好，移入干燥器中冷却、称量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再烘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h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冷却、称量至恒重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1066680" y="914400"/>
            <a:ext cx="70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、结果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物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式中</a:t>
            </a:r>
            <a:r>
              <a:rPr b="0" lang="zh-CN" sz="3200" spc="-1" strike="noStrike">
                <a:solidFill>
                  <a:srgbClr val="660033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铝盒的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风干样或鲜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烘干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762120" y="2797920"/>
            <a:ext cx="7839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方法原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中的水分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起蒸馏，二者组成的共混物其沸点低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10.8℃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水的沸点，可使样品中的水分在较低的温度下迅速蒸馏出来，收集溜出液于接受管中，由溜出水的体积计算样品中水分的含量。此法适用于含挥发性油和干性油等易氧化的油料植物样品，以及水分含量高的新鲜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1873440" y="304920"/>
            <a:ext cx="366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021360" y="49248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684360" y="1256040"/>
            <a:ext cx="8135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第八章 植物中水分、干物质和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755640" y="3068640"/>
            <a:ext cx="838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植物中水分和干物质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 植物中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380880" y="2863440"/>
            <a:ext cx="830592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净、烘干蒸馏装置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将蒸馏式水分测量装置的各部分用重铬酸钾洗液及水洗净、烘干，以防止测定时带入外来水分，或样品中的水以水滴的形式粘附于蒸馏器的内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蒸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安装蒸馏装置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准确称取剪碎、混匀的样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估计含水量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5m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放入干燥的蒸馏瓶中，加入新蒸馏的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使样品全部淹没。连接好接收管和冷凝管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严防漏气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从冷凝管的顶端加入适量的甲苯，将水分接收管装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72309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914400" y="1295280"/>
            <a:ext cx="73152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蒸馏水分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打开冷凝水源、电源，以文火徐徐加热蒸馏瓶，使每秒钟溜出液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待大部分水分蒸馏出来后，增大火力，使每秒的流出速度约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直至接收管中水分的体积不在增加，且水液上层的甲苯溶液已澄清透明、不在浑浊时，关闭电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"/>
          <p:cNvSpPr/>
          <p:nvPr/>
        </p:nvSpPr>
        <p:spPr>
          <a:xfrm>
            <a:off x="6869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1042920" y="1773360"/>
            <a:ext cx="711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读取水的体积：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从冷凝管的顶端注入少量甲苯冲洗内壁上水滴，接收管内壁上的水滴可用附有小橡皮头的铜丝轻轻推入水液内。待接收管内溶液冷却至室温后，读取水的体积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(ml)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002680" y="60948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4"/>
          <p:cNvSpPr/>
          <p:nvPr/>
        </p:nvSpPr>
        <p:spPr>
          <a:xfrm>
            <a:off x="990720" y="2132640"/>
            <a:ext cx="716256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水分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%=(V*ρ)*m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-1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*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式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V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接收管中水的体积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水的密度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2384640" y="993600"/>
            <a:ext cx="68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结果计算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457200" y="685800"/>
            <a:ext cx="82803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蒸馏法测定水分的载体有许多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二甲苯的效果最好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需的时间最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的回收率较高；甲苯次之。因甲苯、二甲苯为易燃物质；应注意防火。四氯乙烯的效果也较好，且不易燃烧，但毒性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蒸馏法测定水分的装置有两种，以迪安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斯塔克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Dean-Stark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较为简单实用，适合常规分析，但精密度较差，读数精度为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0.1ml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巴尔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亚伍德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Barr-Yarwood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测量精度较高，适于精密分析，但装置准备较为复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6716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4"/>
          <p:cNvSpPr/>
          <p:nvPr/>
        </p:nvSpPr>
        <p:spPr>
          <a:xfrm>
            <a:off x="762120" y="306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概述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灰分是植物样品经灼烧后所残留的无机物质，主要是一些无机盐和氧化物。植物干物质中灰分的含量随植物种类、品种、器官、部位、生育期、生长环境及农业管理措施的不同而有一定的变动。一般含量范围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%-7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平均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2147400" y="533520"/>
            <a:ext cx="488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第二节  植物中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"/>
          <p:cNvSpPr/>
          <p:nvPr/>
        </p:nvSpPr>
        <p:spPr>
          <a:xfrm>
            <a:off x="914400" y="1447920"/>
            <a:ext cx="73436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测定灰分的含量，可了解各种植物在不同生育期和不同器官中养分吸收和积累状况，以及土壤、施肥、气候、栽培管理等因素对植物灰分含量变化的影响。也是农产品和其加工产品的品质检测项目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4"/>
          <p:cNvSpPr/>
          <p:nvPr/>
        </p:nvSpPr>
        <p:spPr>
          <a:xfrm>
            <a:off x="304920" y="1984320"/>
            <a:ext cx="838188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经低温炭化和高温灼烧，水分及有机质被蒸发或氧化气化，最后剩余不可燃部分为灰分元素的氧化物或无机盐，称量后可计算灰分的含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由于灰分中含有未烧净的炭粒、样品上附着的尘土、及灰分中成分有所改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碳酸盐增加，氯化物和硝酸盐损失，有机磷和有机硫转变为磷酸盐和硫酸盐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因此测定出的灰分常称为粗灰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139760" y="533520"/>
            <a:ext cx="28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灰分的测定：灼烧重量法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990720" y="1295280"/>
            <a:ext cx="7113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灼烧的温度和升温速度对灰分的残留量有一定的影响。常规测定温度一般控制在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25℃±25℃(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国家标准为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50-600℃)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。温度过高和升温速度过快，会引起部分钾、钠的氯化物挥发损失；也会导致钾、钠的磷酸盐和硅酸盐熔融将部分炭粒包裹，使炭粒烧不尽；由于快速升温引起的空气对流会造成样品微粒飞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960920" y="53352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"/>
          <p:cNvSpPr/>
          <p:nvPr/>
        </p:nvSpPr>
        <p:spPr>
          <a:xfrm>
            <a:off x="685800" y="3262680"/>
            <a:ext cx="7513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于含磷、硫、氯较多的样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籽粒、香辛类蔬菜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为防止这些元素的损失，常加入一定量的金属钙、镁盐将其固定后再炭化，一般是定量加入醋酸镁的乙醇溶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浓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g/L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将样品湿润，同时加入等量的溶液做空白试验，校正加入的金属盐量。也可定量加入饱和石灰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1884600" y="38088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8600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5800" y="2359080"/>
            <a:ext cx="799164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植物中含水量的多少是反映植物生理状态和成熟度的一个指标；含水量适宜植物才能生长健壮，光合效率高，干物质积累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新鲜植物体的含水量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70-9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间，以幼叶为最，茎杆略低，以成熟籽粒含水量最少，一般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5-1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植物除去水分后的剩余部分为干物质，干物质中有机物质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0-95%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矿物质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-10%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灰分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144800" y="380880"/>
            <a:ext cx="91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概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4"/>
          <p:cNvSpPr/>
          <p:nvPr/>
        </p:nvSpPr>
        <p:spPr>
          <a:xfrm>
            <a:off x="1143000" y="2816280"/>
            <a:ext cx="66913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将标有号码的适宜大小的瓷坩埚在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6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高温电炉中灼烧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，冷却至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2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以下后取出，放入干燥器中冷却至室温，称量；再次灼烧、冷却称量，直至恒重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记录质量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0033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2303640" y="87624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二、操作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4"/>
          <p:cNvSpPr/>
          <p:nvPr/>
        </p:nvSpPr>
        <p:spPr>
          <a:xfrm>
            <a:off x="609480" y="1523880"/>
            <a:ext cx="77774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.000-3.000g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磨细混匀的风干样品于已知恒重质量的坩埚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乙醇溶液使样品湿润，有利于样品的均匀灰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将坩埚放在调温电炉上，坩埚盖斜放，调节电炉温度，使样品缓缓加热炭化，至烟冒尽时，将坩埚移入高温电炉中，加热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25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保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h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至灰分呈灰白色，无黑色炭粒为止。待冷却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0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以下时，取出坩埚、移入干燥器中，冷却至室温称量。重复灼烧至前后两次称量相差小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.5m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为恒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633400" y="68580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二、操作步骤（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914400" y="1944360"/>
            <a:ext cx="739152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灰分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%=(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- 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)*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4000" spc="-1" strike="noStrike" baseline="30000">
                <a:solidFill>
                  <a:srgbClr val="006600"/>
                </a:solidFill>
                <a:latin typeface="宋体"/>
              </a:rPr>
              <a:t>-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*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式中：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和灰分的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2409480" y="706320"/>
            <a:ext cx="23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三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990720" y="121932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新坩埚使用前须在稀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Cl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中煮沸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小时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除去可溶性无机盐和瓷釉上附着的杂质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再用自来水、蒸馏水冲洗洁净后，烘干，再于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下灼烧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坩埚和盖上编号可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与蓝黑墨水的混合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浓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g/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编号后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高温电炉中灼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.5h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即留有不易脱落的砖红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痕迹号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此号码在盐酸中浸泡较易消色，须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071080" y="468360"/>
            <a:ext cx="18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5"/>
          <p:cNvSpPr txBox="1"/>
          <p:nvPr/>
        </p:nvSpPr>
        <p:spPr>
          <a:xfrm>
            <a:off x="1258920" y="2060640"/>
            <a:ext cx="648180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章内容结束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1143000" y="1295280"/>
            <a:ext cx="712800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水分含量也是农产品品质检测和判断其是否适于贮存的重要指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由于植物样品的含水量波动较大，且风干样品的含水量也会受环境湿度和温度的影响，为保证样品成分分析结果的稳定，成分含量一般以干基计算，需要测定水分含量进行换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4"/>
          <p:cNvSpPr/>
          <p:nvPr/>
        </p:nvSpPr>
        <p:spPr>
          <a:xfrm>
            <a:off x="1562040" y="457200"/>
            <a:ext cx="54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第一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植物中水分和干物质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981080" y="2286000"/>
            <a:ext cx="52578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测定方法的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三、减压干燥法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611280" y="2567160"/>
            <a:ext cx="806436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植物中水分的测定方法较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常用方法有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压恒温干燥法、减压干燥法、蒸馏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此外还有：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红外干燥法、冷冻干燥法、微波衰减法、中子法、和卡尔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费休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Karl  Fischer)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滴定法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这些方法都需要特殊仪器设备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1711080" y="625320"/>
            <a:ext cx="301824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、测定方法的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457200" y="2252520"/>
            <a:ext cx="8282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常压恒温干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使用最普遍，其测定方法简单、准确度较高，适用于不含易挥发成分和热分解成分的样品，是测定水分的标准方法之一；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对于幼嫩植物组织、含糖、含挥发油的样品则不适用，容易产生较大误差或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28"/>
          <p:cNvSpPr/>
          <p:nvPr/>
        </p:nvSpPr>
        <p:spPr>
          <a:xfrm>
            <a:off x="609480" y="533520"/>
            <a:ext cx="81536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ffff"/>
                </a:solidFill>
                <a:latin typeface="隶书"/>
                <a:ea typeface="隶书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用于含易热解成分的样品，如含糖较多的样品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不适于测定含有挥发油成分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蒸馏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适合于测定含水量较高的样品，如水果、蔬菜等；同时也适于测定含有挥发油和干性油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a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533520" y="1902240"/>
            <a:ext cx="815328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植物样品在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00-105℃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烘箱中烘干，通过样品的失重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水分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，计算水分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品在烘干过程中，可能有部分易焦化、分解和挥发的成分损失而产生正误差；也可能因水分未完全驱除或在冷却、称量过程中吸湿，或因部分不饱和脂肪被氧化产生增重，而产生负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ff"/>
                </a:solidFill>
                <a:latin typeface="Arial"/>
              </a:rPr>
              <a:t>本法是测定植物水分的标准方法之一，应严格控制操作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4309560" y="38088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8:04:04Z</dcterms:created>
  <dc:creator>ysx</dc:creator>
  <dc:description/>
  <dc:language>en-US</dc:language>
  <cp:lastModifiedBy>sxyang</cp:lastModifiedBy>
  <dcterms:modified xsi:type="dcterms:W3CDTF">2019-02-25T00:36:05Z</dcterms:modified>
  <cp:revision>13</cp:revision>
  <dc:subject/>
  <dc:title>幻灯片 1</dc:title>
</cp:coreProperties>
</file>