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34.wmf" ContentType="image/x-wmf"/>
  <Override PartName="/ppt/media/image51.png" ContentType="image/png"/>
  <Override PartName="/ppt/media/image14.png" ContentType="image/png"/>
  <Override PartName="/ppt/media/image12.png" ContentType="image/png"/>
  <Override PartName="/ppt/media/image49.png" ContentType="image/png"/>
  <Override PartName="/ppt/media/image40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46.png" ContentType="image/png"/>
  <Override PartName="/ppt/media/image31.wmf" ContentType="image/x-wmf"/>
  <Override PartName="/ppt/media/image11.png" ContentType="image/png"/>
  <Override PartName="/ppt/media/image35.wmf" ContentType="image/x-wmf"/>
  <Override PartName="/ppt/media/image47.wmf" ContentType="image/x-wmf"/>
  <Override PartName="/ppt/media/image48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32.wmf" ContentType="image/x-wmf"/>
  <Override PartName="/ppt/media/image6.wmf" ContentType="image/x-wmf"/>
  <Override PartName="/ppt/media/image3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577-33C4-4FE5-929B-CFBD9B88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318-2C2A-458B-9792-96A38D5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C4D-EA9A-4078-AEEA-75FB3DA6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979-AD5B-4DEB-98B5-64719AE1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376-9CEC-4D8A-8AEA-19AE807E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CC02-7E31-4477-88C2-F96F87D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6BAB-1C69-42AC-9169-4A2027D3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A22B-EE7E-47D3-82BE-10599F6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4E8-8108-4177-97EE-E2A4BB1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16B-4091-4642-B258-A7E176E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74A-7400-4106-9929-D81BF21C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BD3-9996-4BDD-BEBF-CD90CEC0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EF00-962C-49AA-9C64-FEA6958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DF8-58C0-4340-BD83-684CA62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6535-B335-46B5-B110-00E48BA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79B9-47D3-4AC5-A10B-9BD78FF3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5C18-C5FF-4781-BB15-4D1D153C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A94-EA0B-435D-B570-BCA24FC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463-9C91-4F7F-821F-9B14E4F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98B-1160-4524-95EB-3680BA69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461-503B-4982-A77C-15AD0931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2C3-2856-4723-A922-B65C53DD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A31-89D6-4228-843A-18617E0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F32-C2E8-4018-BF46-DD55AE70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组合 1027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直接连接符 1028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直接连接符 1029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直接连接符 1030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直接连接符 1031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直接连接符 1032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直接连接符 1033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直接连接符 1034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直接连接符 1035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直接连接符 1036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直接连接符 1037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直接连接符 1038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直接连接符 1039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直接连接符 1040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直接连接符 1041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直接连接符 1042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直接连接符 1043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直接连接符 1044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直接连接符 1045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直接连接符 1046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直接连接符 1047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直接连接符 1048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直接连接符 1049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组合 1050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直接连接符 1051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直接连接符 1052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直接连接符 1053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直接连接符 1054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直接连接符 1055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直接连接符 1056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直接连接符 1057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直接连接符 1058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直接连接符 1059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直接连接符 1060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直接连接符 1061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直接连接符 1062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直接连接符 1063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直接连接符 1064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直接连接符 1065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直接连接符 1066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直接连接符 1067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直接连接符 1068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直接连接符 1069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直接连接符 1070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直接连接符 1071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直接连接符 1072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直接连接符 1073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直接连接符 1074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直接连接符 1075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直接连接符 1076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1077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1078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直接连接符 1079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矩形 1080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直接连接符 1081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组合 1082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直接连接符 1083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直接连接符 1084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任意多边形 1085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79B-F439-4181-911C-36DA7CFA80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6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组合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矩形 7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组合 7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直接连接符 81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直接连接符 82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83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直接连接符 84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85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86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87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88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89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90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91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92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直接连接符 93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直接连接符 94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直接连接符 95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直接连接符 96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直接连接符 97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直接连接符 98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直接连接符 99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直接连接符 100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直接连接符 101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直接连接符 102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直接连接符 103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直接连接符 104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直接连接符 105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直接连接符 106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直接连接符 107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直接连接符 108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直接连接符 109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110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111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112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113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114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直接连接符 115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直接连接符 116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直接连接符 117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直接连接符 118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119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直接连接符 120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直接连接符 121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直接连接符 122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123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124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直接连接符 125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126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直接连接符 127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直接连接符 128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129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直接连接符 130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直接连接符 131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5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直接连接符 80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69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直接连接符 74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直接连接符 75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直接连接符 76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任意多边形 77"/>
              <p:cNvSpPr/>
              <p:nvPr/>
            </p:nvSpPr>
            <p:spPr>
              <a:xfrm flipH="1" rot="16200000">
                <a:off x="670680" y="136116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70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直接连接符 71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直接连接符 72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任意多边形 73"/>
              <p:cNvSpPr/>
              <p:nvPr/>
            </p:nvSpPr>
            <p:spPr>
              <a:xfrm rot="5400000">
                <a:off x="8085240" y="530748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</a:path>
                  <a:path stroke="0" w="43195" h="43200">
                    <a:moveTo>
                      <a:pt x="21113" y="5"/>
                    </a:moveTo>
                    <a:cubicBezTo>
                      <a:pt x="21273" y="2"/>
                      <a:pt x="21434" y="0"/>
                      <a:pt x="21595" y="0"/>
                    </a:cubicBezTo>
                    <a:cubicBezTo>
                      <a:pt x="-32012" y="0"/>
                      <a:pt x="-22341" y="9671"/>
                      <a:pt x="-22341" y="21600"/>
                    </a:cubicBezTo>
                    <a:cubicBezTo>
                      <a:pt x="-22341" y="-32007"/>
                      <a:pt x="-32012" y="-22336"/>
                      <a:pt x="21595" y="-22336"/>
                    </a:cubicBezTo>
                    <a:cubicBezTo>
                      <a:pt x="9818" y="-22336"/>
                      <a:pt x="242" y="-31762"/>
                      <a:pt x="0" y="22057"/>
                    </a:cubicBezTo>
                    <a:lnTo>
                      <a:pt x="21595" y="21600"/>
                    </a:lnTo>
                    <a:lnTo>
                      <a:pt x="21113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C9FF-833B-4E42-BCAE-C9806E7C30D9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第一节 大气污染气象学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204640"/>
            <a:ext cx="723924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圈结构及气象要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热力过程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大气的运动和风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文本框 4099"/>
          <p:cNvSpPr/>
          <p:nvPr/>
        </p:nvSpPr>
        <p:spPr>
          <a:xfrm>
            <a:off x="147636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第二章  大气污染扩散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气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单位：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b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（毫巴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大气的压强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atm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26Pa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13.26mb=760mmHg</a:t>
            </a: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静力学方程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: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5" name="图片 14339" descr=""/>
          <p:cNvPicPr/>
          <p:nvPr/>
        </p:nvPicPr>
        <p:blipFill>
          <a:blip r:embed="rId1"/>
          <a:stretch/>
        </p:blipFill>
        <p:spPr>
          <a:xfrm>
            <a:off x="3429000" y="4572000"/>
            <a:ext cx="14479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绝对湿度－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m</a:t>
            </a:r>
            <a:r>
              <a:rPr b="1" lang="en-US" sz="2100" spc="-1" strike="noStrike" baseline="30000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湿空气中含有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相对湿度－空气的绝对湿度与同温度下饱和空气的绝对湿度的百分比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含湿量－湿空气中</a:t>
            </a:r>
            <a:r>
              <a:rPr b="1" lang="en-US" sz="2100" spc="-1" strike="noStrike">
                <a:solidFill>
                  <a:srgbClr val="40458c"/>
                </a:solidFill>
                <a:latin typeface="宋体"/>
              </a:rPr>
              <a:t>1kg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干空气包含的水汽质量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水汽体积分数－水汽在湿空气中所占的体积分数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露点－同气压下空气达到饱和状态时的温度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湿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0" name="图片 16387" descr="15"/>
          <p:cNvPicPr/>
          <p:nvPr/>
        </p:nvPicPr>
        <p:blipFill>
          <a:blip r:embed="rId1"/>
          <a:stretch/>
        </p:blipFill>
        <p:spPr>
          <a:xfrm>
            <a:off x="838080" y="228600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水平方向的空气运动叫做风（垂直方向－升降气流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的来向叫风向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个方位圆周等分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风速：单位时间内空气在水平方向上运动距离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0min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平均）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(km/h)      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－风力级（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级）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3" name="图片 17411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16765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风向和风速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风玫瑰图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矩形 18435"/>
          <p:cNvSpPr/>
          <p:nvPr/>
        </p:nvSpPr>
        <p:spPr>
          <a:xfrm>
            <a:off x="194328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矩形 18436"/>
          <p:cNvSpPr/>
          <p:nvPr/>
        </p:nvSpPr>
        <p:spPr>
          <a:xfrm>
            <a:off x="193824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8" name="组合 18437"/>
          <p:cNvGrpSpPr/>
          <p:nvPr/>
        </p:nvGrpSpPr>
        <p:grpSpPr>
          <a:xfrm>
            <a:off x="3352680" y="1596960"/>
            <a:ext cx="5486400" cy="5110920"/>
            <a:chOff x="3352680" y="1596960"/>
            <a:chExt cx="5486400" cy="5110920"/>
          </a:xfrm>
        </p:grpSpPr>
        <p:pic>
          <p:nvPicPr>
            <p:cNvPr id="269" name="图片 18438" descr="--2"/>
            <p:cNvPicPr/>
            <p:nvPr/>
          </p:nvPicPr>
          <p:blipFill>
            <a:blip r:embed="rId1"/>
            <a:srcRect l="0" t="0" r="0" b="14230"/>
            <a:stretch/>
          </p:blipFill>
          <p:spPr>
            <a:xfrm>
              <a:off x="3352680" y="1596960"/>
              <a:ext cx="5300640" cy="50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文本框 18439"/>
            <p:cNvSpPr/>
            <p:nvPr/>
          </p:nvSpPr>
          <p:spPr>
            <a:xfrm>
              <a:off x="7696080" y="6400800"/>
              <a:ext cx="1143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0458c"/>
                  </a:solidFill>
                  <a:latin typeface="Tahoma"/>
                </a:rPr>
                <a:t>风速</a:t>
              </a:r>
              <a:r>
                <a:rPr b="1" lang="en-US" sz="1400" spc="-1" strike="noStrike">
                  <a:solidFill>
                    <a:srgbClr val="40458c"/>
                  </a:solidFill>
                  <a:latin typeface="Tahoma"/>
                </a:rPr>
                <a:t>,m/s</a:t>
              </a:r>
              <a:endParaRPr b="1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1" name="矩形 18440"/>
          <p:cNvSpPr/>
          <p:nvPr/>
        </p:nvSpPr>
        <p:spPr>
          <a:xfrm>
            <a:off x="228600" y="3733920"/>
            <a:ext cx="30481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某地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988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年的风玫瑰图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同心圆表示风的频率，南风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其中风速大于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.82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约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％，风速在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3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5.41m/s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的频率为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3.5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左右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．云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大气中水汽的凝结现象叫做云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量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天空被云遮蔽的成数（我国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，国外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分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高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云底距地面底高度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低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以下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中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2500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高云（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00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云状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卷云（线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积云（块）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层云（面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),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雨层云</a:t>
            </a:r>
            <a:r>
              <a:rPr b="1" lang="en-US" sz="2000" spc="-1" strike="noStrike">
                <a:solidFill>
                  <a:srgbClr val="40458c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无定形）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云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6" name="组合 20483"/>
          <p:cNvGrpSpPr/>
          <p:nvPr/>
        </p:nvGrpSpPr>
        <p:grpSpPr>
          <a:xfrm>
            <a:off x="838080" y="4038480"/>
            <a:ext cx="3809880" cy="2820960"/>
            <a:chOff x="838080" y="4038480"/>
            <a:chExt cx="3809880" cy="2820960"/>
          </a:xfrm>
        </p:grpSpPr>
        <p:pic>
          <p:nvPicPr>
            <p:cNvPr id="277" name="图片 20484" descr="crs2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380988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矩形 20485"/>
            <p:cNvSpPr/>
            <p:nvPr/>
          </p:nvSpPr>
          <p:spPr>
            <a:xfrm>
              <a:off x="1560960" y="633888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高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5000</a:t>
              </a: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以上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9" name="组合 20486"/>
          <p:cNvGrpSpPr/>
          <p:nvPr/>
        </p:nvGrpSpPr>
        <p:grpSpPr>
          <a:xfrm>
            <a:off x="5715000" y="1523880"/>
            <a:ext cx="2895480" cy="4787640"/>
            <a:chOff x="5715000" y="1523880"/>
            <a:chExt cx="2895480" cy="4787640"/>
          </a:xfrm>
        </p:grpSpPr>
        <p:pic>
          <p:nvPicPr>
            <p:cNvPr id="280" name="图片 20487" descr="altcu1"/>
            <p:cNvPicPr/>
            <p:nvPr/>
          </p:nvPicPr>
          <p:blipFill>
            <a:blip r:embed="rId2"/>
            <a:stretch/>
          </p:blipFill>
          <p:spPr>
            <a:xfrm>
              <a:off x="5715000" y="1523880"/>
              <a:ext cx="27687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20488"/>
            <p:cNvSpPr/>
            <p:nvPr/>
          </p:nvSpPr>
          <p:spPr>
            <a:xfrm>
              <a:off x="5791320" y="579096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中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-5000m</a:t>
              </a: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2" name="组合 20489"/>
          <p:cNvGrpSpPr/>
          <p:nvPr/>
        </p:nvGrpSpPr>
        <p:grpSpPr>
          <a:xfrm>
            <a:off x="838080" y="1295280"/>
            <a:ext cx="4524480" cy="2908800"/>
            <a:chOff x="838080" y="1295280"/>
            <a:chExt cx="4524480" cy="2908800"/>
          </a:xfrm>
        </p:grpSpPr>
        <p:pic>
          <p:nvPicPr>
            <p:cNvPr id="283" name="图片 20490" descr="nbstr"/>
            <p:cNvPicPr/>
            <p:nvPr/>
          </p:nvPicPr>
          <p:blipFill>
            <a:blip r:embed="rId3"/>
            <a:stretch/>
          </p:blipFill>
          <p:spPr>
            <a:xfrm>
              <a:off x="838080" y="1295280"/>
              <a:ext cx="380988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矩形 20491"/>
            <p:cNvSpPr/>
            <p:nvPr/>
          </p:nvSpPr>
          <p:spPr>
            <a:xfrm>
              <a:off x="4755600" y="1490040"/>
              <a:ext cx="606960" cy="27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低云（</a:t>
              </a: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2500</a:t>
              </a:r>
              <a:r>
                <a:rPr b="1" lang="zh-CN" sz="2000" spc="-1" strike="noStrike">
                  <a:solidFill>
                    <a:srgbClr val="40458c"/>
                  </a:solidFill>
                  <a:latin typeface="Tahoma"/>
                </a:rPr>
                <a:t>米以下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6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能见度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正常视力的人，在天空背景下能看清的水平距离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别（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0~9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级，相应距离为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50000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米）</a:t>
            </a: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7" name="图片 21507" descr="14"/>
          <p:cNvPicPr/>
          <p:nvPr/>
        </p:nvPicPr>
        <p:blipFill>
          <a:blip r:embed="rId1"/>
          <a:stretch/>
        </p:blipFill>
        <p:spPr>
          <a:xfrm>
            <a:off x="1600200" y="2971800"/>
            <a:ext cx="6248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二、 大气的运动和风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引起大气运动的作用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                         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    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组合 22531"/>
          <p:cNvGrpSpPr/>
          <p:nvPr/>
        </p:nvGrpSpPr>
        <p:grpSpPr>
          <a:xfrm>
            <a:off x="1447920" y="2514600"/>
            <a:ext cx="5617800" cy="1204560"/>
            <a:chOff x="1447920" y="2514600"/>
            <a:chExt cx="5617800" cy="1204560"/>
          </a:xfrm>
        </p:grpSpPr>
        <p:sp>
          <p:nvSpPr>
            <p:cNvPr id="291" name="左大括号 22532"/>
            <p:cNvSpPr/>
            <p:nvPr/>
          </p:nvSpPr>
          <p:spPr>
            <a:xfrm>
              <a:off x="3048120" y="274320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矩形 22533"/>
            <p:cNvSpPr/>
            <p:nvPr/>
          </p:nvSpPr>
          <p:spPr>
            <a:xfrm>
              <a:off x="1447920" y="2895480"/>
              <a:ext cx="16002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直接作用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 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矩形 22534"/>
            <p:cNvSpPr/>
            <p:nvPr/>
          </p:nvSpPr>
          <p:spPr>
            <a:xfrm>
              <a:off x="3300120" y="2514600"/>
              <a:ext cx="470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重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矩形 22535"/>
            <p:cNvSpPr/>
            <p:nvPr/>
          </p:nvSpPr>
          <p:spPr>
            <a:xfrm>
              <a:off x="4134240" y="3276720"/>
              <a:ext cx="2931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水平气压梯度力（垂直上与重力基本平衡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矩形 22536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6" name="组合 22537"/>
          <p:cNvGrpSpPr/>
          <p:nvPr/>
        </p:nvGrpSpPr>
        <p:grpSpPr>
          <a:xfrm>
            <a:off x="1447920" y="4114800"/>
            <a:ext cx="7238880" cy="1221480"/>
            <a:chOff x="1447920" y="4114800"/>
            <a:chExt cx="7238880" cy="1221480"/>
          </a:xfrm>
        </p:grpSpPr>
        <p:sp>
          <p:nvSpPr>
            <p:cNvPr id="297" name="左大括号 22538"/>
            <p:cNvSpPr/>
            <p:nvPr/>
          </p:nvSpPr>
          <p:spPr>
            <a:xfrm>
              <a:off x="2971800" y="434340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矩形 22539"/>
            <p:cNvSpPr/>
            <p:nvPr/>
          </p:nvSpPr>
          <p:spPr>
            <a:xfrm>
              <a:off x="1447920" y="4572000"/>
              <a:ext cx="1905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间接作用力   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9" name="矩形 22540"/>
            <p:cNvSpPr/>
            <p:nvPr/>
          </p:nvSpPr>
          <p:spPr>
            <a:xfrm>
              <a:off x="3200400" y="4114800"/>
              <a:ext cx="4724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地转偏向力（相对运动：方向改变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0" name="矩形 22541"/>
            <p:cNvSpPr/>
            <p:nvPr/>
          </p:nvSpPr>
          <p:spPr>
            <a:xfrm>
              <a:off x="3200400" y="4572000"/>
              <a:ext cx="548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惯性离心力（大气曲线运动：很小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矩形 22542"/>
            <p:cNvSpPr/>
            <p:nvPr/>
          </p:nvSpPr>
          <p:spPr>
            <a:xfrm>
              <a:off x="3200400" y="4952880"/>
              <a:ext cx="4953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摩擦力（近地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1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～</a:t>
              </a:r>
              <a:r>
                <a:rPr b="1" lang="en-US" sz="1900" spc="-1" strike="noStrike">
                  <a:solidFill>
                    <a:srgbClr val="40458c"/>
                  </a:solidFill>
                  <a:latin typeface="宋体"/>
                </a:rPr>
                <a:t>2km</a:t>
              </a:r>
              <a:r>
                <a:rPr b="1" lang="zh-CN" sz="1900" spc="-1" strike="noStrike">
                  <a:solidFill>
                    <a:srgbClr val="40458c"/>
                  </a:solidFill>
                  <a:latin typeface="宋体"/>
                </a:rPr>
                <a:t>内明显） </a:t>
              </a:r>
              <a:r>
                <a:rPr b="1" lang="zh-CN" sz="19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边界层中风随高度变化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414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kman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螺旋线（北半球下视，地偏力指向运动右方，故顺时针；南半球则相反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高度增高，风速增大，方向逐渐接近地转风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4" name="图片 23555" descr="9"/>
          <p:cNvPicPr/>
          <p:nvPr/>
        </p:nvPicPr>
        <p:blipFill>
          <a:blip r:embed="rId2"/>
          <a:srcRect l="0" t="1162" r="0" b="10464"/>
          <a:stretch/>
        </p:blipFill>
        <p:spPr>
          <a:xfrm>
            <a:off x="4191120" y="1295280"/>
            <a:ext cx="454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扩散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12" name="矩形 5122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3" name="组合 5123"/>
          <p:cNvGrpSpPr/>
          <p:nvPr/>
        </p:nvGrpSpPr>
        <p:grpSpPr>
          <a:xfrm>
            <a:off x="1447920" y="1828800"/>
            <a:ext cx="5787720" cy="1450080"/>
            <a:chOff x="1447920" y="1828800"/>
            <a:chExt cx="5787720" cy="1450080"/>
          </a:xfrm>
        </p:grpSpPr>
        <p:sp>
          <p:nvSpPr>
            <p:cNvPr id="214" name="文本框 5124"/>
            <p:cNvSpPr/>
            <p:nvPr/>
          </p:nvSpPr>
          <p:spPr>
            <a:xfrm>
              <a:off x="1447920" y="2438280"/>
              <a:ext cx="5958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源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文本框 5125"/>
            <p:cNvSpPr/>
            <p:nvPr/>
          </p:nvSpPr>
          <p:spPr>
            <a:xfrm>
              <a:off x="3405240" y="2438280"/>
              <a:ext cx="93636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受体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直接连接符 5126"/>
            <p:cNvSpPr/>
            <p:nvPr/>
          </p:nvSpPr>
          <p:spPr>
            <a:xfrm>
              <a:off x="2128680" y="2666880"/>
              <a:ext cx="11916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直接连接符 5127"/>
            <p:cNvSpPr/>
            <p:nvPr/>
          </p:nvSpPr>
          <p:spPr>
            <a:xfrm>
              <a:off x="2639160" y="2209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矩形 5128"/>
            <p:cNvSpPr/>
            <p:nvPr/>
          </p:nvSpPr>
          <p:spPr>
            <a:xfrm>
              <a:off x="2043720" y="1828800"/>
              <a:ext cx="1616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大气扩散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矩形 5129"/>
            <p:cNvSpPr/>
            <p:nvPr/>
          </p:nvSpPr>
          <p:spPr>
            <a:xfrm>
              <a:off x="2469240" y="2895480"/>
              <a:ext cx="4766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酸雨越境转移（日本、韩国、欧洲各国）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矩形 5130"/>
          <p:cNvSpPr/>
          <p:nvPr/>
        </p:nvSpPr>
        <p:spPr>
          <a:xfrm>
            <a:off x="0" y="36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矩形 5131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2" name="组合 5132"/>
          <p:cNvGrpSpPr/>
          <p:nvPr/>
        </p:nvGrpSpPr>
        <p:grpSpPr>
          <a:xfrm>
            <a:off x="609480" y="3962520"/>
            <a:ext cx="9144000" cy="1709280"/>
            <a:chOff x="609480" y="3962520"/>
            <a:chExt cx="9144000" cy="1709280"/>
          </a:xfrm>
        </p:grpSpPr>
        <p:sp>
          <p:nvSpPr>
            <p:cNvPr id="223" name="左大括号 5133"/>
            <p:cNvSpPr/>
            <p:nvPr/>
          </p:nvSpPr>
          <p:spPr>
            <a:xfrm>
              <a:off x="2209680" y="4267440"/>
              <a:ext cx="74520" cy="91440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左大括号 5134"/>
            <p:cNvSpPr/>
            <p:nvPr/>
          </p:nvSpPr>
          <p:spPr>
            <a:xfrm>
              <a:off x="4495680" y="4648320"/>
              <a:ext cx="152280" cy="936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矩形 5135"/>
            <p:cNvSpPr/>
            <p:nvPr/>
          </p:nvSpPr>
          <p:spPr>
            <a:xfrm>
              <a:off x="609480" y="4496040"/>
              <a:ext cx="9144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科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矩形 5136"/>
            <p:cNvSpPr/>
            <p:nvPr/>
          </p:nvSpPr>
          <p:spPr>
            <a:xfrm>
              <a:off x="2286000" y="3962520"/>
              <a:ext cx="3352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物理、化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矩形 5137"/>
            <p:cNvSpPr/>
            <p:nvPr/>
          </p:nvSpPr>
          <p:spPr>
            <a:xfrm>
              <a:off x="2361960" y="4496040"/>
              <a:ext cx="2286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大气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矩形 5138"/>
            <p:cNvSpPr/>
            <p:nvPr/>
          </p:nvSpPr>
          <p:spPr>
            <a:xfrm>
              <a:off x="2361960" y="4953240"/>
              <a:ext cx="2438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气象学</a:t>
              </a:r>
              <a:r>
                <a:rPr b="1" lang="en-US" sz="2100" spc="-1" strike="noStrike">
                  <a:solidFill>
                    <a:srgbClr val="40458c"/>
                  </a:solidFill>
                  <a:latin typeface="Times New Roman"/>
                </a:rPr>
                <a:t>……       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矩形 5139"/>
            <p:cNvSpPr/>
            <p:nvPr/>
          </p:nvSpPr>
          <p:spPr>
            <a:xfrm>
              <a:off x="4724280" y="4496040"/>
              <a:ext cx="43434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气象条件对污物的稀释、扩散作用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矩形 5140"/>
            <p:cNvSpPr/>
            <p:nvPr/>
          </p:nvSpPr>
          <p:spPr>
            <a:xfrm>
              <a:off x="4724280" y="5257800"/>
              <a:ext cx="3232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污染物对气象的影响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中性层结：对数律，粗糙度和摩擦速度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07" name="图片 24579" descr="8"/>
          <p:cNvPicPr/>
          <p:nvPr/>
        </p:nvPicPr>
        <p:blipFill>
          <a:blip r:embed="rId2"/>
          <a:stretch/>
        </p:blipFill>
        <p:spPr>
          <a:xfrm>
            <a:off x="838080" y="3962520"/>
            <a:ext cx="7581960" cy="2192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4580" descr=""/>
          <p:cNvPicPr/>
          <p:nvPr/>
        </p:nvPicPr>
        <p:blipFill>
          <a:blip r:embed="rId3"/>
          <a:stretch/>
        </p:blipFill>
        <p:spPr>
          <a:xfrm>
            <a:off x="3657600" y="2971800"/>
            <a:ext cx="1371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近地层风速廓线模式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平均风速随高度变化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SzPct val="149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非中性层结：</a:t>
            </a: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指数律，稳定度参数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矩形 25603"/>
          <p:cNvSpPr/>
          <p:nvPr/>
        </p:nvSpPr>
        <p:spPr>
          <a:xfrm>
            <a:off x="19382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2" name="图片 25604" descr="3"/>
          <p:cNvPicPr/>
          <p:nvPr/>
        </p:nvPicPr>
        <p:blipFill>
          <a:blip r:embed="rId2"/>
          <a:srcRect l="0" t="0" r="0" b="3642"/>
          <a:stretch/>
        </p:blipFill>
        <p:spPr>
          <a:xfrm>
            <a:off x="1295280" y="2619360"/>
            <a:ext cx="6705720" cy="42386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5605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1295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海陆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6" name="图片 26627" descr="7"/>
          <p:cNvPicPr/>
          <p:nvPr/>
        </p:nvPicPr>
        <p:blipFill>
          <a:blip r:embed="rId1"/>
          <a:srcRect l="0" t="0" r="0" b="18782"/>
          <a:stretch/>
        </p:blipFill>
        <p:spPr>
          <a:xfrm>
            <a:off x="1371600" y="2760840"/>
            <a:ext cx="70866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2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山谷风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19" name="图片 27651" descr="6"/>
          <p:cNvPicPr/>
          <p:nvPr/>
        </p:nvPicPr>
        <p:blipFill>
          <a:blip r:embed="rId1"/>
          <a:srcRect l="0" t="0" r="0" b="14604"/>
          <a:stretch/>
        </p:blipFill>
        <p:spPr>
          <a:xfrm>
            <a:off x="1523880" y="26668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地方性风场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．城市热岛环流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2" name="图片 28675" descr="2"/>
          <p:cNvPicPr/>
          <p:nvPr/>
        </p:nvPicPr>
        <p:blipFill>
          <a:blip r:embed="rId1"/>
          <a:srcRect l="5263" t="0" r="6016" b="22859"/>
          <a:stretch/>
        </p:blipFill>
        <p:spPr>
          <a:xfrm>
            <a:off x="1143000" y="2514600"/>
            <a:ext cx="7467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三、 大气的热力过程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太阳、大气和地面的热交换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以紫外线、可见光、红外线的形式辐射热量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太阳辐射加热地球表面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地面长波辐射加热大气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近地层大气温度随地表温度变化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的垂直变化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气温直减率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（大气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干空气绝热垂直温度递减率－</a:t>
            </a:r>
            <a:r>
              <a:rPr b="1" lang="zh-CN" sz="2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干绝热直减率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                                          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空气团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一般满足，大气绝热过程，系统与周围环境无热交换 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矩形 30723"/>
          <p:cNvSpPr/>
          <p:nvPr/>
        </p:nvSpPr>
        <p:spPr>
          <a:xfrm>
            <a:off x="4224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8" name="组合 30724"/>
          <p:cNvGrpSpPr/>
          <p:nvPr/>
        </p:nvGrpSpPr>
        <p:grpSpPr>
          <a:xfrm>
            <a:off x="1384920" y="4648320"/>
            <a:ext cx="6028560" cy="1495800"/>
            <a:chOff x="1384920" y="4648320"/>
            <a:chExt cx="6028560" cy="1495800"/>
          </a:xfrm>
        </p:grpSpPr>
        <p:grpSp>
          <p:nvGrpSpPr>
            <p:cNvPr id="329" name="组合 30725"/>
            <p:cNvGrpSpPr/>
            <p:nvPr/>
          </p:nvGrpSpPr>
          <p:grpSpPr>
            <a:xfrm>
              <a:off x="1981080" y="5028840"/>
              <a:ext cx="5410080" cy="1066680"/>
              <a:chOff x="1981080" y="5028840"/>
              <a:chExt cx="5410080" cy="1066680"/>
            </a:xfrm>
          </p:grpSpPr>
          <p:sp>
            <p:nvSpPr>
              <p:cNvPr id="330" name="左大括号 30726"/>
              <p:cNvSpPr/>
              <p:nvPr/>
            </p:nvSpPr>
            <p:spPr>
              <a:xfrm>
                <a:off x="1981080" y="5110920"/>
                <a:ext cx="186480" cy="984600"/>
              </a:xfrm>
              <a:custGeom>
                <a:avLst/>
                <a:gdLst>
                  <a:gd name="textAreaLeft" fmla="*/ 119160 w 186480"/>
                  <a:gd name="textAreaRight" fmla="*/ 186840 w 186480"/>
                  <a:gd name="textAreaTop" fmla="*/ 25560 h 984600"/>
                  <a:gd name="textAreaBottom" fmla="*/ 959040 h 98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1" name="直接连接符 30727"/>
              <p:cNvSpPr/>
              <p:nvPr/>
            </p:nvSpPr>
            <p:spPr>
              <a:xfrm>
                <a:off x="310032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2" name="直接连接符 30728"/>
              <p:cNvSpPr/>
              <p:nvPr/>
            </p:nvSpPr>
            <p:spPr>
              <a:xfrm>
                <a:off x="4779360" y="527508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3" name="直接连接符 30729"/>
              <p:cNvSpPr/>
              <p:nvPr/>
            </p:nvSpPr>
            <p:spPr>
              <a:xfrm>
                <a:off x="6085440" y="527508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4" name="直接连接符 30730"/>
              <p:cNvSpPr/>
              <p:nvPr/>
            </p:nvSpPr>
            <p:spPr>
              <a:xfrm flipV="1">
                <a:off x="664488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5" name="直接连接符 30731"/>
              <p:cNvSpPr/>
              <p:nvPr/>
            </p:nvSpPr>
            <p:spPr>
              <a:xfrm flipV="1">
                <a:off x="7391160" y="560304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6" name="直接连接符 30732"/>
              <p:cNvSpPr/>
              <p:nvPr/>
            </p:nvSpPr>
            <p:spPr>
              <a:xfrm>
                <a:off x="6831360" y="5028840"/>
                <a:ext cx="0" cy="49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7" name="直接连接符 30733"/>
              <p:cNvSpPr/>
              <p:nvPr/>
            </p:nvSpPr>
            <p:spPr>
              <a:xfrm>
                <a:off x="2913840" y="5603400"/>
                <a:ext cx="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8" name="直接连接符 30734"/>
              <p:cNvSpPr/>
              <p:nvPr/>
            </p:nvSpPr>
            <p:spPr>
              <a:xfrm>
                <a:off x="31003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9" name="直接连接符 30735"/>
              <p:cNvSpPr/>
              <p:nvPr/>
            </p:nvSpPr>
            <p:spPr>
              <a:xfrm>
                <a:off x="571212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40" name="直接连接符 30736"/>
              <p:cNvSpPr/>
              <p:nvPr/>
            </p:nvSpPr>
            <p:spPr>
              <a:xfrm>
                <a:off x="6644880" y="5931720"/>
                <a:ext cx="55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41" name="矩形 30737"/>
            <p:cNvSpPr/>
            <p:nvPr/>
          </p:nvSpPr>
          <p:spPr>
            <a:xfrm>
              <a:off x="2343240" y="51051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2" name="矩形 30738"/>
            <p:cNvSpPr/>
            <p:nvPr/>
          </p:nvSpPr>
          <p:spPr>
            <a:xfrm>
              <a:off x="3846600" y="5105160"/>
              <a:ext cx="95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膨胀（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矩形 30739"/>
            <p:cNvSpPr/>
            <p:nvPr/>
          </p:nvSpPr>
          <p:spPr>
            <a:xfrm>
              <a:off x="5390280" y="5105160"/>
              <a:ext cx="625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耗内 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4" name="矩形 30740"/>
            <p:cNvSpPr/>
            <p:nvPr/>
          </p:nvSpPr>
          <p:spPr>
            <a:xfrm>
              <a:off x="6477840" y="5105160"/>
              <a:ext cx="380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5" name="矩形 30741"/>
            <p:cNvSpPr/>
            <p:nvPr/>
          </p:nvSpPr>
          <p:spPr>
            <a:xfrm>
              <a:off x="1384920" y="541008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定性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矩形 30742"/>
            <p:cNvSpPr/>
            <p:nvPr/>
          </p:nvSpPr>
          <p:spPr>
            <a:xfrm>
              <a:off x="2266920" y="5790960"/>
              <a:ext cx="569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空气块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7" name="矩形 30743"/>
            <p:cNvSpPr/>
            <p:nvPr/>
          </p:nvSpPr>
          <p:spPr>
            <a:xfrm>
              <a:off x="4022640" y="5790960"/>
              <a:ext cx="1476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压缩（外气对它做功）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8" name="矩形 30744"/>
            <p:cNvSpPr/>
            <p:nvPr/>
          </p:nvSpPr>
          <p:spPr>
            <a:xfrm>
              <a:off x="7088040" y="5790960"/>
              <a:ext cx="325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矩形 30745"/>
            <p:cNvSpPr/>
            <p:nvPr/>
          </p:nvSpPr>
          <p:spPr>
            <a:xfrm>
              <a:off x="6185520" y="5790960"/>
              <a:ext cx="4399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40458c"/>
                  </a:solidFill>
                  <a:latin typeface="Times New Roman"/>
                </a:rPr>
                <a:t>内能</a:t>
              </a:r>
              <a:endParaRPr b="1" lang="en-US" sz="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直接连接符 30746"/>
            <p:cNvSpPr/>
            <p:nvPr/>
          </p:nvSpPr>
          <p:spPr>
            <a:xfrm flipV="1">
              <a:off x="3047760" y="5028480"/>
              <a:ext cx="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1" name="矩形 30747"/>
            <p:cNvSpPr/>
            <p:nvPr/>
          </p:nvSpPr>
          <p:spPr>
            <a:xfrm>
              <a:off x="2218320" y="46483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58c"/>
                  </a:solidFill>
                  <a:latin typeface="Times New Roman"/>
                </a:rPr>
                <a:t>（由压力变化引起）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52" name="图片 30748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1365120" cy="10414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30749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1728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定量：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热力学第一定律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            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        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第一定律＋状态方程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其中</a:t>
            </a: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56" name="图片 31747" descr=""/>
          <p:cNvPicPr/>
          <p:nvPr/>
        </p:nvPicPr>
        <p:blipFill>
          <a:blip r:embed="rId1"/>
          <a:stretch/>
        </p:blipFill>
        <p:spPr>
          <a:xfrm>
            <a:off x="3657600" y="2057400"/>
            <a:ext cx="1376280" cy="70344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31748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565360" cy="723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31749" descr=""/>
          <p:cNvPicPr/>
          <p:nvPr/>
        </p:nvPicPr>
        <p:blipFill>
          <a:blip r:embed="rId3"/>
          <a:stretch/>
        </p:blipFill>
        <p:spPr>
          <a:xfrm>
            <a:off x="2438280" y="4267080"/>
            <a:ext cx="1627200" cy="506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31750" descr=""/>
          <p:cNvPicPr/>
          <p:nvPr/>
        </p:nvPicPr>
        <p:blipFill>
          <a:blip r:embed="rId4"/>
          <a:stretch/>
        </p:blipFill>
        <p:spPr>
          <a:xfrm>
            <a:off x="2438280" y="4952880"/>
            <a:ext cx="185580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1" name="矩形 32770"/>
          <p:cNvSpPr/>
          <p:nvPr/>
        </p:nvSpPr>
        <p:spPr>
          <a:xfrm>
            <a:off x="4495680" y="1981080"/>
            <a:ext cx="464832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2" name="图片 32771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04120" cy="24508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32772" descr=""/>
          <p:cNvPicPr/>
          <p:nvPr/>
        </p:nvPicPr>
        <p:blipFill>
          <a:blip r:embed="rId2"/>
          <a:stretch/>
        </p:blipFill>
        <p:spPr>
          <a:xfrm>
            <a:off x="1371600" y="4191120"/>
            <a:ext cx="58802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气温直减率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代入上式得：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矩形 33795"/>
          <p:cNvSpPr/>
          <p:nvPr/>
        </p:nvSpPr>
        <p:spPr>
          <a:xfrm>
            <a:off x="990720" y="1752480"/>
            <a:ext cx="455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实际中，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1" lang="en-US" sz="2200" spc="-1" strike="noStrike" baseline="-25000">
                <a:solidFill>
                  <a:srgbClr val="40458c"/>
                </a:solidFill>
                <a:latin typeface="Tahoma"/>
              </a:rPr>
              <a:t>i</a:t>
            </a:r>
            <a:r>
              <a:rPr b="1" lang="zh-CN" sz="2200" spc="-1" strike="noStrike">
                <a:solidFill>
                  <a:srgbClr val="40458c"/>
                </a:solidFill>
                <a:latin typeface="Tahoma"/>
              </a:rPr>
              <a:t>、</a:t>
            </a:r>
            <a:r>
              <a:rPr b="1" i="1" lang="en-US" sz="2200" spc="-1" strike="noStrike">
                <a:solidFill>
                  <a:srgbClr val="40458c"/>
                </a:solidFill>
                <a:latin typeface="Tahoma"/>
              </a:rPr>
              <a:t>T 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相差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&lt;10K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，则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7" name="图片 33796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739800" cy="83844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33797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6540480" cy="76680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33798" descr=""/>
          <p:cNvPicPr/>
          <p:nvPr/>
        </p:nvPicPr>
        <p:blipFill>
          <a:blip r:embed="rId3"/>
          <a:stretch/>
        </p:blipFill>
        <p:spPr>
          <a:xfrm>
            <a:off x="2819520" y="2971800"/>
            <a:ext cx="1828800" cy="71136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33799" descr=""/>
          <p:cNvPicPr/>
          <p:nvPr/>
        </p:nvPicPr>
        <p:blipFill>
          <a:blip r:embed="rId4"/>
          <a:stretch/>
        </p:blipFill>
        <p:spPr>
          <a:xfrm>
            <a:off x="990720" y="3733920"/>
            <a:ext cx="7507080" cy="74448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800" descr=""/>
          <p:cNvPicPr/>
          <p:nvPr/>
        </p:nvPicPr>
        <p:blipFill>
          <a:blip r:embed="rId5"/>
          <a:stretch/>
        </p:blipFill>
        <p:spPr>
          <a:xfrm>
            <a:off x="2133720" y="4495680"/>
            <a:ext cx="4356000" cy="7797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3801" descr=""/>
          <p:cNvPicPr/>
          <p:nvPr/>
        </p:nvPicPr>
        <p:blipFill>
          <a:blip r:embed="rId6"/>
          <a:stretch/>
        </p:blipFill>
        <p:spPr>
          <a:xfrm>
            <a:off x="903240" y="5334120"/>
            <a:ext cx="82407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一、 大气圈结构及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圈垂直结构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大气层分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流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间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暖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逸散层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矩形 6147"/>
          <p:cNvSpPr/>
          <p:nvPr/>
        </p:nvSpPr>
        <p:spPr>
          <a:xfrm>
            <a:off x="1938240" y="-18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4" name="图片 6148" descr="K81A0189"/>
          <p:cNvPicPr/>
          <p:nvPr/>
        </p:nvPicPr>
        <p:blipFill>
          <a:blip r:embed="rId2"/>
          <a:stretch/>
        </p:blipFill>
        <p:spPr>
          <a:xfrm>
            <a:off x="4038480" y="121932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气温的垂直分布（温度层结）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气温的垂直分布－</a:t>
            </a:r>
            <a:r>
              <a:rPr b="1" lang="zh-CN" sz="2600" spc="-1" strike="noStrike">
                <a:solidFill>
                  <a:srgbClr val="40458c"/>
                </a:solidFill>
                <a:latin typeface="宋体"/>
              </a:rPr>
              <a:t>温度层结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75" name="图片 348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6870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定义：大气在垂直方向上稳定的程度；反映其是否容易对流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性描述：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endParaRPr b="1" lang="en-US" sz="1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78" name="组合 35843"/>
          <p:cNvGrpSpPr/>
          <p:nvPr/>
        </p:nvGrpSpPr>
        <p:grpSpPr>
          <a:xfrm>
            <a:off x="990720" y="3048120"/>
            <a:ext cx="6131160" cy="1297800"/>
            <a:chOff x="990720" y="3048120"/>
            <a:chExt cx="6131160" cy="1297800"/>
          </a:xfrm>
        </p:grpSpPr>
        <p:sp>
          <p:nvSpPr>
            <p:cNvPr id="379" name="左大括号 35844"/>
            <p:cNvSpPr/>
            <p:nvPr/>
          </p:nvSpPr>
          <p:spPr>
            <a:xfrm>
              <a:off x="4267440" y="3276720"/>
              <a:ext cx="75960" cy="8002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0880 h 800280"/>
                <a:gd name="textAreaBottom" fmla="*/ 779400 h 8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矩形 35845"/>
            <p:cNvSpPr/>
            <p:nvPr/>
          </p:nvSpPr>
          <p:spPr>
            <a:xfrm>
              <a:off x="990720" y="3353040"/>
              <a:ext cx="2612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外力使气块上升或下降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矩形 35846"/>
            <p:cNvSpPr/>
            <p:nvPr/>
          </p:nvSpPr>
          <p:spPr>
            <a:xfrm>
              <a:off x="2963160" y="3733920"/>
              <a:ext cx="1049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去掉外力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矩形 35847"/>
            <p:cNvSpPr/>
            <p:nvPr/>
          </p:nvSpPr>
          <p:spPr>
            <a:xfrm>
              <a:off x="5059080" y="30481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减速，有返回趋势，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矩形 35848"/>
            <p:cNvSpPr/>
            <p:nvPr/>
          </p:nvSpPr>
          <p:spPr>
            <a:xfrm>
              <a:off x="5059080" y="3505320"/>
              <a:ext cx="206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加速上升或下降，不稳定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矩形 35849"/>
            <p:cNvSpPr/>
            <p:nvPr/>
          </p:nvSpPr>
          <p:spPr>
            <a:xfrm>
              <a:off x="5010120" y="3962520"/>
              <a:ext cx="1918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40458c"/>
                  </a:solidFill>
                  <a:latin typeface="Times New Roman"/>
                </a:rPr>
                <a:t>气块停在外力去掉处，中性</a:t>
              </a:r>
              <a:endParaRPr b="1" lang="en-US" sz="1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5" name="矩形 35850"/>
          <p:cNvSpPr/>
          <p:nvPr/>
        </p:nvSpPr>
        <p:spPr>
          <a:xfrm>
            <a:off x="990720" y="510552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</a:rPr>
              <a:t>不稳定条件下有利于扩散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定量判断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88" name="图片 36867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173320" cy="8762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36868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8075880" cy="127188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36869" descr=""/>
          <p:cNvPicPr/>
          <p:nvPr/>
        </p:nvPicPr>
        <p:blipFill>
          <a:blip r:embed="rId3"/>
          <a:stretch/>
        </p:blipFill>
        <p:spPr>
          <a:xfrm>
            <a:off x="1752480" y="4724280"/>
            <a:ext cx="4873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       </a:t>
            </a: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则有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Times New Roman"/>
              </a:rPr>
              <a:t>判据：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0458c"/>
                </a:solidFill>
                <a:latin typeface="Arial"/>
              </a:rPr>
              <a:t>            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大气稳定度及其判据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393" name="图片 37891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914400" cy="44460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37892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1919160" cy="6397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37893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78536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8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逆温不利于扩散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：   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矩形 38915"/>
          <p:cNvSpPr/>
          <p:nvPr/>
        </p:nvSpPr>
        <p:spPr>
          <a:xfrm>
            <a:off x="762120" y="4952880"/>
            <a:ext cx="815328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辐射逆温：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白天加热，大气自下而上变暖；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地面夜间变冷，大气自下而上冷却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宋体"/>
              </a:rPr>
              <a:t>          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9" name="组合 38916"/>
          <p:cNvGrpSpPr/>
          <p:nvPr/>
        </p:nvGrpSpPr>
        <p:grpSpPr>
          <a:xfrm>
            <a:off x="1981080" y="3048120"/>
            <a:ext cx="6324480" cy="1015920"/>
            <a:chOff x="1981080" y="3048120"/>
            <a:chExt cx="6324480" cy="1015920"/>
          </a:xfrm>
        </p:grpSpPr>
        <p:sp>
          <p:nvSpPr>
            <p:cNvPr id="400" name="直接连接符 38917"/>
            <p:cNvSpPr/>
            <p:nvPr/>
          </p:nvSpPr>
          <p:spPr>
            <a:xfrm>
              <a:off x="2743200" y="327672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1" name="直接连接符 38918"/>
            <p:cNvSpPr/>
            <p:nvPr/>
          </p:nvSpPr>
          <p:spPr>
            <a:xfrm>
              <a:off x="2666880" y="3886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右大括号 38919"/>
            <p:cNvSpPr/>
            <p:nvPr/>
          </p:nvSpPr>
          <p:spPr>
            <a:xfrm>
              <a:off x="5257800" y="3276720"/>
              <a:ext cx="75960" cy="7761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0160 h 776160"/>
                <a:gd name="textAreaBottom" fmla="*/ 756000 h 7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矩形 38920"/>
            <p:cNvSpPr/>
            <p:nvPr/>
          </p:nvSpPr>
          <p:spPr>
            <a:xfrm>
              <a:off x="1981080" y="3048120"/>
              <a:ext cx="6324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太阳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：短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地球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层：长波</a:t>
              </a:r>
              <a:r>
                <a:rPr b="1" lang="zh-CN" sz="2400" spc="-1" strike="noStrike">
                  <a:solidFill>
                    <a:srgbClr val="40458c"/>
                  </a:solidFill>
                  <a:latin typeface="宋体"/>
                </a:rPr>
                <a:t>    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矩形 38921"/>
            <p:cNvSpPr/>
            <p:nvPr/>
          </p:nvSpPr>
          <p:spPr>
            <a:xfrm>
              <a:off x="5843880" y="3353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</a:rPr>
                <a:t>大气吸收长波强</a:t>
              </a:r>
              <a:endParaRPr b="1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Arial"/>
              </a:rPr>
              <a:t>辐射逆温的生消过程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7" name="图片 39939" descr="13"/>
          <p:cNvPicPr/>
          <p:nvPr/>
        </p:nvPicPr>
        <p:blipFill>
          <a:blip r:embed="rId2"/>
          <a:srcRect l="0" t="0" r="0" b="9242"/>
          <a:stretch/>
        </p:blipFill>
        <p:spPr>
          <a:xfrm>
            <a:off x="1371600" y="2743200"/>
            <a:ext cx="693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下沉逆温 （多在高空大气中，高压控制区内）</a:t>
            </a: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0" name="图片 40963" descr="12"/>
          <p:cNvPicPr/>
          <p:nvPr/>
        </p:nvPicPr>
        <p:blipFill>
          <a:blip r:embed="rId1"/>
          <a:srcRect l="0" t="0" r="0" b="20553"/>
          <a:stretch/>
        </p:blipFill>
        <p:spPr>
          <a:xfrm>
            <a:off x="2057400" y="3301920"/>
            <a:ext cx="5257800" cy="3327480"/>
          </a:xfrm>
          <a:prstGeom prst="rect">
            <a:avLst/>
          </a:prstGeom>
          <a:ln w="0">
            <a:noFill/>
          </a:ln>
        </p:spPr>
      </p:pic>
      <p:grpSp>
        <p:nvGrpSpPr>
          <p:cNvPr id="411" name="组合 40964"/>
          <p:cNvGrpSpPr/>
          <p:nvPr/>
        </p:nvGrpSpPr>
        <p:grpSpPr>
          <a:xfrm>
            <a:off x="2342880" y="2514600"/>
            <a:ext cx="3992760" cy="414000"/>
            <a:chOff x="2342880" y="2514600"/>
            <a:chExt cx="3992760" cy="414000"/>
          </a:xfrm>
        </p:grpSpPr>
        <p:sp>
          <p:nvSpPr>
            <p:cNvPr id="412" name="直接连接符 40965"/>
            <p:cNvSpPr/>
            <p:nvPr/>
          </p:nvSpPr>
          <p:spPr>
            <a:xfrm>
              <a:off x="3047760" y="2743200"/>
              <a:ext cx="6091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直接连接符 40966"/>
            <p:cNvSpPr/>
            <p:nvPr/>
          </p:nvSpPr>
          <p:spPr>
            <a:xfrm>
              <a:off x="4800240" y="2743200"/>
              <a:ext cx="6094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矩形 40967"/>
            <p:cNvSpPr/>
            <p:nvPr/>
          </p:nvSpPr>
          <p:spPr>
            <a:xfrm>
              <a:off x="2342880" y="2514600"/>
              <a:ext cx="39927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很厚的气层下沉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压缩变扁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    </a:t>
              </a:r>
              <a:r>
                <a:rPr b="1" lang="zh-CN" sz="2100" spc="-1" strike="noStrike">
                  <a:solidFill>
                    <a:srgbClr val="40458c"/>
                  </a:solidFill>
                  <a:latin typeface="Times New Roman"/>
                </a:rPr>
                <a:t>顶部增温比底部多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40458c"/>
                </a:solidFill>
                <a:latin typeface="宋体"/>
              </a:rPr>
              <a:t>平流逆温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      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暖空气平流到冷地面上而下部降温而形成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17" name="图片 41987" descr="11"/>
          <p:cNvPicPr/>
          <p:nvPr/>
        </p:nvPicPr>
        <p:blipFill>
          <a:blip r:embed="rId1"/>
          <a:srcRect l="0" t="0" r="0" b="22772"/>
          <a:stretch/>
        </p:blipFill>
        <p:spPr>
          <a:xfrm>
            <a:off x="1828800" y="3483000"/>
            <a:ext cx="5181480" cy="3375000"/>
          </a:xfrm>
          <a:prstGeom prst="rect">
            <a:avLst/>
          </a:prstGeom>
          <a:ln w="0">
            <a:noFill/>
          </a:ln>
        </p:spPr>
      </p:pic>
      <p:grpSp>
        <p:nvGrpSpPr>
          <p:cNvPr id="418" name="组合 41988"/>
          <p:cNvGrpSpPr/>
          <p:nvPr/>
        </p:nvGrpSpPr>
        <p:grpSpPr>
          <a:xfrm>
            <a:off x="838080" y="2514600"/>
            <a:ext cx="7696080" cy="843120"/>
            <a:chOff x="838080" y="2514600"/>
            <a:chExt cx="7696080" cy="843120"/>
          </a:xfrm>
        </p:grpSpPr>
        <p:grpSp>
          <p:nvGrpSpPr>
            <p:cNvPr id="419" name="组合 41989"/>
            <p:cNvGrpSpPr/>
            <p:nvPr/>
          </p:nvGrpSpPr>
          <p:grpSpPr>
            <a:xfrm>
              <a:off x="838080" y="2514600"/>
              <a:ext cx="7696080" cy="843120"/>
              <a:chOff x="838080" y="2514600"/>
              <a:chExt cx="7696080" cy="843120"/>
            </a:xfrm>
          </p:grpSpPr>
          <p:graphicFrame>
            <p:nvGraphicFramePr>
              <p:cNvPr id="420" name="对象 41990"/>
              <p:cNvGraphicFramePr/>
              <p:nvPr/>
            </p:nvGraphicFramePr>
            <p:xfrm>
              <a:off x="1218960" y="2971800"/>
              <a:ext cx="685800" cy="385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21" name="对象 4199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218960" y="2971800"/>
                        <a:ext cx="68580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2" name="对象 41991"/>
              <p:cNvGraphicFramePr/>
              <p:nvPr/>
            </p:nvGraphicFramePr>
            <p:xfrm>
              <a:off x="4429080" y="2895480"/>
              <a:ext cx="276120" cy="3812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23" name="对象 41991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429080" y="2895480"/>
                        <a:ext cx="276120" cy="38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4" name="直接连接符 41992"/>
              <p:cNvSpPr/>
              <p:nvPr/>
            </p:nvSpPr>
            <p:spPr>
              <a:xfrm>
                <a:off x="19810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5" name="直接连接符 41993"/>
              <p:cNvSpPr/>
              <p:nvPr/>
            </p:nvSpPr>
            <p:spPr>
              <a:xfrm>
                <a:off x="4724280" y="3124080"/>
                <a:ext cx="4572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6" name="矩形 41994"/>
              <p:cNvSpPr/>
              <p:nvPr/>
            </p:nvSpPr>
            <p:spPr>
              <a:xfrm>
                <a:off x="838080" y="2514600"/>
                <a:ext cx="7696080" cy="8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8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40458c"/>
                    </a:solidFill>
                    <a:latin typeface="宋体"/>
                  </a:rPr>
                  <a:t>4.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湍流逆温 </a:t>
                </a:r>
                <a:endParaRPr b="1" lang="en-US" sz="21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just">
                  <a:lnSpc>
                    <a:spcPct val="7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           </a:t>
                </a:r>
                <a:r>
                  <a:rPr b="1" lang="zh-CN" sz="2100" spc="-1" strike="noStrike">
                    <a:solidFill>
                      <a:srgbClr val="40458c"/>
                    </a:solidFill>
                    <a:latin typeface="宋体"/>
                  </a:rPr>
                  <a:t>下层湍流混合达      上层出现过渡层   逆温</a:t>
                </a:r>
                <a:r>
                  <a:rPr b="1" lang="zh-CN" sz="2500" spc="-1" strike="noStrike">
                    <a:solidFill>
                      <a:srgbClr val="40458c"/>
                    </a:solidFill>
                    <a:latin typeface="宋体"/>
                  </a:rPr>
                  <a:t>   </a:t>
                </a:r>
                <a:endParaRPr b="1" lang="en-US" sz="25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7" name="直接连接符 41995"/>
            <p:cNvSpPr/>
            <p:nvPr/>
          </p:nvSpPr>
          <p:spPr>
            <a:xfrm>
              <a:off x="7010280" y="312408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逆温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锋面逆温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0" name="图片 43011" descr="10"/>
          <p:cNvPicPr/>
          <p:nvPr/>
        </p:nvPicPr>
        <p:blipFill>
          <a:blip r:embed="rId1"/>
          <a:srcRect l="0" t="-499" r="-615" b="19134"/>
          <a:stretch/>
        </p:blipFill>
        <p:spPr>
          <a:xfrm>
            <a:off x="1981080" y="2819520"/>
            <a:ext cx="5334120" cy="361152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43012"/>
          <p:cNvGrpSpPr/>
          <p:nvPr/>
        </p:nvGrpSpPr>
        <p:grpSpPr>
          <a:xfrm>
            <a:off x="2054880" y="2286000"/>
            <a:ext cx="6054120" cy="423360"/>
            <a:chOff x="2054880" y="2286000"/>
            <a:chExt cx="6054120" cy="423360"/>
          </a:xfrm>
        </p:grpSpPr>
        <p:sp>
          <p:nvSpPr>
            <p:cNvPr id="432" name="直接连接符 43013"/>
            <p:cNvSpPr/>
            <p:nvPr/>
          </p:nvSpPr>
          <p:spPr>
            <a:xfrm>
              <a:off x="335268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直接连接符 43014"/>
            <p:cNvSpPr/>
            <p:nvPr/>
          </p:nvSpPr>
          <p:spPr>
            <a:xfrm>
              <a:off x="6400800" y="252396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矩形 43015"/>
            <p:cNvSpPr/>
            <p:nvPr/>
          </p:nvSpPr>
          <p:spPr>
            <a:xfrm>
              <a:off x="2054880" y="2286000"/>
              <a:ext cx="372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 </a:t>
              </a: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、暖气团相遇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矩形 43016"/>
            <p:cNvSpPr/>
            <p:nvPr/>
          </p:nvSpPr>
          <p:spPr>
            <a:xfrm>
              <a:off x="7057800" y="2295360"/>
              <a:ext cx="1051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冷暖间逆温</a:t>
              </a:r>
              <a:r>
                <a:rPr b="1" lang="zh-CN" sz="21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矩形 43017"/>
            <p:cNvSpPr/>
            <p:nvPr/>
          </p:nvSpPr>
          <p:spPr>
            <a:xfrm>
              <a:off x="4146480" y="2295360"/>
              <a:ext cx="1621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40458c"/>
                  </a:solidFill>
                  <a:latin typeface="宋体"/>
                </a:rPr>
                <a:t>暖气上爬，形成锋面</a:t>
              </a:r>
              <a:endParaRPr b="1" lang="en-US" sz="21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宋体"/>
              </a:rPr>
              <a:t>烟流型与大气稳定度的关系</a:t>
            </a:r>
            <a:r>
              <a:rPr b="1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3047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波浪型（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SzPct val="157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锥型（中性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弱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扇型（逆温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SzPct val="157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爬升型（下稳，上不稳）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SzPct val="1572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宋体"/>
              </a:rPr>
              <a:t>漫烟型（上逆、下不稳）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9" name="图片 44035" descr="K81A0197"/>
          <p:cNvPicPr/>
          <p:nvPr/>
        </p:nvPicPr>
        <p:blipFill>
          <a:blip r:embed="rId6"/>
          <a:stretch/>
        </p:blipFill>
        <p:spPr>
          <a:xfrm>
            <a:off x="4572000" y="1046160"/>
            <a:ext cx="400356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Arial"/>
              </a:rPr>
              <a:t>对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1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左右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占大气质量的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3/4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和全部的水蒸气，主要天气现象都发生在这一层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随高度的增加而降低，每升高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100m</a:t>
            </a: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平均降温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0.65</a:t>
            </a:r>
            <a:r>
              <a:rPr b="1" lang="en-US" sz="21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cc"/>
                </a:solidFill>
                <a:latin typeface="Arial"/>
              </a:rPr>
              <a:t>C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强烈对流作用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Arial"/>
              </a:rPr>
              <a:t>温度和湿度的水平分布不均</a:t>
            </a: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37" name="组合 8195"/>
          <p:cNvGrpSpPr/>
          <p:nvPr/>
        </p:nvGrpSpPr>
        <p:grpSpPr>
          <a:xfrm>
            <a:off x="838080" y="4724280"/>
            <a:ext cx="7924680" cy="1135440"/>
            <a:chOff x="838080" y="4724280"/>
            <a:chExt cx="7924680" cy="1135440"/>
          </a:xfrm>
        </p:grpSpPr>
        <p:sp>
          <p:nvSpPr>
            <p:cNvPr id="238" name="文本框 8196"/>
            <p:cNvSpPr/>
            <p:nvPr/>
          </p:nvSpPr>
          <p:spPr>
            <a:xfrm>
              <a:off x="838080" y="4724280"/>
              <a:ext cx="7924680" cy="11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大气边界层－对流层下层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2km</a:t>
              </a: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，地面阻滞和摩擦 作用明显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ahoma"/>
                  <a:ea typeface="宋体"/>
                </a:rPr>
                <a:t>自由大气－大气边界层以上，地面摩擦可以忽略，成为自由大气</a:t>
              </a:r>
              <a:endParaRPr b="1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左大括号 8197"/>
            <p:cNvSpPr/>
            <p:nvPr/>
          </p:nvSpPr>
          <p:spPr>
            <a:xfrm>
              <a:off x="1143000" y="487656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0" name="矩形 8198"/>
          <p:cNvSpPr/>
          <p:nvPr/>
        </p:nvSpPr>
        <p:spPr>
          <a:xfrm>
            <a:off x="2820600" y="5105520"/>
            <a:ext cx="4056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  <a:ea typeface="宋体"/>
              </a:rPr>
              <a:t> 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近地层－地面上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50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～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  <a:ea typeface="宋体"/>
              </a:rPr>
              <a:t>100m</a:t>
            </a:r>
            <a:r>
              <a:rPr b="1" lang="zh-CN" sz="1800" spc="-1" strike="noStrike">
                <a:solidFill>
                  <a:srgbClr val="ff5050"/>
                </a:solidFill>
                <a:latin typeface="Tahoma"/>
                <a:ea typeface="宋体"/>
              </a:rPr>
              <a:t>，热量和动量的通量层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形状与大气稳定度的关系  </a:t>
            </a:r>
            <a:endParaRPr b="1" lang="en-US" sz="29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▼波浪型</a:t>
            </a: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: 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波浪型，污染物扩散良好，全层大气不稳定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锥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呈圆锥型，发持在中性条件下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扇型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在垂直方向扩散很小，在水平方向扩展成扇形，逆温层结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爬升型（屋脊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下部为稳定状态，上部为不稳定状态，在低层有逆温存在；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62139e"/>
                </a:solidFill>
                <a:latin typeface="楷体_GB2312"/>
                <a:ea typeface="楷体_GB2312"/>
              </a:rPr>
              <a:t>　▼漫烟型（熏烟型）：</a:t>
            </a:r>
            <a:r>
              <a:rPr b="0" lang="zh-CN" sz="25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烟流的上部为稳定状态，下部为不稳定状态，由辐射逆温引起。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文本框 46081"/>
          <p:cNvSpPr/>
          <p:nvPr/>
        </p:nvSpPr>
        <p:spPr>
          <a:xfrm>
            <a:off x="2556000" y="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温度层结与烟流形状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文本框 46082"/>
          <p:cNvSpPr/>
          <p:nvPr/>
        </p:nvSpPr>
        <p:spPr>
          <a:xfrm>
            <a:off x="324000" y="1052640"/>
            <a:ext cx="86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文本框 46083"/>
          <p:cNvSpPr/>
          <p:nvPr/>
        </p:nvSpPr>
        <p:spPr>
          <a:xfrm>
            <a:off x="324000" y="1341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波浪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4" name="组合 46084"/>
          <p:cNvGrpSpPr/>
          <p:nvPr/>
        </p:nvGrpSpPr>
        <p:grpSpPr>
          <a:xfrm>
            <a:off x="1763640" y="765000"/>
            <a:ext cx="1371600" cy="1584360"/>
            <a:chOff x="1763640" y="765000"/>
            <a:chExt cx="1371600" cy="1584360"/>
          </a:xfrm>
        </p:grpSpPr>
        <p:sp>
          <p:nvSpPr>
            <p:cNvPr id="445" name="矩形 46085"/>
            <p:cNvSpPr/>
            <p:nvPr/>
          </p:nvSpPr>
          <p:spPr>
            <a:xfrm>
              <a:off x="1763640" y="765000"/>
              <a:ext cx="1371600" cy="1584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6" name="直接连接符 46086"/>
            <p:cNvSpPr/>
            <p:nvPr/>
          </p:nvSpPr>
          <p:spPr>
            <a:xfrm flipV="1">
              <a:off x="1992240" y="863640"/>
              <a:ext cx="0" cy="12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直接连接符 46087"/>
            <p:cNvSpPr/>
            <p:nvPr/>
          </p:nvSpPr>
          <p:spPr>
            <a:xfrm>
              <a:off x="1992240" y="215100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直接连接符 46088"/>
            <p:cNvSpPr/>
            <p:nvPr/>
          </p:nvSpPr>
          <p:spPr>
            <a:xfrm>
              <a:off x="1992240" y="1062000"/>
              <a:ext cx="686160" cy="10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直接连接符 46089"/>
            <p:cNvSpPr/>
            <p:nvPr/>
          </p:nvSpPr>
          <p:spPr>
            <a:xfrm>
              <a:off x="1992240" y="1062000"/>
              <a:ext cx="457560" cy="1088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0" name="文本框 46090"/>
            <p:cNvSpPr/>
            <p:nvPr/>
          </p:nvSpPr>
          <p:spPr>
            <a:xfrm>
              <a:off x="1763640" y="765000"/>
              <a:ext cx="228600" cy="2970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文本框 46091"/>
            <p:cNvSpPr/>
            <p:nvPr/>
          </p:nvSpPr>
          <p:spPr>
            <a:xfrm>
              <a:off x="2906640" y="205272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52" name="组合 46092"/>
          <p:cNvGrpSpPr/>
          <p:nvPr/>
        </p:nvGrpSpPr>
        <p:grpSpPr>
          <a:xfrm>
            <a:off x="3708360" y="836640"/>
            <a:ext cx="5029200" cy="1485720"/>
            <a:chOff x="3708360" y="836640"/>
            <a:chExt cx="5029200" cy="1485720"/>
          </a:xfrm>
        </p:grpSpPr>
        <p:sp>
          <p:nvSpPr>
            <p:cNvPr id="453" name="矩形 46093"/>
            <p:cNvSpPr/>
            <p:nvPr/>
          </p:nvSpPr>
          <p:spPr>
            <a:xfrm>
              <a:off x="3708360" y="83664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4" name="直接连接符 46094"/>
            <p:cNvSpPr/>
            <p:nvPr/>
          </p:nvSpPr>
          <p:spPr>
            <a:xfrm>
              <a:off x="3708360" y="212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5" name="直接连接符 46095"/>
            <p:cNvSpPr/>
            <p:nvPr/>
          </p:nvSpPr>
          <p:spPr>
            <a:xfrm flipV="1">
              <a:off x="439416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6" name="直接连接符 46096"/>
            <p:cNvSpPr/>
            <p:nvPr/>
          </p:nvSpPr>
          <p:spPr>
            <a:xfrm>
              <a:off x="4394160" y="182664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7" name="直接连接符 46097"/>
            <p:cNvSpPr/>
            <p:nvPr/>
          </p:nvSpPr>
          <p:spPr>
            <a:xfrm>
              <a:off x="4507920" y="18266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8" name="未知"/>
          <p:cNvSpPr/>
          <p:nvPr/>
        </p:nvSpPr>
        <p:spPr>
          <a:xfrm>
            <a:off x="4356000" y="765000"/>
            <a:ext cx="4267440" cy="987480"/>
          </a:xfrm>
          <a:custGeom>
            <a:avLst/>
            <a:gdLst/>
            <a:ahLst/>
            <a:rect l="l" t="t" r="r" b="b"/>
            <a:pathLst>
              <a:path w="2688" h="622">
                <a:moveTo>
                  <a:pt x="46" y="622"/>
                </a:moveTo>
                <a:cubicBezTo>
                  <a:pt x="40" y="576"/>
                  <a:pt x="36" y="530"/>
                  <a:pt x="28" y="485"/>
                </a:cubicBezTo>
                <a:cubicBezTo>
                  <a:pt x="26" y="472"/>
                  <a:pt x="22" y="460"/>
                  <a:pt x="18" y="448"/>
                </a:cubicBezTo>
                <a:cubicBezTo>
                  <a:pt x="12" y="430"/>
                  <a:pt x="0" y="393"/>
                  <a:pt x="0" y="393"/>
                </a:cubicBezTo>
                <a:cubicBezTo>
                  <a:pt x="9" y="339"/>
                  <a:pt x="8" y="296"/>
                  <a:pt x="55" y="265"/>
                </a:cubicBezTo>
                <a:cubicBezTo>
                  <a:pt x="64" y="267"/>
                  <a:pt x="115" y="275"/>
                  <a:pt x="128" y="283"/>
                </a:cubicBezTo>
                <a:cubicBezTo>
                  <a:pt x="188" y="321"/>
                  <a:pt x="98" y="286"/>
                  <a:pt x="174" y="311"/>
                </a:cubicBezTo>
                <a:cubicBezTo>
                  <a:pt x="238" y="353"/>
                  <a:pt x="255" y="336"/>
                  <a:pt x="348" y="329"/>
                </a:cubicBezTo>
                <a:cubicBezTo>
                  <a:pt x="385" y="320"/>
                  <a:pt x="421" y="314"/>
                  <a:pt x="457" y="302"/>
                </a:cubicBezTo>
                <a:cubicBezTo>
                  <a:pt x="474" y="290"/>
                  <a:pt x="496" y="287"/>
                  <a:pt x="512" y="274"/>
                </a:cubicBezTo>
                <a:cubicBezTo>
                  <a:pt x="566" y="232"/>
                  <a:pt x="602" y="167"/>
                  <a:pt x="668" y="146"/>
                </a:cubicBezTo>
                <a:cubicBezTo>
                  <a:pt x="690" y="152"/>
                  <a:pt x="743" y="164"/>
                  <a:pt x="759" y="174"/>
                </a:cubicBezTo>
                <a:cubicBezTo>
                  <a:pt x="822" y="215"/>
                  <a:pt x="793" y="203"/>
                  <a:pt x="841" y="219"/>
                </a:cubicBezTo>
                <a:cubicBezTo>
                  <a:pt x="888" y="266"/>
                  <a:pt x="940" y="243"/>
                  <a:pt x="1006" y="238"/>
                </a:cubicBezTo>
                <a:cubicBezTo>
                  <a:pt x="1065" y="226"/>
                  <a:pt x="1115" y="205"/>
                  <a:pt x="1170" y="183"/>
                </a:cubicBezTo>
                <a:cubicBezTo>
                  <a:pt x="1188" y="176"/>
                  <a:pt x="1207" y="171"/>
                  <a:pt x="1225" y="165"/>
                </a:cubicBezTo>
                <a:cubicBezTo>
                  <a:pt x="1234" y="162"/>
                  <a:pt x="1253" y="155"/>
                  <a:pt x="1253" y="155"/>
                </a:cubicBezTo>
                <a:cubicBezTo>
                  <a:pt x="1271" y="162"/>
                  <a:pt x="1293" y="162"/>
                  <a:pt x="1308" y="174"/>
                </a:cubicBezTo>
                <a:cubicBezTo>
                  <a:pt x="1317" y="181"/>
                  <a:pt x="1319" y="193"/>
                  <a:pt x="1326" y="201"/>
                </a:cubicBezTo>
                <a:cubicBezTo>
                  <a:pt x="1394" y="284"/>
                  <a:pt x="1302" y="152"/>
                  <a:pt x="1390" y="283"/>
                </a:cubicBezTo>
                <a:cubicBezTo>
                  <a:pt x="1424" y="334"/>
                  <a:pt x="1439" y="373"/>
                  <a:pt x="1500" y="393"/>
                </a:cubicBezTo>
                <a:cubicBezTo>
                  <a:pt x="1510" y="392"/>
                  <a:pt x="1584" y="390"/>
                  <a:pt x="1609" y="375"/>
                </a:cubicBezTo>
                <a:cubicBezTo>
                  <a:pt x="1691" y="327"/>
                  <a:pt x="1692" y="189"/>
                  <a:pt x="1783" y="155"/>
                </a:cubicBezTo>
                <a:cubicBezTo>
                  <a:pt x="1812" y="166"/>
                  <a:pt x="1865" y="201"/>
                  <a:pt x="1865" y="201"/>
                </a:cubicBezTo>
                <a:cubicBezTo>
                  <a:pt x="1880" y="247"/>
                  <a:pt x="1918" y="274"/>
                  <a:pt x="1948" y="311"/>
                </a:cubicBezTo>
                <a:cubicBezTo>
                  <a:pt x="1975" y="343"/>
                  <a:pt x="1998" y="370"/>
                  <a:pt x="2039" y="384"/>
                </a:cubicBezTo>
                <a:cubicBezTo>
                  <a:pt x="2068" y="374"/>
                  <a:pt x="2083" y="358"/>
                  <a:pt x="2112" y="347"/>
                </a:cubicBezTo>
                <a:cubicBezTo>
                  <a:pt x="2118" y="338"/>
                  <a:pt x="2122" y="328"/>
                  <a:pt x="2130" y="320"/>
                </a:cubicBezTo>
                <a:cubicBezTo>
                  <a:pt x="2138" y="312"/>
                  <a:pt x="2151" y="311"/>
                  <a:pt x="2158" y="302"/>
                </a:cubicBezTo>
                <a:cubicBezTo>
                  <a:pt x="2206" y="245"/>
                  <a:pt x="2219" y="126"/>
                  <a:pt x="2295" y="101"/>
                </a:cubicBezTo>
                <a:cubicBezTo>
                  <a:pt x="2326" y="69"/>
                  <a:pt x="2365" y="67"/>
                  <a:pt x="2405" y="55"/>
                </a:cubicBezTo>
                <a:cubicBezTo>
                  <a:pt x="2424" y="50"/>
                  <a:pt x="2460" y="37"/>
                  <a:pt x="2460" y="37"/>
                </a:cubicBezTo>
                <a:cubicBezTo>
                  <a:pt x="2466" y="31"/>
                  <a:pt x="2470" y="22"/>
                  <a:pt x="2478" y="18"/>
                </a:cubicBezTo>
                <a:cubicBezTo>
                  <a:pt x="2495" y="9"/>
                  <a:pt x="2533" y="0"/>
                  <a:pt x="2533" y="0"/>
                </a:cubicBezTo>
                <a:cubicBezTo>
                  <a:pt x="2600" y="22"/>
                  <a:pt x="2551" y="9"/>
                  <a:pt x="2688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>
            <a:off x="4427640" y="1341360"/>
            <a:ext cx="4240080" cy="558720"/>
          </a:xfrm>
          <a:custGeom>
            <a:avLst/>
            <a:gdLst/>
            <a:ahLst/>
            <a:rect l="l" t="t" r="r" b="b"/>
            <a:pathLst>
              <a:path w="2671" h="352">
                <a:moveTo>
                  <a:pt x="29" y="242"/>
                </a:moveTo>
                <a:cubicBezTo>
                  <a:pt x="40" y="36"/>
                  <a:pt x="0" y="55"/>
                  <a:pt x="175" y="69"/>
                </a:cubicBezTo>
                <a:cubicBezTo>
                  <a:pt x="203" y="78"/>
                  <a:pt x="230" y="87"/>
                  <a:pt x="258" y="96"/>
                </a:cubicBezTo>
                <a:cubicBezTo>
                  <a:pt x="267" y="99"/>
                  <a:pt x="285" y="105"/>
                  <a:pt x="285" y="105"/>
                </a:cubicBezTo>
                <a:cubicBezTo>
                  <a:pt x="351" y="94"/>
                  <a:pt x="413" y="81"/>
                  <a:pt x="477" y="60"/>
                </a:cubicBezTo>
                <a:cubicBezTo>
                  <a:pt x="486" y="57"/>
                  <a:pt x="496" y="53"/>
                  <a:pt x="505" y="50"/>
                </a:cubicBezTo>
                <a:cubicBezTo>
                  <a:pt x="514" y="47"/>
                  <a:pt x="523" y="44"/>
                  <a:pt x="532" y="41"/>
                </a:cubicBezTo>
                <a:cubicBezTo>
                  <a:pt x="541" y="38"/>
                  <a:pt x="559" y="32"/>
                  <a:pt x="559" y="32"/>
                </a:cubicBezTo>
                <a:cubicBezTo>
                  <a:pt x="593" y="0"/>
                  <a:pt x="611" y="19"/>
                  <a:pt x="651" y="32"/>
                </a:cubicBezTo>
                <a:cubicBezTo>
                  <a:pt x="692" y="94"/>
                  <a:pt x="671" y="72"/>
                  <a:pt x="706" y="105"/>
                </a:cubicBezTo>
                <a:cubicBezTo>
                  <a:pt x="730" y="179"/>
                  <a:pt x="780" y="225"/>
                  <a:pt x="852" y="252"/>
                </a:cubicBezTo>
                <a:cubicBezTo>
                  <a:pt x="893" y="243"/>
                  <a:pt x="918" y="237"/>
                  <a:pt x="953" y="215"/>
                </a:cubicBezTo>
                <a:cubicBezTo>
                  <a:pt x="975" y="182"/>
                  <a:pt x="1002" y="154"/>
                  <a:pt x="1026" y="124"/>
                </a:cubicBezTo>
                <a:cubicBezTo>
                  <a:pt x="1059" y="83"/>
                  <a:pt x="1061" y="33"/>
                  <a:pt x="1117" y="14"/>
                </a:cubicBezTo>
                <a:cubicBezTo>
                  <a:pt x="1186" y="36"/>
                  <a:pt x="1244" y="68"/>
                  <a:pt x="1300" y="114"/>
                </a:cubicBezTo>
                <a:cubicBezTo>
                  <a:pt x="1333" y="141"/>
                  <a:pt x="1353" y="162"/>
                  <a:pt x="1391" y="188"/>
                </a:cubicBezTo>
                <a:cubicBezTo>
                  <a:pt x="1398" y="193"/>
                  <a:pt x="1402" y="202"/>
                  <a:pt x="1410" y="206"/>
                </a:cubicBezTo>
                <a:cubicBezTo>
                  <a:pt x="1450" y="226"/>
                  <a:pt x="1496" y="229"/>
                  <a:pt x="1538" y="242"/>
                </a:cubicBezTo>
                <a:cubicBezTo>
                  <a:pt x="1580" y="228"/>
                  <a:pt x="1619" y="221"/>
                  <a:pt x="1657" y="197"/>
                </a:cubicBezTo>
                <a:cubicBezTo>
                  <a:pt x="1678" y="164"/>
                  <a:pt x="1693" y="154"/>
                  <a:pt x="1730" y="142"/>
                </a:cubicBezTo>
                <a:cubicBezTo>
                  <a:pt x="1748" y="148"/>
                  <a:pt x="1767" y="154"/>
                  <a:pt x="1785" y="160"/>
                </a:cubicBezTo>
                <a:cubicBezTo>
                  <a:pt x="1794" y="163"/>
                  <a:pt x="1812" y="169"/>
                  <a:pt x="1812" y="169"/>
                </a:cubicBezTo>
                <a:cubicBezTo>
                  <a:pt x="1834" y="192"/>
                  <a:pt x="1845" y="205"/>
                  <a:pt x="1876" y="215"/>
                </a:cubicBezTo>
                <a:cubicBezTo>
                  <a:pt x="1915" y="254"/>
                  <a:pt x="1956" y="286"/>
                  <a:pt x="1995" y="325"/>
                </a:cubicBezTo>
                <a:cubicBezTo>
                  <a:pt x="2011" y="341"/>
                  <a:pt x="2123" y="351"/>
                  <a:pt x="2132" y="352"/>
                </a:cubicBezTo>
                <a:cubicBezTo>
                  <a:pt x="2159" y="349"/>
                  <a:pt x="2187" y="348"/>
                  <a:pt x="2214" y="343"/>
                </a:cubicBezTo>
                <a:cubicBezTo>
                  <a:pt x="2233" y="339"/>
                  <a:pt x="2251" y="331"/>
                  <a:pt x="2269" y="325"/>
                </a:cubicBezTo>
                <a:cubicBezTo>
                  <a:pt x="2278" y="322"/>
                  <a:pt x="2297" y="316"/>
                  <a:pt x="2297" y="316"/>
                </a:cubicBezTo>
                <a:cubicBezTo>
                  <a:pt x="2339" y="272"/>
                  <a:pt x="2288" y="320"/>
                  <a:pt x="2342" y="288"/>
                </a:cubicBezTo>
                <a:cubicBezTo>
                  <a:pt x="2377" y="268"/>
                  <a:pt x="2358" y="249"/>
                  <a:pt x="2406" y="233"/>
                </a:cubicBezTo>
                <a:cubicBezTo>
                  <a:pt x="2475" y="167"/>
                  <a:pt x="2369" y="263"/>
                  <a:pt x="2452" y="206"/>
                </a:cubicBezTo>
                <a:cubicBezTo>
                  <a:pt x="2519" y="160"/>
                  <a:pt x="2442" y="190"/>
                  <a:pt x="2507" y="169"/>
                </a:cubicBezTo>
                <a:cubicBezTo>
                  <a:pt x="2572" y="126"/>
                  <a:pt x="2523" y="151"/>
                  <a:pt x="2671" y="1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4440240" y="1076400"/>
            <a:ext cx="3868560" cy="593640"/>
          </a:xfrm>
          <a:custGeom>
            <a:avLst/>
            <a:gdLst/>
            <a:ahLst/>
            <a:rect l="l" t="t" r="r" b="b"/>
            <a:pathLst>
              <a:path w="2437" h="374">
                <a:moveTo>
                  <a:pt x="0" y="374"/>
                </a:moveTo>
                <a:cubicBezTo>
                  <a:pt x="5" y="357"/>
                  <a:pt x="15" y="341"/>
                  <a:pt x="16" y="324"/>
                </a:cubicBezTo>
                <a:cubicBezTo>
                  <a:pt x="19" y="274"/>
                  <a:pt x="14" y="222"/>
                  <a:pt x="25" y="173"/>
                </a:cubicBezTo>
                <a:cubicBezTo>
                  <a:pt x="27" y="164"/>
                  <a:pt x="42" y="168"/>
                  <a:pt x="50" y="165"/>
                </a:cubicBezTo>
                <a:cubicBezTo>
                  <a:pt x="88" y="177"/>
                  <a:pt x="126" y="184"/>
                  <a:pt x="166" y="190"/>
                </a:cubicBezTo>
                <a:cubicBezTo>
                  <a:pt x="214" y="207"/>
                  <a:pt x="266" y="209"/>
                  <a:pt x="317" y="215"/>
                </a:cubicBezTo>
                <a:cubicBezTo>
                  <a:pt x="319" y="215"/>
                  <a:pt x="405" y="209"/>
                  <a:pt x="425" y="199"/>
                </a:cubicBezTo>
                <a:cubicBezTo>
                  <a:pt x="443" y="190"/>
                  <a:pt x="458" y="176"/>
                  <a:pt x="475" y="165"/>
                </a:cubicBezTo>
                <a:cubicBezTo>
                  <a:pt x="483" y="159"/>
                  <a:pt x="500" y="148"/>
                  <a:pt x="500" y="148"/>
                </a:cubicBezTo>
                <a:cubicBezTo>
                  <a:pt x="546" y="81"/>
                  <a:pt x="486" y="162"/>
                  <a:pt x="542" y="107"/>
                </a:cubicBezTo>
                <a:cubicBezTo>
                  <a:pt x="549" y="100"/>
                  <a:pt x="551" y="89"/>
                  <a:pt x="559" y="82"/>
                </a:cubicBezTo>
                <a:cubicBezTo>
                  <a:pt x="574" y="69"/>
                  <a:pt x="609" y="48"/>
                  <a:pt x="609" y="48"/>
                </a:cubicBezTo>
                <a:cubicBezTo>
                  <a:pt x="675" y="62"/>
                  <a:pt x="737" y="85"/>
                  <a:pt x="801" y="107"/>
                </a:cubicBezTo>
                <a:cubicBezTo>
                  <a:pt x="831" y="117"/>
                  <a:pt x="863" y="121"/>
                  <a:pt x="893" y="132"/>
                </a:cubicBezTo>
                <a:cubicBezTo>
                  <a:pt x="988" y="122"/>
                  <a:pt x="1070" y="94"/>
                  <a:pt x="1160" y="65"/>
                </a:cubicBezTo>
                <a:cubicBezTo>
                  <a:pt x="1183" y="69"/>
                  <a:pt x="1210" y="69"/>
                  <a:pt x="1227" y="90"/>
                </a:cubicBezTo>
                <a:cubicBezTo>
                  <a:pt x="1232" y="97"/>
                  <a:pt x="1229" y="109"/>
                  <a:pt x="1235" y="115"/>
                </a:cubicBezTo>
                <a:cubicBezTo>
                  <a:pt x="1267" y="147"/>
                  <a:pt x="1318" y="177"/>
                  <a:pt x="1360" y="190"/>
                </a:cubicBezTo>
                <a:cubicBezTo>
                  <a:pt x="1417" y="229"/>
                  <a:pt x="1391" y="218"/>
                  <a:pt x="1435" y="232"/>
                </a:cubicBezTo>
                <a:cubicBezTo>
                  <a:pt x="1460" y="249"/>
                  <a:pt x="1485" y="257"/>
                  <a:pt x="1510" y="274"/>
                </a:cubicBezTo>
                <a:cubicBezTo>
                  <a:pt x="1535" y="271"/>
                  <a:pt x="1561" y="271"/>
                  <a:pt x="1586" y="265"/>
                </a:cubicBezTo>
                <a:cubicBezTo>
                  <a:pt x="1625" y="255"/>
                  <a:pt x="1651" y="200"/>
                  <a:pt x="1677" y="173"/>
                </a:cubicBezTo>
                <a:cubicBezTo>
                  <a:pt x="1690" y="137"/>
                  <a:pt x="1704" y="102"/>
                  <a:pt x="1736" y="82"/>
                </a:cubicBezTo>
                <a:cubicBezTo>
                  <a:pt x="1796" y="101"/>
                  <a:pt x="1772" y="88"/>
                  <a:pt x="1811" y="115"/>
                </a:cubicBezTo>
                <a:cubicBezTo>
                  <a:pt x="1849" y="172"/>
                  <a:pt x="1825" y="159"/>
                  <a:pt x="1869" y="173"/>
                </a:cubicBezTo>
                <a:cubicBezTo>
                  <a:pt x="1894" y="190"/>
                  <a:pt x="1916" y="215"/>
                  <a:pt x="1945" y="224"/>
                </a:cubicBezTo>
                <a:cubicBezTo>
                  <a:pt x="1962" y="229"/>
                  <a:pt x="1995" y="240"/>
                  <a:pt x="1995" y="240"/>
                </a:cubicBezTo>
                <a:cubicBezTo>
                  <a:pt x="2057" y="235"/>
                  <a:pt x="2085" y="234"/>
                  <a:pt x="2137" y="215"/>
                </a:cubicBezTo>
                <a:cubicBezTo>
                  <a:pt x="2142" y="207"/>
                  <a:pt x="2146" y="197"/>
                  <a:pt x="2153" y="190"/>
                </a:cubicBezTo>
                <a:cubicBezTo>
                  <a:pt x="2160" y="183"/>
                  <a:pt x="2172" y="181"/>
                  <a:pt x="2178" y="173"/>
                </a:cubicBezTo>
                <a:cubicBezTo>
                  <a:pt x="2184" y="166"/>
                  <a:pt x="2182" y="155"/>
                  <a:pt x="2187" y="148"/>
                </a:cubicBezTo>
                <a:cubicBezTo>
                  <a:pt x="2205" y="122"/>
                  <a:pt x="2232" y="98"/>
                  <a:pt x="2253" y="73"/>
                </a:cubicBezTo>
                <a:cubicBezTo>
                  <a:pt x="2259" y="65"/>
                  <a:pt x="2261" y="53"/>
                  <a:pt x="2270" y="48"/>
                </a:cubicBezTo>
                <a:cubicBezTo>
                  <a:pt x="2285" y="39"/>
                  <a:pt x="2320" y="32"/>
                  <a:pt x="2320" y="32"/>
                </a:cubicBezTo>
                <a:cubicBezTo>
                  <a:pt x="2367" y="0"/>
                  <a:pt x="2391" y="36"/>
                  <a:pt x="2437" y="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未知"/>
          <p:cNvSpPr/>
          <p:nvPr/>
        </p:nvSpPr>
        <p:spPr>
          <a:xfrm>
            <a:off x="5394240" y="1260360"/>
            <a:ext cx="2782800" cy="370080"/>
          </a:xfrm>
          <a:custGeom>
            <a:avLst/>
            <a:gdLst/>
            <a:ahLst/>
            <a:rect l="l" t="t" r="r" b="b"/>
            <a:pathLst>
              <a:path w="1753" h="233">
                <a:moveTo>
                  <a:pt x="0" y="24"/>
                </a:moveTo>
                <a:cubicBezTo>
                  <a:pt x="100" y="0"/>
                  <a:pt x="159" y="51"/>
                  <a:pt x="250" y="66"/>
                </a:cubicBezTo>
                <a:cubicBezTo>
                  <a:pt x="275" y="70"/>
                  <a:pt x="300" y="71"/>
                  <a:pt x="325" y="74"/>
                </a:cubicBezTo>
                <a:cubicBezTo>
                  <a:pt x="395" y="67"/>
                  <a:pt x="457" y="52"/>
                  <a:pt x="525" y="41"/>
                </a:cubicBezTo>
                <a:cubicBezTo>
                  <a:pt x="601" y="16"/>
                  <a:pt x="553" y="17"/>
                  <a:pt x="601" y="41"/>
                </a:cubicBezTo>
                <a:cubicBezTo>
                  <a:pt x="609" y="45"/>
                  <a:pt x="618" y="46"/>
                  <a:pt x="626" y="49"/>
                </a:cubicBezTo>
                <a:cubicBezTo>
                  <a:pt x="694" y="95"/>
                  <a:pt x="758" y="145"/>
                  <a:pt x="826" y="191"/>
                </a:cubicBezTo>
                <a:cubicBezTo>
                  <a:pt x="841" y="201"/>
                  <a:pt x="859" y="205"/>
                  <a:pt x="876" y="208"/>
                </a:cubicBezTo>
                <a:cubicBezTo>
                  <a:pt x="909" y="215"/>
                  <a:pt x="976" y="224"/>
                  <a:pt x="976" y="224"/>
                </a:cubicBezTo>
                <a:cubicBezTo>
                  <a:pt x="993" y="219"/>
                  <a:pt x="1012" y="218"/>
                  <a:pt x="1026" y="208"/>
                </a:cubicBezTo>
                <a:cubicBezTo>
                  <a:pt x="1043" y="197"/>
                  <a:pt x="1076" y="174"/>
                  <a:pt x="1076" y="174"/>
                </a:cubicBezTo>
                <a:cubicBezTo>
                  <a:pt x="1108" y="128"/>
                  <a:pt x="1110" y="117"/>
                  <a:pt x="1160" y="99"/>
                </a:cubicBezTo>
                <a:cubicBezTo>
                  <a:pt x="1228" y="123"/>
                  <a:pt x="1292" y="152"/>
                  <a:pt x="1360" y="174"/>
                </a:cubicBezTo>
                <a:cubicBezTo>
                  <a:pt x="1385" y="182"/>
                  <a:pt x="1435" y="199"/>
                  <a:pt x="1435" y="199"/>
                </a:cubicBezTo>
                <a:cubicBezTo>
                  <a:pt x="1443" y="205"/>
                  <a:pt x="1451" y="212"/>
                  <a:pt x="1460" y="216"/>
                </a:cubicBezTo>
                <a:cubicBezTo>
                  <a:pt x="1476" y="223"/>
                  <a:pt x="1511" y="233"/>
                  <a:pt x="1511" y="233"/>
                </a:cubicBezTo>
                <a:cubicBezTo>
                  <a:pt x="1568" y="227"/>
                  <a:pt x="1609" y="225"/>
                  <a:pt x="1661" y="208"/>
                </a:cubicBezTo>
                <a:cubicBezTo>
                  <a:pt x="1691" y="187"/>
                  <a:pt x="1721" y="166"/>
                  <a:pt x="1753" y="1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2" name="未知"/>
          <p:cNvSpPr/>
          <p:nvPr/>
        </p:nvSpPr>
        <p:spPr>
          <a:xfrm>
            <a:off x="5672160" y="1338120"/>
            <a:ext cx="2465280" cy="478080"/>
          </a:xfrm>
          <a:custGeom>
            <a:avLst/>
            <a:gdLst/>
            <a:ahLst/>
            <a:rect l="l" t="t" r="r" b="b"/>
            <a:pathLst>
              <a:path w="1553" h="301">
                <a:moveTo>
                  <a:pt x="0" y="92"/>
                </a:moveTo>
                <a:cubicBezTo>
                  <a:pt x="14" y="135"/>
                  <a:pt x="32" y="153"/>
                  <a:pt x="75" y="167"/>
                </a:cubicBezTo>
                <a:cubicBezTo>
                  <a:pt x="202" y="155"/>
                  <a:pt x="125" y="168"/>
                  <a:pt x="200" y="117"/>
                </a:cubicBezTo>
                <a:cubicBezTo>
                  <a:pt x="206" y="109"/>
                  <a:pt x="209" y="99"/>
                  <a:pt x="217" y="92"/>
                </a:cubicBezTo>
                <a:cubicBezTo>
                  <a:pt x="232" y="79"/>
                  <a:pt x="267" y="59"/>
                  <a:pt x="267" y="59"/>
                </a:cubicBezTo>
                <a:cubicBezTo>
                  <a:pt x="270" y="51"/>
                  <a:pt x="269" y="40"/>
                  <a:pt x="275" y="34"/>
                </a:cubicBezTo>
                <a:cubicBezTo>
                  <a:pt x="282" y="26"/>
                  <a:pt x="338" y="4"/>
                  <a:pt x="350" y="0"/>
                </a:cubicBezTo>
                <a:cubicBezTo>
                  <a:pt x="379" y="7"/>
                  <a:pt x="406" y="16"/>
                  <a:pt x="434" y="25"/>
                </a:cubicBezTo>
                <a:cubicBezTo>
                  <a:pt x="461" y="43"/>
                  <a:pt x="477" y="65"/>
                  <a:pt x="509" y="75"/>
                </a:cubicBezTo>
                <a:cubicBezTo>
                  <a:pt x="566" y="114"/>
                  <a:pt x="540" y="103"/>
                  <a:pt x="584" y="117"/>
                </a:cubicBezTo>
                <a:cubicBezTo>
                  <a:pt x="612" y="136"/>
                  <a:pt x="619" y="157"/>
                  <a:pt x="651" y="167"/>
                </a:cubicBezTo>
                <a:cubicBezTo>
                  <a:pt x="682" y="188"/>
                  <a:pt x="716" y="196"/>
                  <a:pt x="751" y="209"/>
                </a:cubicBezTo>
                <a:cubicBezTo>
                  <a:pt x="796" y="203"/>
                  <a:pt x="851" y="198"/>
                  <a:pt x="893" y="175"/>
                </a:cubicBezTo>
                <a:cubicBezTo>
                  <a:pt x="910" y="165"/>
                  <a:pt x="943" y="142"/>
                  <a:pt x="943" y="142"/>
                </a:cubicBezTo>
                <a:cubicBezTo>
                  <a:pt x="1008" y="149"/>
                  <a:pt x="1072" y="159"/>
                  <a:pt x="1135" y="175"/>
                </a:cubicBezTo>
                <a:cubicBezTo>
                  <a:pt x="1162" y="182"/>
                  <a:pt x="1184" y="199"/>
                  <a:pt x="1210" y="209"/>
                </a:cubicBezTo>
                <a:cubicBezTo>
                  <a:pt x="1225" y="224"/>
                  <a:pt x="1245" y="236"/>
                  <a:pt x="1260" y="251"/>
                </a:cubicBezTo>
                <a:cubicBezTo>
                  <a:pt x="1267" y="258"/>
                  <a:pt x="1268" y="271"/>
                  <a:pt x="1277" y="276"/>
                </a:cubicBezTo>
                <a:cubicBezTo>
                  <a:pt x="1298" y="289"/>
                  <a:pt x="1353" y="297"/>
                  <a:pt x="1377" y="301"/>
                </a:cubicBezTo>
                <a:cubicBezTo>
                  <a:pt x="1399" y="298"/>
                  <a:pt x="1422" y="297"/>
                  <a:pt x="1444" y="292"/>
                </a:cubicBezTo>
                <a:cubicBezTo>
                  <a:pt x="1478" y="285"/>
                  <a:pt x="1518" y="259"/>
                  <a:pt x="1553" y="2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3" name="文本框 46103"/>
          <p:cNvSpPr/>
          <p:nvPr/>
        </p:nvSpPr>
        <p:spPr>
          <a:xfrm>
            <a:off x="324000" y="321300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锥　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4" name="组合 46104"/>
          <p:cNvGrpSpPr/>
          <p:nvPr/>
        </p:nvGrpSpPr>
        <p:grpSpPr>
          <a:xfrm>
            <a:off x="1763640" y="2637000"/>
            <a:ext cx="1371600" cy="1585800"/>
            <a:chOff x="1763640" y="2637000"/>
            <a:chExt cx="1371600" cy="1585800"/>
          </a:xfrm>
        </p:grpSpPr>
        <p:sp>
          <p:nvSpPr>
            <p:cNvPr id="465" name="矩形 46105"/>
            <p:cNvSpPr/>
            <p:nvPr/>
          </p:nvSpPr>
          <p:spPr>
            <a:xfrm>
              <a:off x="1763640" y="2637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直接连接符 46106"/>
            <p:cNvSpPr/>
            <p:nvPr/>
          </p:nvSpPr>
          <p:spPr>
            <a:xfrm flipV="1">
              <a:off x="1992240" y="2736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7" name="直接连接符 46107"/>
            <p:cNvSpPr/>
            <p:nvPr/>
          </p:nvSpPr>
          <p:spPr>
            <a:xfrm>
              <a:off x="1992240" y="4024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8" name="直接连接符 46108"/>
            <p:cNvSpPr/>
            <p:nvPr/>
          </p:nvSpPr>
          <p:spPr>
            <a:xfrm>
              <a:off x="1992240" y="2934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9" name="文本框 46109"/>
            <p:cNvSpPr/>
            <p:nvPr/>
          </p:nvSpPr>
          <p:spPr>
            <a:xfrm>
              <a:off x="1763640" y="2637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0" name="文本框 46110"/>
            <p:cNvSpPr/>
            <p:nvPr/>
          </p:nvSpPr>
          <p:spPr>
            <a:xfrm>
              <a:off x="2906640" y="3925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直接连接符 46111"/>
            <p:cNvSpPr/>
            <p:nvPr/>
          </p:nvSpPr>
          <p:spPr>
            <a:xfrm flipH="1" flipV="1">
              <a:off x="2220840" y="2934000"/>
              <a:ext cx="342720" cy="10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72" name="组合 46112"/>
          <p:cNvGrpSpPr/>
          <p:nvPr/>
        </p:nvGrpSpPr>
        <p:grpSpPr>
          <a:xfrm>
            <a:off x="1763640" y="4508640"/>
            <a:ext cx="1371600" cy="1585800"/>
            <a:chOff x="1763640" y="4508640"/>
            <a:chExt cx="1371600" cy="1585800"/>
          </a:xfrm>
        </p:grpSpPr>
        <p:sp>
          <p:nvSpPr>
            <p:cNvPr id="473" name="矩形 46113"/>
            <p:cNvSpPr/>
            <p:nvPr/>
          </p:nvSpPr>
          <p:spPr>
            <a:xfrm>
              <a:off x="1763640" y="450864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直接连接符 46114"/>
            <p:cNvSpPr/>
            <p:nvPr/>
          </p:nvSpPr>
          <p:spPr>
            <a:xfrm flipV="1">
              <a:off x="1992240" y="460764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直接连接符 46115"/>
            <p:cNvSpPr/>
            <p:nvPr/>
          </p:nvSpPr>
          <p:spPr>
            <a:xfrm>
              <a:off x="1992240" y="589608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直接连接符 46116"/>
            <p:cNvSpPr/>
            <p:nvPr/>
          </p:nvSpPr>
          <p:spPr>
            <a:xfrm>
              <a:off x="1992240" y="480600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文本框 46117"/>
            <p:cNvSpPr/>
            <p:nvPr/>
          </p:nvSpPr>
          <p:spPr>
            <a:xfrm>
              <a:off x="1763640" y="450864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文本框 46118"/>
            <p:cNvSpPr/>
            <p:nvPr/>
          </p:nvSpPr>
          <p:spPr>
            <a:xfrm>
              <a:off x="2906640" y="579744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直接连接符 46119"/>
            <p:cNvSpPr/>
            <p:nvPr/>
          </p:nvSpPr>
          <p:spPr>
            <a:xfrm flipV="1">
              <a:off x="2220840" y="4905000"/>
              <a:ext cx="456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0" name="文本框 46120"/>
          <p:cNvSpPr/>
          <p:nvPr/>
        </p:nvSpPr>
        <p:spPr>
          <a:xfrm>
            <a:off x="324000" y="5013360"/>
            <a:ext cx="86328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扇   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1" name="组合 46121"/>
          <p:cNvGrpSpPr/>
          <p:nvPr/>
        </p:nvGrpSpPr>
        <p:grpSpPr>
          <a:xfrm>
            <a:off x="3708360" y="2708280"/>
            <a:ext cx="5029200" cy="1485720"/>
            <a:chOff x="3708360" y="2708280"/>
            <a:chExt cx="5029200" cy="1485720"/>
          </a:xfrm>
        </p:grpSpPr>
        <p:sp>
          <p:nvSpPr>
            <p:cNvPr id="482" name="矩形 46122"/>
            <p:cNvSpPr/>
            <p:nvPr/>
          </p:nvSpPr>
          <p:spPr>
            <a:xfrm>
              <a:off x="3708360" y="2708280"/>
              <a:ext cx="5029200" cy="1485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3" name="直接连接符 46123"/>
            <p:cNvSpPr/>
            <p:nvPr/>
          </p:nvSpPr>
          <p:spPr>
            <a:xfrm>
              <a:off x="3708360" y="399564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4" name="直接连接符 46124"/>
            <p:cNvSpPr/>
            <p:nvPr/>
          </p:nvSpPr>
          <p:spPr>
            <a:xfrm flipV="1">
              <a:off x="439416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5" name="直接连接符 46125"/>
            <p:cNvSpPr/>
            <p:nvPr/>
          </p:nvSpPr>
          <p:spPr>
            <a:xfrm>
              <a:off x="4394160" y="3698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6" name="直接连接符 46126"/>
            <p:cNvSpPr/>
            <p:nvPr/>
          </p:nvSpPr>
          <p:spPr>
            <a:xfrm>
              <a:off x="4507920" y="3698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7" name="组合 46127"/>
          <p:cNvGrpSpPr/>
          <p:nvPr/>
        </p:nvGrpSpPr>
        <p:grpSpPr>
          <a:xfrm>
            <a:off x="3708360" y="4581360"/>
            <a:ext cx="5029200" cy="1486080"/>
            <a:chOff x="3708360" y="4581360"/>
            <a:chExt cx="5029200" cy="1486080"/>
          </a:xfrm>
        </p:grpSpPr>
        <p:sp>
          <p:nvSpPr>
            <p:cNvPr id="488" name="矩形 46128"/>
            <p:cNvSpPr/>
            <p:nvPr/>
          </p:nvSpPr>
          <p:spPr>
            <a:xfrm>
              <a:off x="3708360" y="458136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9" name="直接连接符 46129"/>
            <p:cNvSpPr/>
            <p:nvPr/>
          </p:nvSpPr>
          <p:spPr>
            <a:xfrm>
              <a:off x="3708360" y="586908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直接连接符 46130"/>
            <p:cNvSpPr/>
            <p:nvPr/>
          </p:nvSpPr>
          <p:spPr>
            <a:xfrm flipV="1">
              <a:off x="439416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1" name="直接连接符 46131"/>
            <p:cNvSpPr/>
            <p:nvPr/>
          </p:nvSpPr>
          <p:spPr>
            <a:xfrm>
              <a:off x="4394160" y="55713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2" name="直接连接符 46132"/>
            <p:cNvSpPr/>
            <p:nvPr/>
          </p:nvSpPr>
          <p:spPr>
            <a:xfrm>
              <a:off x="4507920" y="5571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3" name="未知"/>
          <p:cNvSpPr/>
          <p:nvPr/>
        </p:nvSpPr>
        <p:spPr>
          <a:xfrm>
            <a:off x="4321080" y="2728800"/>
            <a:ext cx="4373640" cy="943200"/>
          </a:xfrm>
          <a:custGeom>
            <a:avLst/>
            <a:gdLst/>
            <a:ahLst/>
            <a:rect l="l" t="t" r="r" b="b"/>
            <a:pathLst>
              <a:path w="2755" h="594">
                <a:moveTo>
                  <a:pt x="67" y="594"/>
                </a:moveTo>
                <a:cubicBezTo>
                  <a:pt x="61" y="588"/>
                  <a:pt x="52" y="584"/>
                  <a:pt x="48" y="576"/>
                </a:cubicBezTo>
                <a:cubicBezTo>
                  <a:pt x="39" y="559"/>
                  <a:pt x="30" y="521"/>
                  <a:pt x="30" y="521"/>
                </a:cubicBezTo>
                <a:cubicBezTo>
                  <a:pt x="33" y="487"/>
                  <a:pt x="29" y="452"/>
                  <a:pt x="39" y="420"/>
                </a:cubicBezTo>
                <a:cubicBezTo>
                  <a:pt x="42" y="409"/>
                  <a:pt x="60" y="411"/>
                  <a:pt x="67" y="402"/>
                </a:cubicBezTo>
                <a:cubicBezTo>
                  <a:pt x="140" y="313"/>
                  <a:pt x="0" y="443"/>
                  <a:pt x="94" y="347"/>
                </a:cubicBezTo>
                <a:cubicBezTo>
                  <a:pt x="115" y="326"/>
                  <a:pt x="150" y="319"/>
                  <a:pt x="176" y="311"/>
                </a:cubicBezTo>
                <a:cubicBezTo>
                  <a:pt x="297" y="272"/>
                  <a:pt x="333" y="264"/>
                  <a:pt x="469" y="256"/>
                </a:cubicBezTo>
                <a:cubicBezTo>
                  <a:pt x="545" y="261"/>
                  <a:pt x="621" y="276"/>
                  <a:pt x="697" y="274"/>
                </a:cubicBezTo>
                <a:cubicBezTo>
                  <a:pt x="888" y="268"/>
                  <a:pt x="1074" y="220"/>
                  <a:pt x="1264" y="201"/>
                </a:cubicBezTo>
                <a:cubicBezTo>
                  <a:pt x="1346" y="175"/>
                  <a:pt x="1443" y="176"/>
                  <a:pt x="1529" y="164"/>
                </a:cubicBezTo>
                <a:cubicBezTo>
                  <a:pt x="1699" y="109"/>
                  <a:pt x="1907" y="116"/>
                  <a:pt x="2078" y="110"/>
                </a:cubicBezTo>
                <a:cubicBezTo>
                  <a:pt x="2232" y="95"/>
                  <a:pt x="2357" y="71"/>
                  <a:pt x="2517" y="64"/>
                </a:cubicBezTo>
                <a:cubicBezTo>
                  <a:pt x="2581" y="57"/>
                  <a:pt x="2639" y="47"/>
                  <a:pt x="2700" y="27"/>
                </a:cubicBezTo>
                <a:cubicBezTo>
                  <a:pt x="2709" y="21"/>
                  <a:pt x="2717" y="14"/>
                  <a:pt x="2727" y="9"/>
                </a:cubicBezTo>
                <a:cubicBezTo>
                  <a:pt x="2736" y="5"/>
                  <a:pt x="2755" y="0"/>
                  <a:pt x="275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4" name="未知"/>
          <p:cNvSpPr/>
          <p:nvPr/>
        </p:nvSpPr>
        <p:spPr>
          <a:xfrm>
            <a:off x="4427640" y="3381480"/>
            <a:ext cx="4281480" cy="496800"/>
          </a:xfrm>
          <a:custGeom>
            <a:avLst/>
            <a:gdLst/>
            <a:ahLst/>
            <a:rect l="l" t="t" r="r" b="b"/>
            <a:pathLst>
              <a:path w="2697" h="313">
                <a:moveTo>
                  <a:pt x="0" y="165"/>
                </a:moveTo>
                <a:cubicBezTo>
                  <a:pt x="21" y="100"/>
                  <a:pt x="7" y="126"/>
                  <a:pt x="36" y="83"/>
                </a:cubicBezTo>
                <a:cubicBezTo>
                  <a:pt x="39" y="74"/>
                  <a:pt x="37" y="61"/>
                  <a:pt x="45" y="55"/>
                </a:cubicBezTo>
                <a:cubicBezTo>
                  <a:pt x="61" y="44"/>
                  <a:pt x="82" y="43"/>
                  <a:pt x="100" y="37"/>
                </a:cubicBezTo>
                <a:cubicBezTo>
                  <a:pt x="137" y="25"/>
                  <a:pt x="173" y="12"/>
                  <a:pt x="210" y="0"/>
                </a:cubicBezTo>
                <a:cubicBezTo>
                  <a:pt x="253" y="3"/>
                  <a:pt x="296" y="4"/>
                  <a:pt x="338" y="9"/>
                </a:cubicBezTo>
                <a:cubicBezTo>
                  <a:pt x="378" y="14"/>
                  <a:pt x="412" y="47"/>
                  <a:pt x="448" y="64"/>
                </a:cubicBezTo>
                <a:cubicBezTo>
                  <a:pt x="501" y="90"/>
                  <a:pt x="584" y="95"/>
                  <a:pt x="640" y="101"/>
                </a:cubicBezTo>
                <a:cubicBezTo>
                  <a:pt x="708" y="146"/>
                  <a:pt x="797" y="124"/>
                  <a:pt x="877" y="137"/>
                </a:cubicBezTo>
                <a:cubicBezTo>
                  <a:pt x="984" y="175"/>
                  <a:pt x="1176" y="162"/>
                  <a:pt x="1261" y="165"/>
                </a:cubicBezTo>
                <a:cubicBezTo>
                  <a:pt x="1313" y="174"/>
                  <a:pt x="1366" y="185"/>
                  <a:pt x="1417" y="201"/>
                </a:cubicBezTo>
                <a:cubicBezTo>
                  <a:pt x="1497" y="190"/>
                  <a:pt x="1507" y="207"/>
                  <a:pt x="1581" y="220"/>
                </a:cubicBezTo>
                <a:cubicBezTo>
                  <a:pt x="1645" y="231"/>
                  <a:pt x="1746" y="235"/>
                  <a:pt x="1801" y="238"/>
                </a:cubicBezTo>
                <a:cubicBezTo>
                  <a:pt x="1910" y="260"/>
                  <a:pt x="2004" y="250"/>
                  <a:pt x="2112" y="238"/>
                </a:cubicBezTo>
                <a:cubicBezTo>
                  <a:pt x="2173" y="247"/>
                  <a:pt x="2234" y="250"/>
                  <a:pt x="2294" y="265"/>
                </a:cubicBezTo>
                <a:cubicBezTo>
                  <a:pt x="2340" y="262"/>
                  <a:pt x="2386" y="256"/>
                  <a:pt x="2432" y="256"/>
                </a:cubicBezTo>
                <a:cubicBezTo>
                  <a:pt x="2436" y="256"/>
                  <a:pt x="2482" y="274"/>
                  <a:pt x="2486" y="275"/>
                </a:cubicBezTo>
                <a:cubicBezTo>
                  <a:pt x="2531" y="288"/>
                  <a:pt x="2550" y="287"/>
                  <a:pt x="2605" y="293"/>
                </a:cubicBezTo>
                <a:cubicBezTo>
                  <a:pt x="2684" y="313"/>
                  <a:pt x="2653" y="311"/>
                  <a:pt x="2697" y="3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4543560" y="3048120"/>
            <a:ext cx="3917880" cy="304560"/>
          </a:xfrm>
          <a:custGeom>
            <a:avLst/>
            <a:gdLst/>
            <a:ahLst/>
            <a:rect l="l" t="t" r="r" b="b"/>
            <a:pathLst>
              <a:path w="2468" h="192">
                <a:moveTo>
                  <a:pt x="0" y="192"/>
                </a:moveTo>
                <a:cubicBezTo>
                  <a:pt x="124" y="151"/>
                  <a:pt x="115" y="155"/>
                  <a:pt x="283" y="146"/>
                </a:cubicBezTo>
                <a:cubicBezTo>
                  <a:pt x="345" y="126"/>
                  <a:pt x="365" y="130"/>
                  <a:pt x="439" y="137"/>
                </a:cubicBezTo>
                <a:cubicBezTo>
                  <a:pt x="541" y="157"/>
                  <a:pt x="532" y="154"/>
                  <a:pt x="676" y="146"/>
                </a:cubicBezTo>
                <a:cubicBezTo>
                  <a:pt x="799" y="107"/>
                  <a:pt x="944" y="107"/>
                  <a:pt x="1069" y="101"/>
                </a:cubicBezTo>
                <a:cubicBezTo>
                  <a:pt x="1395" y="42"/>
                  <a:pt x="1022" y="67"/>
                  <a:pt x="1700" y="55"/>
                </a:cubicBezTo>
                <a:cubicBezTo>
                  <a:pt x="1802" y="35"/>
                  <a:pt x="1915" y="53"/>
                  <a:pt x="2020" y="46"/>
                </a:cubicBezTo>
                <a:cubicBezTo>
                  <a:pt x="2058" y="37"/>
                  <a:pt x="2075" y="24"/>
                  <a:pt x="2112" y="37"/>
                </a:cubicBezTo>
                <a:cubicBezTo>
                  <a:pt x="2197" y="24"/>
                  <a:pt x="2272" y="7"/>
                  <a:pt x="2359" y="0"/>
                </a:cubicBezTo>
                <a:cubicBezTo>
                  <a:pt x="2407" y="10"/>
                  <a:pt x="2422" y="0"/>
                  <a:pt x="24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未知"/>
          <p:cNvSpPr/>
          <p:nvPr/>
        </p:nvSpPr>
        <p:spPr>
          <a:xfrm>
            <a:off x="5224320" y="3375000"/>
            <a:ext cx="3338640" cy="325440"/>
          </a:xfrm>
          <a:custGeom>
            <a:avLst/>
            <a:gdLst/>
            <a:ahLst/>
            <a:rect l="l" t="t" r="r" b="b"/>
            <a:pathLst>
              <a:path w="2103" h="205">
                <a:moveTo>
                  <a:pt x="0" y="41"/>
                </a:moveTo>
                <a:cubicBezTo>
                  <a:pt x="126" y="0"/>
                  <a:pt x="250" y="84"/>
                  <a:pt x="375" y="87"/>
                </a:cubicBezTo>
                <a:cubicBezTo>
                  <a:pt x="585" y="93"/>
                  <a:pt x="796" y="93"/>
                  <a:pt x="1006" y="96"/>
                </a:cubicBezTo>
                <a:cubicBezTo>
                  <a:pt x="1096" y="109"/>
                  <a:pt x="1048" y="100"/>
                  <a:pt x="1143" y="123"/>
                </a:cubicBezTo>
                <a:cubicBezTo>
                  <a:pt x="1155" y="126"/>
                  <a:pt x="1168" y="129"/>
                  <a:pt x="1180" y="132"/>
                </a:cubicBezTo>
                <a:cubicBezTo>
                  <a:pt x="1199" y="137"/>
                  <a:pt x="1235" y="151"/>
                  <a:pt x="1235" y="151"/>
                </a:cubicBezTo>
                <a:cubicBezTo>
                  <a:pt x="1393" y="141"/>
                  <a:pt x="1494" y="134"/>
                  <a:pt x="1655" y="141"/>
                </a:cubicBezTo>
                <a:cubicBezTo>
                  <a:pt x="1769" y="182"/>
                  <a:pt x="1879" y="173"/>
                  <a:pt x="2003" y="178"/>
                </a:cubicBezTo>
                <a:cubicBezTo>
                  <a:pt x="2036" y="189"/>
                  <a:pt x="2068" y="205"/>
                  <a:pt x="2103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5545080" y="3309840"/>
            <a:ext cx="2916360" cy="130320"/>
          </a:xfrm>
          <a:custGeom>
            <a:avLst/>
            <a:gdLst/>
            <a:ahLst/>
            <a:rect l="l" t="t" r="r" b="b"/>
            <a:pathLst>
              <a:path w="1837" h="82">
                <a:moveTo>
                  <a:pt x="0" y="36"/>
                </a:moveTo>
                <a:cubicBezTo>
                  <a:pt x="74" y="61"/>
                  <a:pt x="156" y="42"/>
                  <a:pt x="228" y="18"/>
                </a:cubicBezTo>
                <a:cubicBezTo>
                  <a:pt x="389" y="30"/>
                  <a:pt x="526" y="40"/>
                  <a:pt x="694" y="45"/>
                </a:cubicBezTo>
                <a:cubicBezTo>
                  <a:pt x="782" y="28"/>
                  <a:pt x="871" y="11"/>
                  <a:pt x="960" y="0"/>
                </a:cubicBezTo>
                <a:cubicBezTo>
                  <a:pt x="1073" y="9"/>
                  <a:pt x="1185" y="18"/>
                  <a:pt x="1298" y="27"/>
                </a:cubicBezTo>
                <a:cubicBezTo>
                  <a:pt x="1464" y="82"/>
                  <a:pt x="1355" y="49"/>
                  <a:pt x="1773" y="27"/>
                </a:cubicBezTo>
                <a:cubicBezTo>
                  <a:pt x="1792" y="26"/>
                  <a:pt x="1809" y="9"/>
                  <a:pt x="1828" y="9"/>
                </a:cubicBezTo>
                <a:cubicBezTo>
                  <a:pt x="1831" y="9"/>
                  <a:pt x="1834" y="9"/>
                  <a:pt x="1837" y="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未知"/>
          <p:cNvSpPr/>
          <p:nvPr/>
        </p:nvSpPr>
        <p:spPr>
          <a:xfrm>
            <a:off x="4378320" y="5116680"/>
            <a:ext cx="4316400" cy="428400"/>
          </a:xfrm>
          <a:custGeom>
            <a:avLst/>
            <a:gdLst/>
            <a:ahLst/>
            <a:rect l="l" t="t" r="r" b="b"/>
            <a:pathLst>
              <a:path w="2719" h="270">
                <a:moveTo>
                  <a:pt x="31" y="270"/>
                </a:moveTo>
                <a:cubicBezTo>
                  <a:pt x="14" y="223"/>
                  <a:pt x="0" y="135"/>
                  <a:pt x="49" y="105"/>
                </a:cubicBezTo>
                <a:cubicBezTo>
                  <a:pt x="65" y="95"/>
                  <a:pt x="86" y="93"/>
                  <a:pt x="104" y="87"/>
                </a:cubicBezTo>
                <a:cubicBezTo>
                  <a:pt x="113" y="84"/>
                  <a:pt x="131" y="78"/>
                  <a:pt x="131" y="78"/>
                </a:cubicBezTo>
                <a:cubicBezTo>
                  <a:pt x="222" y="86"/>
                  <a:pt x="288" y="96"/>
                  <a:pt x="378" y="87"/>
                </a:cubicBezTo>
                <a:cubicBezTo>
                  <a:pt x="396" y="93"/>
                  <a:pt x="415" y="99"/>
                  <a:pt x="433" y="105"/>
                </a:cubicBezTo>
                <a:cubicBezTo>
                  <a:pt x="442" y="108"/>
                  <a:pt x="460" y="114"/>
                  <a:pt x="460" y="114"/>
                </a:cubicBezTo>
                <a:cubicBezTo>
                  <a:pt x="501" y="100"/>
                  <a:pt x="530" y="83"/>
                  <a:pt x="570" y="68"/>
                </a:cubicBezTo>
                <a:cubicBezTo>
                  <a:pt x="613" y="113"/>
                  <a:pt x="657" y="87"/>
                  <a:pt x="707" y="68"/>
                </a:cubicBezTo>
                <a:cubicBezTo>
                  <a:pt x="753" y="80"/>
                  <a:pt x="790" y="74"/>
                  <a:pt x="835" y="59"/>
                </a:cubicBezTo>
                <a:cubicBezTo>
                  <a:pt x="844" y="65"/>
                  <a:pt x="852" y="76"/>
                  <a:pt x="863" y="78"/>
                </a:cubicBezTo>
                <a:cubicBezTo>
                  <a:pt x="872" y="80"/>
                  <a:pt x="881" y="71"/>
                  <a:pt x="890" y="68"/>
                </a:cubicBezTo>
                <a:cubicBezTo>
                  <a:pt x="974" y="44"/>
                  <a:pt x="961" y="50"/>
                  <a:pt x="1055" y="41"/>
                </a:cubicBezTo>
                <a:cubicBezTo>
                  <a:pt x="1113" y="44"/>
                  <a:pt x="1170" y="45"/>
                  <a:pt x="1228" y="50"/>
                </a:cubicBezTo>
                <a:cubicBezTo>
                  <a:pt x="1238" y="51"/>
                  <a:pt x="1246" y="59"/>
                  <a:pt x="1256" y="59"/>
                </a:cubicBezTo>
                <a:cubicBezTo>
                  <a:pt x="1283" y="59"/>
                  <a:pt x="1312" y="32"/>
                  <a:pt x="1338" y="23"/>
                </a:cubicBezTo>
                <a:cubicBezTo>
                  <a:pt x="1397" y="63"/>
                  <a:pt x="1472" y="63"/>
                  <a:pt x="1539" y="41"/>
                </a:cubicBezTo>
                <a:cubicBezTo>
                  <a:pt x="1551" y="44"/>
                  <a:pt x="1563" y="50"/>
                  <a:pt x="1576" y="50"/>
                </a:cubicBezTo>
                <a:cubicBezTo>
                  <a:pt x="1585" y="50"/>
                  <a:pt x="1594" y="40"/>
                  <a:pt x="1603" y="41"/>
                </a:cubicBezTo>
                <a:cubicBezTo>
                  <a:pt x="1622" y="43"/>
                  <a:pt x="1658" y="59"/>
                  <a:pt x="1658" y="59"/>
                </a:cubicBezTo>
                <a:cubicBezTo>
                  <a:pt x="1685" y="50"/>
                  <a:pt x="1713" y="41"/>
                  <a:pt x="1740" y="32"/>
                </a:cubicBezTo>
                <a:cubicBezTo>
                  <a:pt x="1749" y="29"/>
                  <a:pt x="1768" y="23"/>
                  <a:pt x="1768" y="23"/>
                </a:cubicBezTo>
                <a:cubicBezTo>
                  <a:pt x="1820" y="58"/>
                  <a:pt x="1768" y="32"/>
                  <a:pt x="1850" y="32"/>
                </a:cubicBezTo>
                <a:cubicBezTo>
                  <a:pt x="1866" y="32"/>
                  <a:pt x="1881" y="38"/>
                  <a:pt x="1896" y="41"/>
                </a:cubicBezTo>
                <a:cubicBezTo>
                  <a:pt x="1977" y="14"/>
                  <a:pt x="1932" y="21"/>
                  <a:pt x="2033" y="32"/>
                </a:cubicBezTo>
                <a:cubicBezTo>
                  <a:pt x="2082" y="0"/>
                  <a:pt x="2081" y="31"/>
                  <a:pt x="2133" y="14"/>
                </a:cubicBezTo>
                <a:cubicBezTo>
                  <a:pt x="2188" y="25"/>
                  <a:pt x="2234" y="12"/>
                  <a:pt x="2289" y="23"/>
                </a:cubicBezTo>
                <a:cubicBezTo>
                  <a:pt x="2332" y="52"/>
                  <a:pt x="2306" y="44"/>
                  <a:pt x="2371" y="23"/>
                </a:cubicBezTo>
                <a:cubicBezTo>
                  <a:pt x="2380" y="20"/>
                  <a:pt x="2399" y="14"/>
                  <a:pt x="2399" y="14"/>
                </a:cubicBezTo>
                <a:cubicBezTo>
                  <a:pt x="2432" y="17"/>
                  <a:pt x="2467" y="13"/>
                  <a:pt x="2499" y="23"/>
                </a:cubicBezTo>
                <a:cubicBezTo>
                  <a:pt x="2573" y="47"/>
                  <a:pt x="2418" y="72"/>
                  <a:pt x="2545" y="41"/>
                </a:cubicBezTo>
                <a:cubicBezTo>
                  <a:pt x="2554" y="35"/>
                  <a:pt x="2564" y="30"/>
                  <a:pt x="2572" y="23"/>
                </a:cubicBezTo>
                <a:cubicBezTo>
                  <a:pt x="2579" y="17"/>
                  <a:pt x="2582" y="5"/>
                  <a:pt x="2591" y="4"/>
                </a:cubicBezTo>
                <a:cubicBezTo>
                  <a:pt x="2634" y="1"/>
                  <a:pt x="2676" y="14"/>
                  <a:pt x="2719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9" name="未知"/>
          <p:cNvSpPr/>
          <p:nvPr/>
        </p:nvSpPr>
        <p:spPr>
          <a:xfrm>
            <a:off x="4470480" y="5396040"/>
            <a:ext cx="4208400" cy="177840"/>
          </a:xfrm>
          <a:custGeom>
            <a:avLst/>
            <a:gdLst/>
            <a:ahLst/>
            <a:rect l="l" t="t" r="r" b="b"/>
            <a:pathLst>
              <a:path w="2651" h="112">
                <a:moveTo>
                  <a:pt x="0" y="112"/>
                </a:moveTo>
                <a:cubicBezTo>
                  <a:pt x="13" y="33"/>
                  <a:pt x="9" y="69"/>
                  <a:pt x="55" y="20"/>
                </a:cubicBezTo>
                <a:cubicBezTo>
                  <a:pt x="153" y="27"/>
                  <a:pt x="198" y="34"/>
                  <a:pt x="283" y="48"/>
                </a:cubicBezTo>
                <a:cubicBezTo>
                  <a:pt x="320" y="43"/>
                  <a:pt x="356" y="28"/>
                  <a:pt x="393" y="30"/>
                </a:cubicBezTo>
                <a:cubicBezTo>
                  <a:pt x="430" y="32"/>
                  <a:pt x="503" y="48"/>
                  <a:pt x="503" y="48"/>
                </a:cubicBezTo>
                <a:cubicBezTo>
                  <a:pt x="695" y="21"/>
                  <a:pt x="879" y="44"/>
                  <a:pt x="1070" y="57"/>
                </a:cubicBezTo>
                <a:cubicBezTo>
                  <a:pt x="1131" y="77"/>
                  <a:pt x="1056" y="57"/>
                  <a:pt x="1152" y="57"/>
                </a:cubicBezTo>
                <a:cubicBezTo>
                  <a:pt x="1174" y="57"/>
                  <a:pt x="1195" y="63"/>
                  <a:pt x="1216" y="66"/>
                </a:cubicBezTo>
                <a:cubicBezTo>
                  <a:pt x="1293" y="40"/>
                  <a:pt x="1176" y="77"/>
                  <a:pt x="1353" y="48"/>
                </a:cubicBezTo>
                <a:cubicBezTo>
                  <a:pt x="1372" y="45"/>
                  <a:pt x="1408" y="30"/>
                  <a:pt x="1408" y="30"/>
                </a:cubicBezTo>
                <a:cubicBezTo>
                  <a:pt x="1475" y="52"/>
                  <a:pt x="1549" y="52"/>
                  <a:pt x="1618" y="57"/>
                </a:cubicBezTo>
                <a:cubicBezTo>
                  <a:pt x="1676" y="67"/>
                  <a:pt x="1713" y="58"/>
                  <a:pt x="1774" y="66"/>
                </a:cubicBezTo>
                <a:cubicBezTo>
                  <a:pt x="1905" y="44"/>
                  <a:pt x="1742" y="66"/>
                  <a:pt x="1902" y="66"/>
                </a:cubicBezTo>
                <a:cubicBezTo>
                  <a:pt x="1945" y="66"/>
                  <a:pt x="1988" y="44"/>
                  <a:pt x="2030" y="39"/>
                </a:cubicBezTo>
                <a:cubicBezTo>
                  <a:pt x="2066" y="34"/>
                  <a:pt x="2103" y="34"/>
                  <a:pt x="2139" y="30"/>
                </a:cubicBezTo>
                <a:cubicBezTo>
                  <a:pt x="2160" y="28"/>
                  <a:pt x="2182" y="23"/>
                  <a:pt x="2203" y="20"/>
                </a:cubicBezTo>
                <a:cubicBezTo>
                  <a:pt x="2264" y="0"/>
                  <a:pt x="2193" y="17"/>
                  <a:pt x="2286" y="30"/>
                </a:cubicBezTo>
                <a:cubicBezTo>
                  <a:pt x="2520" y="63"/>
                  <a:pt x="2414" y="52"/>
                  <a:pt x="2606" y="66"/>
                </a:cubicBezTo>
                <a:cubicBezTo>
                  <a:pt x="2621" y="69"/>
                  <a:pt x="2651" y="75"/>
                  <a:pt x="2651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未知"/>
          <p:cNvSpPr/>
          <p:nvPr/>
        </p:nvSpPr>
        <p:spPr>
          <a:xfrm>
            <a:off x="5435640" y="5229360"/>
            <a:ext cx="3135240" cy="212760"/>
          </a:xfrm>
          <a:custGeom>
            <a:avLst/>
            <a:gdLst/>
            <a:ahLst/>
            <a:rect l="l" t="t" r="r" b="b"/>
            <a:pathLst>
              <a:path w="1975" h="134">
                <a:moveTo>
                  <a:pt x="0" y="74"/>
                </a:moveTo>
                <a:cubicBezTo>
                  <a:pt x="176" y="87"/>
                  <a:pt x="174" y="91"/>
                  <a:pt x="393" y="83"/>
                </a:cubicBezTo>
                <a:cubicBezTo>
                  <a:pt x="429" y="71"/>
                  <a:pt x="414" y="71"/>
                  <a:pt x="457" y="83"/>
                </a:cubicBezTo>
                <a:cubicBezTo>
                  <a:pt x="476" y="88"/>
                  <a:pt x="512" y="101"/>
                  <a:pt x="512" y="101"/>
                </a:cubicBezTo>
                <a:cubicBezTo>
                  <a:pt x="546" y="92"/>
                  <a:pt x="570" y="76"/>
                  <a:pt x="603" y="65"/>
                </a:cubicBezTo>
                <a:cubicBezTo>
                  <a:pt x="635" y="75"/>
                  <a:pt x="663" y="91"/>
                  <a:pt x="695" y="101"/>
                </a:cubicBezTo>
                <a:cubicBezTo>
                  <a:pt x="736" y="87"/>
                  <a:pt x="727" y="69"/>
                  <a:pt x="768" y="56"/>
                </a:cubicBezTo>
                <a:cubicBezTo>
                  <a:pt x="804" y="65"/>
                  <a:pt x="828" y="72"/>
                  <a:pt x="859" y="92"/>
                </a:cubicBezTo>
                <a:cubicBezTo>
                  <a:pt x="927" y="79"/>
                  <a:pt x="909" y="61"/>
                  <a:pt x="978" y="74"/>
                </a:cubicBezTo>
                <a:cubicBezTo>
                  <a:pt x="980" y="75"/>
                  <a:pt x="1025" y="109"/>
                  <a:pt x="1033" y="101"/>
                </a:cubicBezTo>
                <a:cubicBezTo>
                  <a:pt x="1059" y="75"/>
                  <a:pt x="1045" y="33"/>
                  <a:pt x="1079" y="1"/>
                </a:cubicBezTo>
                <a:cubicBezTo>
                  <a:pt x="1119" y="14"/>
                  <a:pt x="1149" y="41"/>
                  <a:pt x="1188" y="56"/>
                </a:cubicBezTo>
                <a:cubicBezTo>
                  <a:pt x="1196" y="54"/>
                  <a:pt x="1248" y="45"/>
                  <a:pt x="1261" y="37"/>
                </a:cubicBezTo>
                <a:cubicBezTo>
                  <a:pt x="1324" y="0"/>
                  <a:pt x="1232" y="35"/>
                  <a:pt x="1307" y="10"/>
                </a:cubicBezTo>
                <a:cubicBezTo>
                  <a:pt x="1325" y="16"/>
                  <a:pt x="1352" y="12"/>
                  <a:pt x="1362" y="28"/>
                </a:cubicBezTo>
                <a:cubicBezTo>
                  <a:pt x="1385" y="64"/>
                  <a:pt x="1369" y="53"/>
                  <a:pt x="1408" y="65"/>
                </a:cubicBezTo>
                <a:cubicBezTo>
                  <a:pt x="1441" y="30"/>
                  <a:pt x="1438" y="18"/>
                  <a:pt x="1481" y="46"/>
                </a:cubicBezTo>
                <a:cubicBezTo>
                  <a:pt x="1510" y="91"/>
                  <a:pt x="1527" y="92"/>
                  <a:pt x="1581" y="101"/>
                </a:cubicBezTo>
                <a:cubicBezTo>
                  <a:pt x="1616" y="93"/>
                  <a:pt x="1638" y="90"/>
                  <a:pt x="1664" y="65"/>
                </a:cubicBezTo>
                <a:cubicBezTo>
                  <a:pt x="1673" y="68"/>
                  <a:pt x="1683" y="68"/>
                  <a:pt x="1691" y="74"/>
                </a:cubicBezTo>
                <a:cubicBezTo>
                  <a:pt x="1708" y="87"/>
                  <a:pt x="1737" y="120"/>
                  <a:pt x="1737" y="120"/>
                </a:cubicBezTo>
                <a:cubicBezTo>
                  <a:pt x="1814" y="92"/>
                  <a:pt x="1720" y="134"/>
                  <a:pt x="1773" y="83"/>
                </a:cubicBezTo>
                <a:cubicBezTo>
                  <a:pt x="1777" y="79"/>
                  <a:pt x="1837" y="65"/>
                  <a:pt x="1837" y="65"/>
                </a:cubicBezTo>
                <a:cubicBezTo>
                  <a:pt x="1852" y="68"/>
                  <a:pt x="1868" y="70"/>
                  <a:pt x="1883" y="74"/>
                </a:cubicBezTo>
                <a:cubicBezTo>
                  <a:pt x="1902" y="79"/>
                  <a:pt x="1938" y="92"/>
                  <a:pt x="1938" y="92"/>
                </a:cubicBezTo>
                <a:cubicBezTo>
                  <a:pt x="1969" y="82"/>
                  <a:pt x="1958" y="89"/>
                  <a:pt x="1975" y="7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47105"/>
          <p:cNvGrpSpPr/>
          <p:nvPr/>
        </p:nvGrpSpPr>
        <p:grpSpPr>
          <a:xfrm>
            <a:off x="1763640" y="1413000"/>
            <a:ext cx="1371600" cy="1585800"/>
            <a:chOff x="1763640" y="1413000"/>
            <a:chExt cx="1371600" cy="1585800"/>
          </a:xfrm>
        </p:grpSpPr>
        <p:sp>
          <p:nvSpPr>
            <p:cNvPr id="502" name="矩形 47106"/>
            <p:cNvSpPr/>
            <p:nvPr/>
          </p:nvSpPr>
          <p:spPr>
            <a:xfrm>
              <a:off x="1763640" y="1413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直接连接符 47107"/>
            <p:cNvSpPr/>
            <p:nvPr/>
          </p:nvSpPr>
          <p:spPr>
            <a:xfrm flipV="1">
              <a:off x="1992240" y="1512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直接连接符 47108"/>
            <p:cNvSpPr/>
            <p:nvPr/>
          </p:nvSpPr>
          <p:spPr>
            <a:xfrm>
              <a:off x="1992240" y="2800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直接连接符 47109"/>
            <p:cNvSpPr/>
            <p:nvPr/>
          </p:nvSpPr>
          <p:spPr>
            <a:xfrm>
              <a:off x="1992240" y="1710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6" name="文本框 47110"/>
            <p:cNvSpPr/>
            <p:nvPr/>
          </p:nvSpPr>
          <p:spPr>
            <a:xfrm>
              <a:off x="1763640" y="1413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7" name="文本框 47111"/>
            <p:cNvSpPr/>
            <p:nvPr/>
          </p:nvSpPr>
          <p:spPr>
            <a:xfrm>
              <a:off x="2906640" y="2701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8" name="直接连接符 47112"/>
            <p:cNvSpPr/>
            <p:nvPr/>
          </p:nvSpPr>
          <p:spPr>
            <a:xfrm flipV="1">
              <a:off x="2220840" y="2404080"/>
              <a:ext cx="45684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9" name="直接连接符 47113"/>
            <p:cNvSpPr/>
            <p:nvPr/>
          </p:nvSpPr>
          <p:spPr>
            <a:xfrm flipH="1" flipV="1">
              <a:off x="2334960" y="1908000"/>
              <a:ext cx="342720" cy="49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0" name="组合 47114"/>
          <p:cNvGrpSpPr/>
          <p:nvPr/>
        </p:nvGrpSpPr>
        <p:grpSpPr>
          <a:xfrm>
            <a:off x="1763640" y="3645000"/>
            <a:ext cx="1371600" cy="1585800"/>
            <a:chOff x="1763640" y="3645000"/>
            <a:chExt cx="1371600" cy="1585800"/>
          </a:xfrm>
        </p:grpSpPr>
        <p:sp>
          <p:nvSpPr>
            <p:cNvPr id="511" name="矩形 47115"/>
            <p:cNvSpPr/>
            <p:nvPr/>
          </p:nvSpPr>
          <p:spPr>
            <a:xfrm>
              <a:off x="1763640" y="3645000"/>
              <a:ext cx="1371600" cy="1585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2" name="直接连接符 47116"/>
            <p:cNvSpPr/>
            <p:nvPr/>
          </p:nvSpPr>
          <p:spPr>
            <a:xfrm flipV="1">
              <a:off x="1992240" y="3744000"/>
              <a:ext cx="0" cy="12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3" name="直接连接符 47117"/>
            <p:cNvSpPr/>
            <p:nvPr/>
          </p:nvSpPr>
          <p:spPr>
            <a:xfrm>
              <a:off x="1992240" y="5032440"/>
              <a:ext cx="9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4" name="直接连接符 47118"/>
            <p:cNvSpPr/>
            <p:nvPr/>
          </p:nvSpPr>
          <p:spPr>
            <a:xfrm>
              <a:off x="1992240" y="3942360"/>
              <a:ext cx="457560" cy="1089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5" name="文本框 47119"/>
            <p:cNvSpPr/>
            <p:nvPr/>
          </p:nvSpPr>
          <p:spPr>
            <a:xfrm>
              <a:off x="1763640" y="3645000"/>
              <a:ext cx="228600" cy="297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Z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6" name="文本框 47120"/>
            <p:cNvSpPr/>
            <p:nvPr/>
          </p:nvSpPr>
          <p:spPr>
            <a:xfrm>
              <a:off x="2906640" y="4933800"/>
              <a:ext cx="228600" cy="296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imes New Roman"/>
                </a:rPr>
                <a:t>T</a:t>
              </a: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7" name="直接连接符 47121"/>
            <p:cNvSpPr/>
            <p:nvPr/>
          </p:nvSpPr>
          <p:spPr>
            <a:xfrm flipV="1">
              <a:off x="2334960" y="4140000"/>
              <a:ext cx="45756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18" name="直接连接符 47122"/>
            <p:cNvSpPr/>
            <p:nvPr/>
          </p:nvSpPr>
          <p:spPr>
            <a:xfrm flipH="1" flipV="1">
              <a:off x="2334960" y="4536720"/>
              <a:ext cx="342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19" name="文本框 47123"/>
          <p:cNvSpPr/>
          <p:nvPr/>
        </p:nvSpPr>
        <p:spPr>
          <a:xfrm>
            <a:off x="468360" y="414972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熏烟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0" name="文本框 47124"/>
          <p:cNvSpPr/>
          <p:nvPr/>
        </p:nvSpPr>
        <p:spPr>
          <a:xfrm>
            <a:off x="468360" y="2060640"/>
            <a:ext cx="863640" cy="3373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爬升型</a:t>
            </a:r>
            <a:endParaRPr b="1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21" name="组合 47125"/>
          <p:cNvGrpSpPr/>
          <p:nvPr/>
        </p:nvGrpSpPr>
        <p:grpSpPr>
          <a:xfrm>
            <a:off x="3708360" y="1484280"/>
            <a:ext cx="5029200" cy="1486080"/>
            <a:chOff x="3708360" y="1484280"/>
            <a:chExt cx="5029200" cy="1486080"/>
          </a:xfrm>
        </p:grpSpPr>
        <p:sp>
          <p:nvSpPr>
            <p:cNvPr id="522" name="矩形 47126"/>
            <p:cNvSpPr/>
            <p:nvPr/>
          </p:nvSpPr>
          <p:spPr>
            <a:xfrm>
              <a:off x="3708360" y="1484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3" name="直接连接符 47127"/>
            <p:cNvSpPr/>
            <p:nvPr/>
          </p:nvSpPr>
          <p:spPr>
            <a:xfrm>
              <a:off x="3708360" y="2772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4" name="直接连接符 47128"/>
            <p:cNvSpPr/>
            <p:nvPr/>
          </p:nvSpPr>
          <p:spPr>
            <a:xfrm flipV="1">
              <a:off x="439416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5" name="直接连接符 47129"/>
            <p:cNvSpPr/>
            <p:nvPr/>
          </p:nvSpPr>
          <p:spPr>
            <a:xfrm>
              <a:off x="4394160" y="2474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6" name="直接连接符 47130"/>
            <p:cNvSpPr/>
            <p:nvPr/>
          </p:nvSpPr>
          <p:spPr>
            <a:xfrm>
              <a:off x="4507920" y="2474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27" name="组合 47131"/>
          <p:cNvGrpSpPr/>
          <p:nvPr/>
        </p:nvGrpSpPr>
        <p:grpSpPr>
          <a:xfrm>
            <a:off x="3708360" y="3716280"/>
            <a:ext cx="5029200" cy="1486080"/>
            <a:chOff x="3708360" y="3716280"/>
            <a:chExt cx="5029200" cy="1486080"/>
          </a:xfrm>
        </p:grpSpPr>
        <p:sp>
          <p:nvSpPr>
            <p:cNvPr id="528" name="矩形 47132"/>
            <p:cNvSpPr/>
            <p:nvPr/>
          </p:nvSpPr>
          <p:spPr>
            <a:xfrm>
              <a:off x="3708360" y="3716280"/>
              <a:ext cx="5029200" cy="1486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9" name="直接连接符 47133"/>
            <p:cNvSpPr/>
            <p:nvPr/>
          </p:nvSpPr>
          <p:spPr>
            <a:xfrm>
              <a:off x="3708360" y="5004000"/>
              <a:ext cx="502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0" name="直接连接符 47134"/>
            <p:cNvSpPr/>
            <p:nvPr/>
          </p:nvSpPr>
          <p:spPr>
            <a:xfrm flipV="1">
              <a:off x="439416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1" name="直接连接符 47135"/>
            <p:cNvSpPr/>
            <p:nvPr/>
          </p:nvSpPr>
          <p:spPr>
            <a:xfrm>
              <a:off x="4394160" y="470628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2" name="直接连接符 47136"/>
            <p:cNvSpPr/>
            <p:nvPr/>
          </p:nvSpPr>
          <p:spPr>
            <a:xfrm>
              <a:off x="4507920" y="47062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5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33" name="文本框 47137"/>
          <p:cNvSpPr/>
          <p:nvPr/>
        </p:nvSpPr>
        <p:spPr>
          <a:xfrm>
            <a:off x="2700360" y="2602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39e"/>
                </a:solidFill>
                <a:latin typeface="Arial"/>
                <a:ea typeface="楷体_GB2312"/>
              </a:rPr>
              <a:t>温度层结与烟流形状  </a:t>
            </a:r>
            <a:endParaRPr b="1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4" name="未知"/>
          <p:cNvSpPr/>
          <p:nvPr/>
        </p:nvSpPr>
        <p:spPr>
          <a:xfrm>
            <a:off x="4456080" y="2246400"/>
            <a:ext cx="4222800" cy="206280"/>
          </a:xfrm>
          <a:custGeom>
            <a:avLst/>
            <a:gdLst/>
            <a:ahLst/>
            <a:rect l="l" t="t" r="r" b="b"/>
            <a:pathLst>
              <a:path w="2660" h="130">
                <a:moveTo>
                  <a:pt x="0" y="130"/>
                </a:moveTo>
                <a:cubicBezTo>
                  <a:pt x="16" y="83"/>
                  <a:pt x="53" y="55"/>
                  <a:pt x="100" y="39"/>
                </a:cubicBezTo>
                <a:cubicBezTo>
                  <a:pt x="196" y="45"/>
                  <a:pt x="292" y="45"/>
                  <a:pt x="384" y="75"/>
                </a:cubicBezTo>
                <a:cubicBezTo>
                  <a:pt x="460" y="72"/>
                  <a:pt x="536" y="73"/>
                  <a:pt x="612" y="66"/>
                </a:cubicBezTo>
                <a:cubicBezTo>
                  <a:pt x="631" y="64"/>
                  <a:pt x="649" y="54"/>
                  <a:pt x="667" y="48"/>
                </a:cubicBezTo>
                <a:cubicBezTo>
                  <a:pt x="676" y="45"/>
                  <a:pt x="695" y="39"/>
                  <a:pt x="695" y="39"/>
                </a:cubicBezTo>
                <a:cubicBezTo>
                  <a:pt x="725" y="8"/>
                  <a:pt x="730" y="27"/>
                  <a:pt x="768" y="39"/>
                </a:cubicBezTo>
                <a:cubicBezTo>
                  <a:pt x="867" y="27"/>
                  <a:pt x="896" y="21"/>
                  <a:pt x="1006" y="30"/>
                </a:cubicBezTo>
                <a:cubicBezTo>
                  <a:pt x="1075" y="53"/>
                  <a:pt x="1146" y="53"/>
                  <a:pt x="1216" y="39"/>
                </a:cubicBezTo>
                <a:cubicBezTo>
                  <a:pt x="1222" y="33"/>
                  <a:pt x="1225" y="20"/>
                  <a:pt x="1234" y="20"/>
                </a:cubicBezTo>
                <a:cubicBezTo>
                  <a:pt x="1253" y="20"/>
                  <a:pt x="1289" y="39"/>
                  <a:pt x="1289" y="39"/>
                </a:cubicBezTo>
                <a:cubicBezTo>
                  <a:pt x="1298" y="33"/>
                  <a:pt x="1306" y="25"/>
                  <a:pt x="1316" y="20"/>
                </a:cubicBezTo>
                <a:cubicBezTo>
                  <a:pt x="1334" y="12"/>
                  <a:pt x="1371" y="2"/>
                  <a:pt x="1371" y="2"/>
                </a:cubicBezTo>
                <a:cubicBezTo>
                  <a:pt x="1408" y="37"/>
                  <a:pt x="1369" y="11"/>
                  <a:pt x="1417" y="11"/>
                </a:cubicBezTo>
                <a:cubicBezTo>
                  <a:pt x="1443" y="11"/>
                  <a:pt x="1466" y="21"/>
                  <a:pt x="1490" y="30"/>
                </a:cubicBezTo>
                <a:cubicBezTo>
                  <a:pt x="1559" y="6"/>
                  <a:pt x="1566" y="8"/>
                  <a:pt x="1627" y="48"/>
                </a:cubicBezTo>
                <a:cubicBezTo>
                  <a:pt x="1678" y="0"/>
                  <a:pt x="1681" y="12"/>
                  <a:pt x="1746" y="30"/>
                </a:cubicBezTo>
                <a:cubicBezTo>
                  <a:pt x="1813" y="73"/>
                  <a:pt x="1738" y="38"/>
                  <a:pt x="1792" y="20"/>
                </a:cubicBezTo>
                <a:cubicBezTo>
                  <a:pt x="1804" y="16"/>
                  <a:pt x="1816" y="27"/>
                  <a:pt x="1828" y="30"/>
                </a:cubicBezTo>
                <a:cubicBezTo>
                  <a:pt x="1871" y="71"/>
                  <a:pt x="1882" y="60"/>
                  <a:pt x="1920" y="20"/>
                </a:cubicBezTo>
                <a:cubicBezTo>
                  <a:pt x="2020" y="48"/>
                  <a:pt x="1870" y="11"/>
                  <a:pt x="2020" y="20"/>
                </a:cubicBezTo>
                <a:cubicBezTo>
                  <a:pt x="2067" y="23"/>
                  <a:pt x="2099" y="35"/>
                  <a:pt x="2139" y="48"/>
                </a:cubicBezTo>
                <a:cubicBezTo>
                  <a:pt x="2160" y="45"/>
                  <a:pt x="2181" y="39"/>
                  <a:pt x="2203" y="39"/>
                </a:cubicBezTo>
                <a:cubicBezTo>
                  <a:pt x="2283" y="39"/>
                  <a:pt x="2203" y="60"/>
                  <a:pt x="2267" y="39"/>
                </a:cubicBezTo>
                <a:cubicBezTo>
                  <a:pt x="2315" y="51"/>
                  <a:pt x="2327" y="58"/>
                  <a:pt x="2377" y="48"/>
                </a:cubicBezTo>
                <a:cubicBezTo>
                  <a:pt x="2386" y="51"/>
                  <a:pt x="2395" y="58"/>
                  <a:pt x="2404" y="57"/>
                </a:cubicBezTo>
                <a:cubicBezTo>
                  <a:pt x="2429" y="55"/>
                  <a:pt x="2478" y="39"/>
                  <a:pt x="2478" y="39"/>
                </a:cubicBezTo>
                <a:cubicBezTo>
                  <a:pt x="2487" y="33"/>
                  <a:pt x="2517" y="8"/>
                  <a:pt x="2532" y="11"/>
                </a:cubicBezTo>
                <a:cubicBezTo>
                  <a:pt x="2541" y="13"/>
                  <a:pt x="2543" y="26"/>
                  <a:pt x="2551" y="30"/>
                </a:cubicBezTo>
                <a:cubicBezTo>
                  <a:pt x="2598" y="54"/>
                  <a:pt x="2610" y="48"/>
                  <a:pt x="266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4427640" y="1495440"/>
            <a:ext cx="4194000" cy="914400"/>
          </a:xfrm>
          <a:custGeom>
            <a:avLst/>
            <a:gdLst/>
            <a:ahLst/>
            <a:rect l="l" t="t" r="r" b="b"/>
            <a:pathLst>
              <a:path w="2642" h="576">
                <a:moveTo>
                  <a:pt x="0" y="576"/>
                </a:moveTo>
                <a:cubicBezTo>
                  <a:pt x="6" y="570"/>
                  <a:pt x="14" y="565"/>
                  <a:pt x="18" y="557"/>
                </a:cubicBezTo>
                <a:cubicBezTo>
                  <a:pt x="23" y="549"/>
                  <a:pt x="21" y="537"/>
                  <a:pt x="27" y="530"/>
                </a:cubicBezTo>
                <a:cubicBezTo>
                  <a:pt x="34" y="522"/>
                  <a:pt x="46" y="519"/>
                  <a:pt x="54" y="512"/>
                </a:cubicBezTo>
                <a:cubicBezTo>
                  <a:pt x="76" y="494"/>
                  <a:pt x="71" y="487"/>
                  <a:pt x="100" y="475"/>
                </a:cubicBezTo>
                <a:cubicBezTo>
                  <a:pt x="147" y="455"/>
                  <a:pt x="125" y="476"/>
                  <a:pt x="164" y="457"/>
                </a:cubicBezTo>
                <a:cubicBezTo>
                  <a:pt x="246" y="417"/>
                  <a:pt x="142" y="457"/>
                  <a:pt x="219" y="429"/>
                </a:cubicBezTo>
                <a:cubicBezTo>
                  <a:pt x="267" y="447"/>
                  <a:pt x="309" y="426"/>
                  <a:pt x="356" y="411"/>
                </a:cubicBezTo>
                <a:cubicBezTo>
                  <a:pt x="374" y="405"/>
                  <a:pt x="411" y="393"/>
                  <a:pt x="411" y="393"/>
                </a:cubicBezTo>
                <a:cubicBezTo>
                  <a:pt x="475" y="414"/>
                  <a:pt x="448" y="417"/>
                  <a:pt x="493" y="402"/>
                </a:cubicBezTo>
                <a:cubicBezTo>
                  <a:pt x="526" y="371"/>
                  <a:pt x="504" y="381"/>
                  <a:pt x="566" y="402"/>
                </a:cubicBezTo>
                <a:cubicBezTo>
                  <a:pt x="575" y="405"/>
                  <a:pt x="585" y="408"/>
                  <a:pt x="594" y="411"/>
                </a:cubicBezTo>
                <a:cubicBezTo>
                  <a:pt x="603" y="414"/>
                  <a:pt x="621" y="420"/>
                  <a:pt x="621" y="420"/>
                </a:cubicBezTo>
                <a:cubicBezTo>
                  <a:pt x="642" y="417"/>
                  <a:pt x="665" y="418"/>
                  <a:pt x="685" y="411"/>
                </a:cubicBezTo>
                <a:cubicBezTo>
                  <a:pt x="693" y="408"/>
                  <a:pt x="697" y="398"/>
                  <a:pt x="704" y="393"/>
                </a:cubicBezTo>
                <a:cubicBezTo>
                  <a:pt x="729" y="373"/>
                  <a:pt x="730" y="376"/>
                  <a:pt x="758" y="365"/>
                </a:cubicBezTo>
                <a:cubicBezTo>
                  <a:pt x="802" y="409"/>
                  <a:pt x="869" y="377"/>
                  <a:pt x="923" y="365"/>
                </a:cubicBezTo>
                <a:cubicBezTo>
                  <a:pt x="926" y="366"/>
                  <a:pt x="974" y="384"/>
                  <a:pt x="978" y="384"/>
                </a:cubicBezTo>
                <a:cubicBezTo>
                  <a:pt x="1029" y="378"/>
                  <a:pt x="1068" y="345"/>
                  <a:pt x="1115" y="329"/>
                </a:cubicBezTo>
                <a:cubicBezTo>
                  <a:pt x="1124" y="332"/>
                  <a:pt x="1133" y="341"/>
                  <a:pt x="1142" y="338"/>
                </a:cubicBezTo>
                <a:cubicBezTo>
                  <a:pt x="1225" y="310"/>
                  <a:pt x="1167" y="301"/>
                  <a:pt x="1225" y="292"/>
                </a:cubicBezTo>
                <a:cubicBezTo>
                  <a:pt x="1252" y="288"/>
                  <a:pt x="1280" y="286"/>
                  <a:pt x="1307" y="283"/>
                </a:cubicBezTo>
                <a:cubicBezTo>
                  <a:pt x="1341" y="272"/>
                  <a:pt x="1363" y="262"/>
                  <a:pt x="1398" y="274"/>
                </a:cubicBezTo>
                <a:cubicBezTo>
                  <a:pt x="1416" y="268"/>
                  <a:pt x="1439" y="270"/>
                  <a:pt x="1453" y="256"/>
                </a:cubicBezTo>
                <a:cubicBezTo>
                  <a:pt x="1459" y="250"/>
                  <a:pt x="1464" y="240"/>
                  <a:pt x="1472" y="237"/>
                </a:cubicBezTo>
                <a:cubicBezTo>
                  <a:pt x="1498" y="227"/>
                  <a:pt x="1527" y="228"/>
                  <a:pt x="1554" y="219"/>
                </a:cubicBezTo>
                <a:cubicBezTo>
                  <a:pt x="1572" y="225"/>
                  <a:pt x="1591" y="243"/>
                  <a:pt x="1609" y="237"/>
                </a:cubicBezTo>
                <a:cubicBezTo>
                  <a:pt x="1627" y="231"/>
                  <a:pt x="1664" y="219"/>
                  <a:pt x="1664" y="219"/>
                </a:cubicBezTo>
                <a:cubicBezTo>
                  <a:pt x="1707" y="191"/>
                  <a:pt x="1700" y="216"/>
                  <a:pt x="1746" y="201"/>
                </a:cubicBezTo>
                <a:cubicBezTo>
                  <a:pt x="1764" y="204"/>
                  <a:pt x="1783" y="206"/>
                  <a:pt x="1801" y="210"/>
                </a:cubicBezTo>
                <a:cubicBezTo>
                  <a:pt x="1810" y="212"/>
                  <a:pt x="1819" y="222"/>
                  <a:pt x="1828" y="219"/>
                </a:cubicBezTo>
                <a:cubicBezTo>
                  <a:pt x="1849" y="212"/>
                  <a:pt x="1861" y="187"/>
                  <a:pt x="1883" y="183"/>
                </a:cubicBezTo>
                <a:cubicBezTo>
                  <a:pt x="1901" y="180"/>
                  <a:pt x="1920" y="178"/>
                  <a:pt x="1938" y="173"/>
                </a:cubicBezTo>
                <a:cubicBezTo>
                  <a:pt x="1957" y="168"/>
                  <a:pt x="1993" y="155"/>
                  <a:pt x="1993" y="155"/>
                </a:cubicBezTo>
                <a:cubicBezTo>
                  <a:pt x="2059" y="177"/>
                  <a:pt x="2145" y="132"/>
                  <a:pt x="2212" y="119"/>
                </a:cubicBezTo>
                <a:cubicBezTo>
                  <a:pt x="2261" y="135"/>
                  <a:pt x="2221" y="130"/>
                  <a:pt x="2267" y="109"/>
                </a:cubicBezTo>
                <a:cubicBezTo>
                  <a:pt x="2285" y="101"/>
                  <a:pt x="2322" y="91"/>
                  <a:pt x="2322" y="91"/>
                </a:cubicBezTo>
                <a:cubicBezTo>
                  <a:pt x="2360" y="65"/>
                  <a:pt x="2385" y="63"/>
                  <a:pt x="2432" y="55"/>
                </a:cubicBezTo>
                <a:cubicBezTo>
                  <a:pt x="2509" y="28"/>
                  <a:pt x="2467" y="38"/>
                  <a:pt x="2560" y="27"/>
                </a:cubicBezTo>
                <a:cubicBezTo>
                  <a:pt x="2589" y="20"/>
                  <a:pt x="2615" y="13"/>
                  <a:pt x="264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未知"/>
          <p:cNvSpPr/>
          <p:nvPr/>
        </p:nvSpPr>
        <p:spPr>
          <a:xfrm>
            <a:off x="4834080" y="1785960"/>
            <a:ext cx="3849480" cy="531720"/>
          </a:xfrm>
          <a:custGeom>
            <a:avLst/>
            <a:gdLst/>
            <a:ahLst/>
            <a:rect l="l" t="t" r="r" b="b"/>
            <a:pathLst>
              <a:path w="2425" h="335">
                <a:moveTo>
                  <a:pt x="0" y="320"/>
                </a:moveTo>
                <a:cubicBezTo>
                  <a:pt x="45" y="335"/>
                  <a:pt x="80" y="317"/>
                  <a:pt x="118" y="292"/>
                </a:cubicBezTo>
                <a:cubicBezTo>
                  <a:pt x="136" y="295"/>
                  <a:pt x="155" y="297"/>
                  <a:pt x="173" y="301"/>
                </a:cubicBezTo>
                <a:cubicBezTo>
                  <a:pt x="183" y="303"/>
                  <a:pt x="191" y="311"/>
                  <a:pt x="201" y="310"/>
                </a:cubicBezTo>
                <a:cubicBezTo>
                  <a:pt x="220" y="308"/>
                  <a:pt x="256" y="292"/>
                  <a:pt x="256" y="292"/>
                </a:cubicBezTo>
                <a:cubicBezTo>
                  <a:pt x="309" y="238"/>
                  <a:pt x="283" y="234"/>
                  <a:pt x="329" y="265"/>
                </a:cubicBezTo>
                <a:cubicBezTo>
                  <a:pt x="370" y="326"/>
                  <a:pt x="376" y="308"/>
                  <a:pt x="438" y="292"/>
                </a:cubicBezTo>
                <a:cubicBezTo>
                  <a:pt x="479" y="266"/>
                  <a:pt x="479" y="256"/>
                  <a:pt x="521" y="283"/>
                </a:cubicBezTo>
                <a:cubicBezTo>
                  <a:pt x="527" y="292"/>
                  <a:pt x="528" y="308"/>
                  <a:pt x="539" y="310"/>
                </a:cubicBezTo>
                <a:cubicBezTo>
                  <a:pt x="560" y="314"/>
                  <a:pt x="595" y="258"/>
                  <a:pt x="603" y="246"/>
                </a:cubicBezTo>
                <a:cubicBezTo>
                  <a:pt x="633" y="257"/>
                  <a:pt x="650" y="274"/>
                  <a:pt x="676" y="292"/>
                </a:cubicBezTo>
                <a:cubicBezTo>
                  <a:pt x="694" y="289"/>
                  <a:pt x="713" y="289"/>
                  <a:pt x="731" y="283"/>
                </a:cubicBezTo>
                <a:cubicBezTo>
                  <a:pt x="761" y="273"/>
                  <a:pt x="773" y="247"/>
                  <a:pt x="804" y="237"/>
                </a:cubicBezTo>
                <a:cubicBezTo>
                  <a:pt x="828" y="262"/>
                  <a:pt x="822" y="267"/>
                  <a:pt x="868" y="246"/>
                </a:cubicBezTo>
                <a:cubicBezTo>
                  <a:pt x="888" y="237"/>
                  <a:pt x="923" y="210"/>
                  <a:pt x="923" y="210"/>
                </a:cubicBezTo>
                <a:cubicBezTo>
                  <a:pt x="932" y="219"/>
                  <a:pt x="940" y="229"/>
                  <a:pt x="950" y="237"/>
                </a:cubicBezTo>
                <a:cubicBezTo>
                  <a:pt x="967" y="251"/>
                  <a:pt x="1005" y="274"/>
                  <a:pt x="1005" y="274"/>
                </a:cubicBezTo>
                <a:cubicBezTo>
                  <a:pt x="1052" y="259"/>
                  <a:pt x="1082" y="217"/>
                  <a:pt x="1115" y="182"/>
                </a:cubicBezTo>
                <a:cubicBezTo>
                  <a:pt x="1167" y="201"/>
                  <a:pt x="1119" y="180"/>
                  <a:pt x="1161" y="210"/>
                </a:cubicBezTo>
                <a:cubicBezTo>
                  <a:pt x="1179" y="223"/>
                  <a:pt x="1216" y="246"/>
                  <a:pt x="1216" y="246"/>
                </a:cubicBezTo>
                <a:cubicBezTo>
                  <a:pt x="1255" y="220"/>
                  <a:pt x="1269" y="189"/>
                  <a:pt x="1316" y="173"/>
                </a:cubicBezTo>
                <a:cubicBezTo>
                  <a:pt x="1337" y="195"/>
                  <a:pt x="1380" y="237"/>
                  <a:pt x="1380" y="237"/>
                </a:cubicBezTo>
                <a:cubicBezTo>
                  <a:pt x="1435" y="219"/>
                  <a:pt x="1432" y="187"/>
                  <a:pt x="1472" y="146"/>
                </a:cubicBezTo>
                <a:cubicBezTo>
                  <a:pt x="1490" y="128"/>
                  <a:pt x="1526" y="91"/>
                  <a:pt x="1526" y="91"/>
                </a:cubicBezTo>
                <a:cubicBezTo>
                  <a:pt x="1596" y="108"/>
                  <a:pt x="1612" y="133"/>
                  <a:pt x="1664" y="182"/>
                </a:cubicBezTo>
                <a:cubicBezTo>
                  <a:pt x="1670" y="188"/>
                  <a:pt x="1674" y="197"/>
                  <a:pt x="1682" y="201"/>
                </a:cubicBezTo>
                <a:cubicBezTo>
                  <a:pt x="1699" y="210"/>
                  <a:pt x="1737" y="219"/>
                  <a:pt x="1737" y="219"/>
                </a:cubicBezTo>
                <a:cubicBezTo>
                  <a:pt x="1771" y="196"/>
                  <a:pt x="1796" y="171"/>
                  <a:pt x="1819" y="137"/>
                </a:cubicBezTo>
                <a:cubicBezTo>
                  <a:pt x="1854" y="149"/>
                  <a:pt x="1857" y="170"/>
                  <a:pt x="1892" y="182"/>
                </a:cubicBezTo>
                <a:cubicBezTo>
                  <a:pt x="1946" y="165"/>
                  <a:pt x="1975" y="118"/>
                  <a:pt x="2029" y="100"/>
                </a:cubicBezTo>
                <a:cubicBezTo>
                  <a:pt x="2063" y="108"/>
                  <a:pt x="2096" y="119"/>
                  <a:pt x="2130" y="128"/>
                </a:cubicBezTo>
                <a:cubicBezTo>
                  <a:pt x="2139" y="134"/>
                  <a:pt x="2146" y="146"/>
                  <a:pt x="2157" y="146"/>
                </a:cubicBezTo>
                <a:cubicBezTo>
                  <a:pt x="2166" y="146"/>
                  <a:pt x="2172" y="136"/>
                  <a:pt x="2176" y="128"/>
                </a:cubicBezTo>
                <a:cubicBezTo>
                  <a:pt x="2221" y="39"/>
                  <a:pt x="2170" y="99"/>
                  <a:pt x="2212" y="54"/>
                </a:cubicBezTo>
                <a:cubicBezTo>
                  <a:pt x="2257" y="101"/>
                  <a:pt x="2248" y="58"/>
                  <a:pt x="2276" y="36"/>
                </a:cubicBezTo>
                <a:cubicBezTo>
                  <a:pt x="2284" y="30"/>
                  <a:pt x="2295" y="30"/>
                  <a:pt x="2304" y="27"/>
                </a:cubicBezTo>
                <a:cubicBezTo>
                  <a:pt x="2313" y="33"/>
                  <a:pt x="2323" y="38"/>
                  <a:pt x="2331" y="45"/>
                </a:cubicBezTo>
                <a:cubicBezTo>
                  <a:pt x="2338" y="51"/>
                  <a:pt x="2342" y="69"/>
                  <a:pt x="2349" y="64"/>
                </a:cubicBezTo>
                <a:cubicBezTo>
                  <a:pt x="2360" y="57"/>
                  <a:pt x="2354" y="39"/>
                  <a:pt x="2358" y="27"/>
                </a:cubicBezTo>
                <a:cubicBezTo>
                  <a:pt x="2361" y="18"/>
                  <a:pt x="2365" y="9"/>
                  <a:pt x="2368" y="0"/>
                </a:cubicBezTo>
                <a:cubicBezTo>
                  <a:pt x="2377" y="3"/>
                  <a:pt x="2388" y="2"/>
                  <a:pt x="2395" y="9"/>
                </a:cubicBezTo>
                <a:cubicBezTo>
                  <a:pt x="2425" y="39"/>
                  <a:pt x="2388" y="36"/>
                  <a:pt x="2413" y="3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未知"/>
          <p:cNvSpPr/>
          <p:nvPr/>
        </p:nvSpPr>
        <p:spPr>
          <a:xfrm>
            <a:off x="4410000" y="3978360"/>
            <a:ext cx="4276800" cy="709560"/>
          </a:xfrm>
          <a:custGeom>
            <a:avLst/>
            <a:gdLst/>
            <a:ahLst/>
            <a:rect l="l" t="t" r="r" b="b"/>
            <a:pathLst>
              <a:path w="2694" h="447">
                <a:moveTo>
                  <a:pt x="1" y="447"/>
                </a:moveTo>
                <a:cubicBezTo>
                  <a:pt x="4" y="392"/>
                  <a:pt x="0" y="337"/>
                  <a:pt x="11" y="283"/>
                </a:cubicBezTo>
                <a:cubicBezTo>
                  <a:pt x="13" y="274"/>
                  <a:pt x="31" y="280"/>
                  <a:pt x="38" y="273"/>
                </a:cubicBezTo>
                <a:cubicBezTo>
                  <a:pt x="46" y="265"/>
                  <a:pt x="70" y="204"/>
                  <a:pt x="75" y="191"/>
                </a:cubicBezTo>
                <a:cubicBezTo>
                  <a:pt x="111" y="203"/>
                  <a:pt x="129" y="191"/>
                  <a:pt x="166" y="182"/>
                </a:cubicBezTo>
                <a:cubicBezTo>
                  <a:pt x="190" y="146"/>
                  <a:pt x="186" y="130"/>
                  <a:pt x="230" y="145"/>
                </a:cubicBezTo>
                <a:cubicBezTo>
                  <a:pt x="239" y="139"/>
                  <a:pt x="250" y="135"/>
                  <a:pt x="257" y="127"/>
                </a:cubicBezTo>
                <a:cubicBezTo>
                  <a:pt x="263" y="120"/>
                  <a:pt x="258" y="103"/>
                  <a:pt x="267" y="100"/>
                </a:cubicBezTo>
                <a:cubicBezTo>
                  <a:pt x="293" y="90"/>
                  <a:pt x="322" y="94"/>
                  <a:pt x="349" y="91"/>
                </a:cubicBezTo>
                <a:cubicBezTo>
                  <a:pt x="396" y="41"/>
                  <a:pt x="486" y="53"/>
                  <a:pt x="550" y="45"/>
                </a:cubicBezTo>
                <a:cubicBezTo>
                  <a:pt x="580" y="14"/>
                  <a:pt x="590" y="3"/>
                  <a:pt x="632" y="17"/>
                </a:cubicBezTo>
                <a:cubicBezTo>
                  <a:pt x="685" y="0"/>
                  <a:pt x="708" y="31"/>
                  <a:pt x="760" y="36"/>
                </a:cubicBezTo>
                <a:cubicBezTo>
                  <a:pt x="794" y="39"/>
                  <a:pt x="827" y="42"/>
                  <a:pt x="861" y="45"/>
                </a:cubicBezTo>
                <a:cubicBezTo>
                  <a:pt x="923" y="37"/>
                  <a:pt x="943" y="36"/>
                  <a:pt x="998" y="54"/>
                </a:cubicBezTo>
                <a:cubicBezTo>
                  <a:pt x="1010" y="50"/>
                  <a:pt x="1052" y="35"/>
                  <a:pt x="1062" y="36"/>
                </a:cubicBezTo>
                <a:cubicBezTo>
                  <a:pt x="1081" y="38"/>
                  <a:pt x="1117" y="54"/>
                  <a:pt x="1117" y="54"/>
                </a:cubicBezTo>
                <a:cubicBezTo>
                  <a:pt x="1178" y="39"/>
                  <a:pt x="1197" y="32"/>
                  <a:pt x="1281" y="36"/>
                </a:cubicBezTo>
                <a:cubicBezTo>
                  <a:pt x="1300" y="37"/>
                  <a:pt x="1318" y="48"/>
                  <a:pt x="1336" y="54"/>
                </a:cubicBezTo>
                <a:cubicBezTo>
                  <a:pt x="1356" y="61"/>
                  <a:pt x="1379" y="60"/>
                  <a:pt x="1400" y="63"/>
                </a:cubicBezTo>
                <a:cubicBezTo>
                  <a:pt x="1467" y="41"/>
                  <a:pt x="1436" y="40"/>
                  <a:pt x="1492" y="54"/>
                </a:cubicBezTo>
                <a:cubicBezTo>
                  <a:pt x="1510" y="51"/>
                  <a:pt x="1529" y="49"/>
                  <a:pt x="1547" y="45"/>
                </a:cubicBezTo>
                <a:cubicBezTo>
                  <a:pt x="1565" y="40"/>
                  <a:pt x="1601" y="27"/>
                  <a:pt x="1601" y="27"/>
                </a:cubicBezTo>
                <a:cubicBezTo>
                  <a:pt x="1641" y="37"/>
                  <a:pt x="1681" y="41"/>
                  <a:pt x="1720" y="54"/>
                </a:cubicBezTo>
                <a:cubicBezTo>
                  <a:pt x="1741" y="51"/>
                  <a:pt x="1763" y="43"/>
                  <a:pt x="1784" y="45"/>
                </a:cubicBezTo>
                <a:cubicBezTo>
                  <a:pt x="1803" y="46"/>
                  <a:pt x="1839" y="63"/>
                  <a:pt x="1839" y="63"/>
                </a:cubicBezTo>
                <a:cubicBezTo>
                  <a:pt x="1890" y="53"/>
                  <a:pt x="1927" y="31"/>
                  <a:pt x="1976" y="17"/>
                </a:cubicBezTo>
                <a:cubicBezTo>
                  <a:pt x="2034" y="33"/>
                  <a:pt x="2067" y="39"/>
                  <a:pt x="2132" y="45"/>
                </a:cubicBezTo>
                <a:cubicBezTo>
                  <a:pt x="2182" y="62"/>
                  <a:pt x="2246" y="31"/>
                  <a:pt x="2296" y="17"/>
                </a:cubicBezTo>
                <a:cubicBezTo>
                  <a:pt x="2368" y="43"/>
                  <a:pt x="2264" y="8"/>
                  <a:pt x="2379" y="36"/>
                </a:cubicBezTo>
                <a:cubicBezTo>
                  <a:pt x="2397" y="41"/>
                  <a:pt x="2433" y="54"/>
                  <a:pt x="2433" y="54"/>
                </a:cubicBezTo>
                <a:cubicBezTo>
                  <a:pt x="2492" y="16"/>
                  <a:pt x="2502" y="34"/>
                  <a:pt x="2571" y="45"/>
                </a:cubicBezTo>
                <a:cubicBezTo>
                  <a:pt x="2635" y="66"/>
                  <a:pt x="2555" y="45"/>
                  <a:pt x="2635" y="45"/>
                </a:cubicBezTo>
                <a:cubicBezTo>
                  <a:pt x="2694" y="45"/>
                  <a:pt x="2666" y="68"/>
                  <a:pt x="2689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8" name="未知"/>
          <p:cNvSpPr/>
          <p:nvPr/>
        </p:nvSpPr>
        <p:spPr>
          <a:xfrm>
            <a:off x="4440240" y="4281480"/>
            <a:ext cx="3789360" cy="725400"/>
          </a:xfrm>
          <a:custGeom>
            <a:avLst/>
            <a:gdLst/>
            <a:ahLst/>
            <a:rect l="l" t="t" r="r" b="b"/>
            <a:pathLst>
              <a:path w="2387" h="457">
                <a:moveTo>
                  <a:pt x="1" y="247"/>
                </a:moveTo>
                <a:cubicBezTo>
                  <a:pt x="4" y="232"/>
                  <a:pt x="0" y="213"/>
                  <a:pt x="10" y="201"/>
                </a:cubicBezTo>
                <a:cubicBezTo>
                  <a:pt x="18" y="191"/>
                  <a:pt x="35" y="197"/>
                  <a:pt x="46" y="192"/>
                </a:cubicBezTo>
                <a:cubicBezTo>
                  <a:pt x="54" y="188"/>
                  <a:pt x="59" y="180"/>
                  <a:pt x="65" y="174"/>
                </a:cubicBezTo>
                <a:cubicBezTo>
                  <a:pt x="77" y="136"/>
                  <a:pt x="92" y="131"/>
                  <a:pt x="129" y="119"/>
                </a:cubicBezTo>
                <a:cubicBezTo>
                  <a:pt x="132" y="110"/>
                  <a:pt x="131" y="99"/>
                  <a:pt x="138" y="92"/>
                </a:cubicBezTo>
                <a:cubicBezTo>
                  <a:pt x="145" y="85"/>
                  <a:pt x="157" y="87"/>
                  <a:pt x="165" y="82"/>
                </a:cubicBezTo>
                <a:cubicBezTo>
                  <a:pt x="223" y="47"/>
                  <a:pt x="141" y="78"/>
                  <a:pt x="211" y="55"/>
                </a:cubicBezTo>
                <a:cubicBezTo>
                  <a:pt x="248" y="0"/>
                  <a:pt x="206" y="43"/>
                  <a:pt x="257" y="37"/>
                </a:cubicBezTo>
                <a:cubicBezTo>
                  <a:pt x="276" y="35"/>
                  <a:pt x="312" y="18"/>
                  <a:pt x="312" y="18"/>
                </a:cubicBezTo>
                <a:cubicBezTo>
                  <a:pt x="353" y="33"/>
                  <a:pt x="353" y="13"/>
                  <a:pt x="394" y="28"/>
                </a:cubicBezTo>
                <a:cubicBezTo>
                  <a:pt x="448" y="8"/>
                  <a:pt x="426" y="44"/>
                  <a:pt x="476" y="9"/>
                </a:cubicBezTo>
                <a:cubicBezTo>
                  <a:pt x="515" y="21"/>
                  <a:pt x="545" y="30"/>
                  <a:pt x="586" y="37"/>
                </a:cubicBezTo>
                <a:cubicBezTo>
                  <a:pt x="622" y="49"/>
                  <a:pt x="629" y="56"/>
                  <a:pt x="641" y="92"/>
                </a:cubicBezTo>
                <a:cubicBezTo>
                  <a:pt x="684" y="76"/>
                  <a:pt x="717" y="100"/>
                  <a:pt x="760" y="110"/>
                </a:cubicBezTo>
                <a:cubicBezTo>
                  <a:pt x="816" y="147"/>
                  <a:pt x="758" y="119"/>
                  <a:pt x="814" y="119"/>
                </a:cubicBezTo>
                <a:cubicBezTo>
                  <a:pt x="824" y="119"/>
                  <a:pt x="832" y="126"/>
                  <a:pt x="842" y="128"/>
                </a:cubicBezTo>
                <a:cubicBezTo>
                  <a:pt x="865" y="133"/>
                  <a:pt x="940" y="143"/>
                  <a:pt x="961" y="146"/>
                </a:cubicBezTo>
                <a:cubicBezTo>
                  <a:pt x="1000" y="187"/>
                  <a:pt x="952" y="147"/>
                  <a:pt x="1025" y="156"/>
                </a:cubicBezTo>
                <a:cubicBezTo>
                  <a:pt x="1036" y="157"/>
                  <a:pt x="1043" y="168"/>
                  <a:pt x="1052" y="174"/>
                </a:cubicBezTo>
                <a:cubicBezTo>
                  <a:pt x="1116" y="154"/>
                  <a:pt x="1084" y="142"/>
                  <a:pt x="1162" y="156"/>
                </a:cubicBezTo>
                <a:cubicBezTo>
                  <a:pt x="1189" y="174"/>
                  <a:pt x="1217" y="183"/>
                  <a:pt x="1244" y="201"/>
                </a:cubicBezTo>
                <a:cubicBezTo>
                  <a:pt x="1304" y="163"/>
                  <a:pt x="1312" y="201"/>
                  <a:pt x="1363" y="220"/>
                </a:cubicBezTo>
                <a:cubicBezTo>
                  <a:pt x="1372" y="214"/>
                  <a:pt x="1379" y="203"/>
                  <a:pt x="1390" y="201"/>
                </a:cubicBezTo>
                <a:cubicBezTo>
                  <a:pt x="1420" y="196"/>
                  <a:pt x="1444" y="229"/>
                  <a:pt x="1473" y="238"/>
                </a:cubicBezTo>
                <a:cubicBezTo>
                  <a:pt x="1516" y="209"/>
                  <a:pt x="1484" y="219"/>
                  <a:pt x="1528" y="238"/>
                </a:cubicBezTo>
                <a:cubicBezTo>
                  <a:pt x="1545" y="246"/>
                  <a:pt x="1582" y="256"/>
                  <a:pt x="1582" y="256"/>
                </a:cubicBezTo>
                <a:cubicBezTo>
                  <a:pt x="1595" y="268"/>
                  <a:pt x="1603" y="285"/>
                  <a:pt x="1619" y="293"/>
                </a:cubicBezTo>
                <a:cubicBezTo>
                  <a:pt x="1636" y="302"/>
                  <a:pt x="1674" y="311"/>
                  <a:pt x="1674" y="311"/>
                </a:cubicBezTo>
                <a:cubicBezTo>
                  <a:pt x="1717" y="283"/>
                  <a:pt x="1725" y="293"/>
                  <a:pt x="1765" y="320"/>
                </a:cubicBezTo>
                <a:cubicBezTo>
                  <a:pt x="1784" y="380"/>
                  <a:pt x="1760" y="333"/>
                  <a:pt x="1793" y="329"/>
                </a:cubicBezTo>
                <a:cubicBezTo>
                  <a:pt x="1811" y="327"/>
                  <a:pt x="1830" y="335"/>
                  <a:pt x="1848" y="338"/>
                </a:cubicBezTo>
                <a:cubicBezTo>
                  <a:pt x="1909" y="380"/>
                  <a:pt x="1886" y="360"/>
                  <a:pt x="1921" y="393"/>
                </a:cubicBezTo>
                <a:cubicBezTo>
                  <a:pt x="1939" y="387"/>
                  <a:pt x="1958" y="369"/>
                  <a:pt x="1976" y="375"/>
                </a:cubicBezTo>
                <a:cubicBezTo>
                  <a:pt x="1994" y="381"/>
                  <a:pt x="2030" y="393"/>
                  <a:pt x="2030" y="393"/>
                </a:cubicBezTo>
                <a:cubicBezTo>
                  <a:pt x="2076" y="439"/>
                  <a:pt x="2080" y="432"/>
                  <a:pt x="2140" y="412"/>
                </a:cubicBezTo>
                <a:cubicBezTo>
                  <a:pt x="2184" y="423"/>
                  <a:pt x="2190" y="444"/>
                  <a:pt x="2232" y="430"/>
                </a:cubicBezTo>
                <a:cubicBezTo>
                  <a:pt x="2241" y="424"/>
                  <a:pt x="2248" y="412"/>
                  <a:pt x="2259" y="412"/>
                </a:cubicBezTo>
                <a:cubicBezTo>
                  <a:pt x="2270" y="412"/>
                  <a:pt x="2276" y="425"/>
                  <a:pt x="2286" y="430"/>
                </a:cubicBezTo>
                <a:cubicBezTo>
                  <a:pt x="2318" y="446"/>
                  <a:pt x="2355" y="441"/>
                  <a:pt x="2387" y="4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4513320" y="4137120"/>
            <a:ext cx="4108320" cy="333360"/>
          </a:xfrm>
          <a:custGeom>
            <a:avLst/>
            <a:gdLst/>
            <a:ahLst/>
            <a:rect l="l" t="t" r="r" b="b"/>
            <a:pathLst>
              <a:path w="2588" h="210">
                <a:moveTo>
                  <a:pt x="0" y="210"/>
                </a:moveTo>
                <a:cubicBezTo>
                  <a:pt x="33" y="199"/>
                  <a:pt x="46" y="181"/>
                  <a:pt x="74" y="164"/>
                </a:cubicBezTo>
                <a:cubicBezTo>
                  <a:pt x="82" y="159"/>
                  <a:pt x="93" y="160"/>
                  <a:pt x="101" y="155"/>
                </a:cubicBezTo>
                <a:cubicBezTo>
                  <a:pt x="120" y="144"/>
                  <a:pt x="138" y="131"/>
                  <a:pt x="156" y="119"/>
                </a:cubicBezTo>
                <a:cubicBezTo>
                  <a:pt x="191" y="96"/>
                  <a:pt x="215" y="69"/>
                  <a:pt x="256" y="55"/>
                </a:cubicBezTo>
                <a:cubicBezTo>
                  <a:pt x="313" y="66"/>
                  <a:pt x="349" y="53"/>
                  <a:pt x="403" y="36"/>
                </a:cubicBezTo>
                <a:cubicBezTo>
                  <a:pt x="441" y="49"/>
                  <a:pt x="456" y="78"/>
                  <a:pt x="494" y="91"/>
                </a:cubicBezTo>
                <a:cubicBezTo>
                  <a:pt x="523" y="63"/>
                  <a:pt x="536" y="33"/>
                  <a:pt x="558" y="0"/>
                </a:cubicBezTo>
                <a:cubicBezTo>
                  <a:pt x="610" y="13"/>
                  <a:pt x="606" y="31"/>
                  <a:pt x="659" y="18"/>
                </a:cubicBezTo>
                <a:cubicBezTo>
                  <a:pt x="678" y="24"/>
                  <a:pt x="694" y="42"/>
                  <a:pt x="714" y="45"/>
                </a:cubicBezTo>
                <a:cubicBezTo>
                  <a:pt x="729" y="47"/>
                  <a:pt x="759" y="24"/>
                  <a:pt x="768" y="18"/>
                </a:cubicBezTo>
                <a:cubicBezTo>
                  <a:pt x="798" y="47"/>
                  <a:pt x="810" y="46"/>
                  <a:pt x="851" y="36"/>
                </a:cubicBezTo>
                <a:cubicBezTo>
                  <a:pt x="876" y="41"/>
                  <a:pt x="899" y="55"/>
                  <a:pt x="924" y="55"/>
                </a:cubicBezTo>
                <a:cubicBezTo>
                  <a:pt x="943" y="55"/>
                  <a:pt x="961" y="42"/>
                  <a:pt x="979" y="36"/>
                </a:cubicBezTo>
                <a:cubicBezTo>
                  <a:pt x="1028" y="52"/>
                  <a:pt x="1005" y="72"/>
                  <a:pt x="1061" y="55"/>
                </a:cubicBezTo>
                <a:cubicBezTo>
                  <a:pt x="1089" y="47"/>
                  <a:pt x="1143" y="27"/>
                  <a:pt x="1143" y="27"/>
                </a:cubicBezTo>
                <a:cubicBezTo>
                  <a:pt x="1153" y="42"/>
                  <a:pt x="1167" y="70"/>
                  <a:pt x="1189" y="73"/>
                </a:cubicBezTo>
                <a:cubicBezTo>
                  <a:pt x="1213" y="76"/>
                  <a:pt x="1257" y="53"/>
                  <a:pt x="1280" y="45"/>
                </a:cubicBezTo>
                <a:cubicBezTo>
                  <a:pt x="1332" y="97"/>
                  <a:pt x="1402" y="56"/>
                  <a:pt x="1463" y="36"/>
                </a:cubicBezTo>
                <a:cubicBezTo>
                  <a:pt x="1539" y="51"/>
                  <a:pt x="1499" y="69"/>
                  <a:pt x="1582" y="55"/>
                </a:cubicBezTo>
                <a:cubicBezTo>
                  <a:pt x="1615" y="33"/>
                  <a:pt x="1626" y="23"/>
                  <a:pt x="1664" y="36"/>
                </a:cubicBezTo>
                <a:cubicBezTo>
                  <a:pt x="1670" y="42"/>
                  <a:pt x="1674" y="54"/>
                  <a:pt x="1683" y="55"/>
                </a:cubicBezTo>
                <a:cubicBezTo>
                  <a:pt x="1695" y="57"/>
                  <a:pt x="1707" y="45"/>
                  <a:pt x="1719" y="45"/>
                </a:cubicBezTo>
                <a:cubicBezTo>
                  <a:pt x="1759" y="45"/>
                  <a:pt x="1798" y="52"/>
                  <a:pt x="1838" y="55"/>
                </a:cubicBezTo>
                <a:cubicBezTo>
                  <a:pt x="1847" y="61"/>
                  <a:pt x="1859" y="64"/>
                  <a:pt x="1866" y="73"/>
                </a:cubicBezTo>
                <a:cubicBezTo>
                  <a:pt x="1902" y="117"/>
                  <a:pt x="1842" y="89"/>
                  <a:pt x="1902" y="109"/>
                </a:cubicBezTo>
                <a:cubicBezTo>
                  <a:pt x="1944" y="95"/>
                  <a:pt x="1977" y="75"/>
                  <a:pt x="2021" y="64"/>
                </a:cubicBezTo>
                <a:cubicBezTo>
                  <a:pt x="2080" y="78"/>
                  <a:pt x="2067" y="95"/>
                  <a:pt x="2131" y="82"/>
                </a:cubicBezTo>
                <a:cubicBezTo>
                  <a:pt x="2201" y="96"/>
                  <a:pt x="2195" y="102"/>
                  <a:pt x="2250" y="137"/>
                </a:cubicBezTo>
                <a:cubicBezTo>
                  <a:pt x="2283" y="126"/>
                  <a:pt x="2317" y="121"/>
                  <a:pt x="2350" y="109"/>
                </a:cubicBezTo>
                <a:cubicBezTo>
                  <a:pt x="2360" y="111"/>
                  <a:pt x="2432" y="120"/>
                  <a:pt x="2451" y="128"/>
                </a:cubicBezTo>
                <a:cubicBezTo>
                  <a:pt x="2461" y="132"/>
                  <a:pt x="2468" y="142"/>
                  <a:pt x="2478" y="146"/>
                </a:cubicBezTo>
                <a:cubicBezTo>
                  <a:pt x="2514" y="161"/>
                  <a:pt x="2553" y="164"/>
                  <a:pt x="2588" y="18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5398920" y="4281480"/>
            <a:ext cx="3237120" cy="552600"/>
          </a:xfrm>
          <a:custGeom>
            <a:avLst/>
            <a:gdLst/>
            <a:ahLst/>
            <a:rect l="l" t="t" r="r" b="b"/>
            <a:pathLst>
              <a:path w="2039" h="348">
                <a:moveTo>
                  <a:pt x="0" y="0"/>
                </a:moveTo>
                <a:cubicBezTo>
                  <a:pt x="67" y="9"/>
                  <a:pt x="135" y="6"/>
                  <a:pt x="201" y="18"/>
                </a:cubicBezTo>
                <a:cubicBezTo>
                  <a:pt x="210" y="20"/>
                  <a:pt x="212" y="33"/>
                  <a:pt x="220" y="37"/>
                </a:cubicBezTo>
                <a:cubicBezTo>
                  <a:pt x="254" y="54"/>
                  <a:pt x="314" y="59"/>
                  <a:pt x="348" y="64"/>
                </a:cubicBezTo>
                <a:cubicBezTo>
                  <a:pt x="389" y="91"/>
                  <a:pt x="398" y="74"/>
                  <a:pt x="448" y="64"/>
                </a:cubicBezTo>
                <a:cubicBezTo>
                  <a:pt x="469" y="67"/>
                  <a:pt x="492" y="66"/>
                  <a:pt x="512" y="73"/>
                </a:cubicBezTo>
                <a:cubicBezTo>
                  <a:pt x="520" y="76"/>
                  <a:pt x="523" y="87"/>
                  <a:pt x="530" y="92"/>
                </a:cubicBezTo>
                <a:cubicBezTo>
                  <a:pt x="538" y="97"/>
                  <a:pt x="549" y="98"/>
                  <a:pt x="558" y="101"/>
                </a:cubicBezTo>
                <a:cubicBezTo>
                  <a:pt x="604" y="89"/>
                  <a:pt x="650" y="79"/>
                  <a:pt x="695" y="64"/>
                </a:cubicBezTo>
                <a:cubicBezTo>
                  <a:pt x="729" y="75"/>
                  <a:pt x="747" y="99"/>
                  <a:pt x="777" y="119"/>
                </a:cubicBezTo>
                <a:cubicBezTo>
                  <a:pt x="825" y="110"/>
                  <a:pt x="859" y="113"/>
                  <a:pt x="905" y="128"/>
                </a:cubicBezTo>
                <a:cubicBezTo>
                  <a:pt x="936" y="157"/>
                  <a:pt x="947" y="138"/>
                  <a:pt x="988" y="128"/>
                </a:cubicBezTo>
                <a:cubicBezTo>
                  <a:pt x="997" y="122"/>
                  <a:pt x="1028" y="98"/>
                  <a:pt x="1042" y="101"/>
                </a:cubicBezTo>
                <a:cubicBezTo>
                  <a:pt x="1051" y="103"/>
                  <a:pt x="1054" y="114"/>
                  <a:pt x="1061" y="119"/>
                </a:cubicBezTo>
                <a:cubicBezTo>
                  <a:pt x="1070" y="126"/>
                  <a:pt x="1079" y="131"/>
                  <a:pt x="1088" y="137"/>
                </a:cubicBezTo>
                <a:cubicBezTo>
                  <a:pt x="1109" y="170"/>
                  <a:pt x="1124" y="180"/>
                  <a:pt x="1161" y="192"/>
                </a:cubicBezTo>
                <a:cubicBezTo>
                  <a:pt x="1214" y="175"/>
                  <a:pt x="1254" y="136"/>
                  <a:pt x="1308" y="119"/>
                </a:cubicBezTo>
                <a:cubicBezTo>
                  <a:pt x="1331" y="153"/>
                  <a:pt x="1351" y="189"/>
                  <a:pt x="1390" y="201"/>
                </a:cubicBezTo>
                <a:cubicBezTo>
                  <a:pt x="1415" y="184"/>
                  <a:pt x="1433" y="168"/>
                  <a:pt x="1454" y="146"/>
                </a:cubicBezTo>
                <a:cubicBezTo>
                  <a:pt x="1492" y="173"/>
                  <a:pt x="1522" y="206"/>
                  <a:pt x="1554" y="238"/>
                </a:cubicBezTo>
                <a:cubicBezTo>
                  <a:pt x="1563" y="247"/>
                  <a:pt x="1573" y="256"/>
                  <a:pt x="1582" y="265"/>
                </a:cubicBezTo>
                <a:cubicBezTo>
                  <a:pt x="1588" y="271"/>
                  <a:pt x="1600" y="284"/>
                  <a:pt x="1600" y="284"/>
                </a:cubicBezTo>
                <a:cubicBezTo>
                  <a:pt x="1635" y="272"/>
                  <a:pt x="1642" y="249"/>
                  <a:pt x="1673" y="229"/>
                </a:cubicBezTo>
                <a:cubicBezTo>
                  <a:pt x="1698" y="252"/>
                  <a:pt x="1718" y="264"/>
                  <a:pt x="1737" y="293"/>
                </a:cubicBezTo>
                <a:cubicBezTo>
                  <a:pt x="1779" y="280"/>
                  <a:pt x="1776" y="260"/>
                  <a:pt x="1820" y="274"/>
                </a:cubicBezTo>
                <a:cubicBezTo>
                  <a:pt x="1853" y="297"/>
                  <a:pt x="1864" y="305"/>
                  <a:pt x="1902" y="293"/>
                </a:cubicBezTo>
                <a:cubicBezTo>
                  <a:pt x="1940" y="306"/>
                  <a:pt x="1964" y="334"/>
                  <a:pt x="2002" y="348"/>
                </a:cubicBezTo>
                <a:cubicBezTo>
                  <a:pt x="2034" y="336"/>
                  <a:pt x="2023" y="331"/>
                  <a:pt x="2039" y="3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平流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对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50~5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－对流层顶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35~40km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，气温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-55</a:t>
            </a:r>
            <a:r>
              <a:rPr b="1" lang="en-US" sz="23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左右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同温层以上，气温随高度增加而增加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集中了大部分臭氧，臭氧层（保护地球生命）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没有对流运动，污染物停留时间很长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中间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平流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气温随高度升高而迅速降低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Arial"/>
              </a:rPr>
              <a:t>对流运动强烈</a:t>
            </a:r>
            <a:endParaRPr b="1" lang="en-US" sz="23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圈垂直结构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暖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中间层顶～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800km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随高度升高而增高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体分子高度电离－电离层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散逸层</a:t>
            </a:r>
            <a:r>
              <a:rPr b="1" lang="zh-CN" sz="2000" spc="-1" strike="noStrike">
                <a:solidFill>
                  <a:srgbClr val="40458c"/>
                </a:solidFill>
                <a:latin typeface="Arial"/>
              </a:rPr>
              <a:t>（暖层以上）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气温很高，空气稀薄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Arial"/>
              </a:rPr>
              <a:t>空气粒子可以摆脱地球引力而散逸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大气压力总是随高度的升高而降低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均质大气层－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5km</a:t>
            </a:r>
            <a:r>
              <a:rPr b="1" lang="zh-CN" sz="2400" spc="-1" strike="noStrike">
                <a:solidFill>
                  <a:srgbClr val="40458c"/>
                </a:solidFill>
                <a:latin typeface="Arial"/>
              </a:rPr>
              <a:t>以下，成分基本不变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气压场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6" name="图片 11266" descr="1"/>
          <p:cNvPicPr/>
          <p:nvPr/>
        </p:nvPicPr>
        <p:blipFill>
          <a:blip r:embed="rId1"/>
          <a:stretch/>
        </p:blipFill>
        <p:spPr>
          <a:xfrm>
            <a:off x="1287360" y="1628640"/>
            <a:ext cx="6553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大气水汽分布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8" name="文本占位符 12290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447920" y="1905120"/>
            <a:ext cx="64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800080"/>
                </a:solidFill>
                <a:latin typeface="Arial"/>
              </a:rPr>
              <a:t>主要气象要素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．气温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天气预报中：</a:t>
            </a:r>
            <a:r>
              <a:rPr b="1" lang="en-US" sz="2500" spc="-1" strike="noStrike">
                <a:solidFill>
                  <a:srgbClr val="40458c"/>
                </a:solidFill>
                <a:latin typeface="Arial"/>
              </a:rPr>
              <a:t>1.5m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高、百叶箱内气温。</a:t>
            </a:r>
            <a:r>
              <a:rPr b="1" lang="zh-CN" sz="2500" spc="-1" strike="noStrike">
                <a:solidFill>
                  <a:srgbClr val="40458c"/>
                </a:solidFill>
                <a:latin typeface="Arial"/>
              </a:rPr>
              <a:t>                         </a:t>
            </a: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矩形 13315"/>
          <p:cNvSpPr/>
          <p:nvPr/>
        </p:nvSpPr>
        <p:spPr>
          <a:xfrm>
            <a:off x="2590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2" name="图片 13316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303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1:20:31Z</dcterms:modified>
  <cp:revision>1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