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5.gif" ContentType="image/gif"/>
  <Override PartName="/ppt/media/image7.jpeg" ContentType="image/jpeg"/>
  <Override PartName="/ppt/media/image13.gif" ContentType="image/gif"/>
  <Override PartName="/ppt/media/image16.jpeg" ContentType="image/jpeg"/>
  <Override PartName="/ppt/media/image11.gif" ContentType="image/gif"/>
  <Override PartName="/ppt/media/image24.jpeg" ContentType="image/jpeg"/>
  <Override PartName="/ppt/media/image3.jpeg" ContentType="image/jpeg"/>
  <Override PartName="/ppt/media/image30.jpeg" ContentType="image/jpeg"/>
  <Override PartName="/ppt/media/image12.gif" ContentType="image/gif"/>
  <Override PartName="/ppt/media/image14.jpeg" ContentType="image/jpeg"/>
  <Override PartName="/ppt/media/image9.jpeg" ContentType="image/jpeg"/>
  <Override PartName="/ppt/media/image17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0.gif" ContentType="image/gif"/>
  <Override PartName="/ppt/media/image33.jpeg" ContentType="image/jpeg"/>
  <Override PartName="/ppt/media/image27.jpeg" ContentType="image/jpeg"/>
  <Override PartName="/ppt/media/image8.gif" ContentType="image/gif"/>
  <Override PartName="/ppt/media/image23.jpeg" ContentType="image/jpeg"/>
  <Override PartName="/ppt/media/image18.wmf" ContentType="image/x-wmf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6.gif" ContentType="image/gif"/>
  <Override PartName="/ppt/media/image21.jpeg" ContentType="image/jpeg"/>
  <Override PartName="/ppt/media/image19.png" ContentType="image/png"/>
  <Override PartName="/ppt/media/image20.jpeg" ContentType="image/jpeg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C455-B44B-42C6-8100-4D7D4BD087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42AE-6526-40BC-8763-E3A462B16B45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6F7-9B76-4E0F-8242-6709529F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1E7-7A31-4E0C-871E-8288C6CC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EBA-3A7F-4789-8875-CF64A88A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EAF-4B0C-4CBF-98DC-1ABF96DE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0C93-D4D6-44F9-BCF9-4F9C687D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218A-E8AE-4BD7-B40F-FFCD5333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4607-2DBA-44B3-8B67-527A6E8E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FB7E-9599-4B83-AE64-AEEEA320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EA04-AFCA-45DD-A473-33163D94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DD3F-BEEA-4F7A-8CC7-69972F1E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62D7-BDB5-4787-960A-1BD35C8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CA7-A5E2-4F36-9C67-930AF11C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051B-0E4A-461B-BAE9-7089CAB9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7073-172B-4576-A646-733BE875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9E6F-BD46-4DC6-96D5-8D365FA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ADD3-673B-48B4-803D-5DDDCA13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437D-2566-4929-9CDC-71D2E71D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008-C5FF-4084-8640-CD131F33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684-6AF0-4DFE-9020-60CD54E7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DE7-4A00-4DB8-B92D-642830A1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D9B-F162-4BCC-BC62-42F9ECC3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3AF-3A41-4477-AE51-479C14CC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BA7-44AC-47D5-9574-CB073B0C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BF3-2727-4388-B381-4732544C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F864-A7EA-4AEF-AE8F-0BDE31F89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BFAF-DDF1-416C-9BC7-3AB972125B6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slide" Target="slide12.xml"/><Relationship Id="rId4" Type="http://schemas.openxmlformats.org/officeDocument/2006/relationships/image" Target="../media/image13.gif"/><Relationship Id="rId5" Type="http://schemas.openxmlformats.org/officeDocument/2006/relationships/slide" Target="slide13.xml"/><Relationship Id="rId6" Type="http://schemas.openxmlformats.org/officeDocument/2006/relationships/image" Target="../media/image13.gif"/><Relationship Id="rId7" Type="http://schemas.openxmlformats.org/officeDocument/2006/relationships/slide" Target="slide14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gif"/><Relationship Id="rId3" Type="http://schemas.openxmlformats.org/officeDocument/2006/relationships/image" Target="../media/image19.png"/><Relationship Id="rId4" Type="http://schemas.openxmlformats.org/officeDocument/2006/relationships/slide" Target="slide16.xml"/><Relationship Id="rId5" Type="http://schemas.openxmlformats.org/officeDocument/2006/relationships/image" Target="../media/image10.gif"/><Relationship Id="rId6" Type="http://schemas.openxmlformats.org/officeDocument/2006/relationships/slide" Target="slide20.xml"/><Relationship Id="rId7" Type="http://schemas.openxmlformats.org/officeDocument/2006/relationships/image" Target="../media/image10.gif"/><Relationship Id="rId8" Type="http://schemas.openxmlformats.org/officeDocument/2006/relationships/slide" Target="slide21.xml"/><Relationship Id="rId9" Type="http://schemas.openxmlformats.org/officeDocument/2006/relationships/image" Target="../media/image10.gif"/><Relationship Id="rId10" Type="http://schemas.openxmlformats.org/officeDocument/2006/relationships/slide" Target="slide22.xml"/><Relationship Id="rId11" Type="http://schemas.openxmlformats.org/officeDocument/2006/relationships/image" Target="../media/image10.gif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3.gif"/><Relationship Id="rId5" Type="http://schemas.openxmlformats.org/officeDocument/2006/relationships/slide" Target="slide18.xml"/><Relationship Id="rId6" Type="http://schemas.openxmlformats.org/officeDocument/2006/relationships/image" Target="../media/image13.gif"/><Relationship Id="rId7" Type="http://schemas.openxmlformats.org/officeDocument/2006/relationships/slide" Target="slide19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0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slide" Target="slide16.xml"/><Relationship Id="rId21" Type="http://schemas.openxmlformats.org/officeDocument/2006/relationships/image" Target="../media/image13.gi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3.xml"/><Relationship Id="rId3" Type="http://schemas.openxmlformats.org/officeDocument/2006/relationships/image" Target="../media/image6.gif"/><Relationship Id="rId4" Type="http://schemas.openxmlformats.org/officeDocument/2006/relationships/slide" Target="slide50.xm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image" Target="../media/image22.jpeg"/><Relationship Id="rId4" Type="http://schemas.openxmlformats.org/officeDocument/2006/relationships/slide" Target="slide23.xml"/><Relationship Id="rId5" Type="http://schemas.openxmlformats.org/officeDocument/2006/relationships/image" Target="../media/image13.gif"/><Relationship Id="rId6" Type="http://schemas.openxmlformats.org/officeDocument/2006/relationships/slide" Target="slide24.xml"/><Relationship Id="rId7" Type="http://schemas.openxmlformats.org/officeDocument/2006/relationships/image" Target="../media/image13.gif"/><Relationship Id="rId8" Type="http://schemas.openxmlformats.org/officeDocument/2006/relationships/slide" Target="slide25.xml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gif"/><Relationship Id="rId3" Type="http://schemas.openxmlformats.org/officeDocument/2006/relationships/slide" Target="slide27.xml"/><Relationship Id="rId4" Type="http://schemas.openxmlformats.org/officeDocument/2006/relationships/image" Target="../media/image10.gif"/><Relationship Id="rId5" Type="http://schemas.openxmlformats.org/officeDocument/2006/relationships/slide" Target="slide31.xml"/><Relationship Id="rId6" Type="http://schemas.openxmlformats.org/officeDocument/2006/relationships/image" Target="../media/image10.gif"/><Relationship Id="rId7" Type="http://schemas.openxmlformats.org/officeDocument/2006/relationships/slide" Target="slide32.xml"/><Relationship Id="rId8" Type="http://schemas.openxmlformats.org/officeDocument/2006/relationships/image" Target="../media/image10.gif"/><Relationship Id="rId9" Type="http://schemas.openxmlformats.org/officeDocument/2006/relationships/image" Target="../media/image7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gif"/><Relationship Id="rId3" Type="http://schemas.openxmlformats.org/officeDocument/2006/relationships/slide" Target="slide28.xml"/><Relationship Id="rId4" Type="http://schemas.openxmlformats.org/officeDocument/2006/relationships/image" Target="../media/image26.gif"/><Relationship Id="rId5" Type="http://schemas.openxmlformats.org/officeDocument/2006/relationships/slide" Target="slide29.xml"/><Relationship Id="rId6" Type="http://schemas.openxmlformats.org/officeDocument/2006/relationships/image" Target="../media/image26.gif"/><Relationship Id="rId7" Type="http://schemas.openxmlformats.org/officeDocument/2006/relationships/slide" Target="slide30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" Target="slide26.xml"/><Relationship Id="rId6" Type="http://schemas.openxmlformats.org/officeDocument/2006/relationships/image" Target="../media/image7.jpeg"/><Relationship Id="rId7" Type="http://schemas.openxmlformats.org/officeDocument/2006/relationships/slide" Target="slide36.xml"/><Relationship Id="rId8" Type="http://schemas.openxmlformats.org/officeDocument/2006/relationships/image" Target="../media/image7.jpeg"/><Relationship Id="rId9" Type="http://schemas.openxmlformats.org/officeDocument/2006/relationships/slide" Target="slide2.xml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gif"/><Relationship Id="rId3" Type="http://schemas.openxmlformats.org/officeDocument/2006/relationships/slide" Target="slide33.xml"/><Relationship Id="rId4" Type="http://schemas.openxmlformats.org/officeDocument/2006/relationships/image" Target="../media/image26.gif"/><Relationship Id="rId5" Type="http://schemas.openxmlformats.org/officeDocument/2006/relationships/slide" Target="slide34.xml"/><Relationship Id="rId6" Type="http://schemas.openxmlformats.org/officeDocument/2006/relationships/image" Target="../media/image26.gif"/><Relationship Id="rId7" Type="http://schemas.openxmlformats.org/officeDocument/2006/relationships/slide" Target="slide35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7.xml"/><Relationship Id="rId3" Type="http://schemas.openxmlformats.org/officeDocument/2006/relationships/image" Target="../media/image10.gif"/><Relationship Id="rId4" Type="http://schemas.openxmlformats.org/officeDocument/2006/relationships/slide" Target="slide41.xml"/><Relationship Id="rId5" Type="http://schemas.openxmlformats.org/officeDocument/2006/relationships/image" Target="../media/image10.gif"/><Relationship Id="rId6" Type="http://schemas.openxmlformats.org/officeDocument/2006/relationships/slide" Target="slide42.xml"/><Relationship Id="rId7" Type="http://schemas.openxmlformats.org/officeDocument/2006/relationships/image" Target="../media/image10.gif"/><Relationship Id="rId8" Type="http://schemas.openxmlformats.org/officeDocument/2006/relationships/slide" Target="slide43.xml"/><Relationship Id="rId9" Type="http://schemas.openxmlformats.org/officeDocument/2006/relationships/image" Target="../media/image10.gif"/><Relationship Id="rId10" Type="http://schemas.openxmlformats.org/officeDocument/2006/relationships/image" Target="../media/image27.jpeg"/><Relationship Id="rId11" Type="http://schemas.openxmlformats.org/officeDocument/2006/relationships/slide" Target="slide3.xml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slide" Target="slide38.xml"/><Relationship Id="rId4" Type="http://schemas.openxmlformats.org/officeDocument/2006/relationships/image" Target="../media/image26.gif"/><Relationship Id="rId5" Type="http://schemas.openxmlformats.org/officeDocument/2006/relationships/slide" Target="slide39.xml"/><Relationship Id="rId6" Type="http://schemas.openxmlformats.org/officeDocument/2006/relationships/image" Target="../media/image26.gif"/><Relationship Id="rId7" Type="http://schemas.openxmlformats.org/officeDocument/2006/relationships/slide" Target="slide40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" Target="slide5.xml"/><Relationship Id="rId5" Type="http://schemas.openxmlformats.org/officeDocument/2006/relationships/image" Target="../media/image10.gif"/><Relationship Id="rId6" Type="http://schemas.openxmlformats.org/officeDocument/2006/relationships/slide" Target="slide9.xml"/><Relationship Id="rId7" Type="http://schemas.openxmlformats.org/officeDocument/2006/relationships/image" Target="../media/image10.gif"/><Relationship Id="rId8" Type="http://schemas.openxmlformats.org/officeDocument/2006/relationships/slide" Target="slide10.xml"/><Relationship Id="rId9" Type="http://schemas.openxmlformats.org/officeDocument/2006/relationships/image" Target="../media/image10.gif"/><Relationship Id="rId10" Type="http://schemas.openxmlformats.org/officeDocument/2006/relationships/slide" Target="slide11.xml"/><Relationship Id="rId11" Type="http://schemas.openxmlformats.org/officeDocument/2006/relationships/image" Target="../media/image10.gif"/><Relationship Id="rId12" Type="http://schemas.openxmlformats.org/officeDocument/2006/relationships/slide" Target="slide3.xml"/><Relationship Id="rId13" Type="http://schemas.openxmlformats.org/officeDocument/2006/relationships/image" Target="../media/image11.gif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6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slide" Target="slide44.xml"/><Relationship Id="rId4" Type="http://schemas.openxmlformats.org/officeDocument/2006/relationships/image" Target="../media/image26.gif"/><Relationship Id="rId5" Type="http://schemas.openxmlformats.org/officeDocument/2006/relationships/slide" Target="slide45.xml"/><Relationship Id="rId6" Type="http://schemas.openxmlformats.org/officeDocument/2006/relationships/image" Target="../media/image26.gif"/><Relationship Id="rId7" Type="http://schemas.openxmlformats.org/officeDocument/2006/relationships/slide" Target="slide46.xml"/><Relationship Id="rId8" Type="http://schemas.openxmlformats.org/officeDocument/2006/relationships/image" Target="../media/image26.gif"/><Relationship Id="rId9" Type="http://schemas.openxmlformats.org/officeDocument/2006/relationships/slide" Target="slide47.xml"/><Relationship Id="rId10" Type="http://schemas.openxmlformats.org/officeDocument/2006/relationships/image" Target="../media/image26.gif"/><Relationship Id="rId11" Type="http://schemas.openxmlformats.org/officeDocument/2006/relationships/slide" Target="slide48.xml"/><Relationship Id="rId12" Type="http://schemas.openxmlformats.org/officeDocument/2006/relationships/image" Target="../media/image26.gif"/><Relationship Id="rId13" Type="http://schemas.openxmlformats.org/officeDocument/2006/relationships/slide" Target="slide49.xml"/><Relationship Id="rId14" Type="http://schemas.openxmlformats.org/officeDocument/2006/relationships/image" Target="../media/image26.gi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slide" Target="slide6.xml"/><Relationship Id="rId4" Type="http://schemas.openxmlformats.org/officeDocument/2006/relationships/image" Target="../media/image13.gif"/><Relationship Id="rId5" Type="http://schemas.openxmlformats.org/officeDocument/2006/relationships/slide" Target="slide7.xml"/><Relationship Id="rId6" Type="http://schemas.openxmlformats.org/officeDocument/2006/relationships/image" Target="../media/image13.gif"/><Relationship Id="rId7" Type="http://schemas.openxmlformats.org/officeDocument/2006/relationships/slide" Target="slide8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7.jpeg"/><Relationship Id="rId3" Type="http://schemas.openxmlformats.org/officeDocument/2006/relationships/slide" Target="slide61.xml"/><Relationship Id="rId4" Type="http://schemas.openxmlformats.org/officeDocument/2006/relationships/image" Target="../media/image7.jpeg"/><Relationship Id="rId5" Type="http://schemas.openxmlformats.org/officeDocument/2006/relationships/slide" Target="slide71.xml"/><Relationship Id="rId6" Type="http://schemas.openxmlformats.org/officeDocument/2006/relationships/image" Target="../media/image7.jpeg"/><Relationship Id="rId7" Type="http://schemas.openxmlformats.org/officeDocument/2006/relationships/slide" Target="slide81.xml"/><Relationship Id="rId8" Type="http://schemas.openxmlformats.org/officeDocument/2006/relationships/image" Target="../media/image7.jpeg"/><Relationship Id="rId9" Type="http://schemas.openxmlformats.org/officeDocument/2006/relationships/slide" Target="slide2.xml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7.jpeg"/><Relationship Id="rId3" Type="http://schemas.openxmlformats.org/officeDocument/2006/relationships/slide" Target="slide52.xml"/><Relationship Id="rId4" Type="http://schemas.openxmlformats.org/officeDocument/2006/relationships/image" Target="../media/image10.gif"/><Relationship Id="rId5" Type="http://schemas.openxmlformats.org/officeDocument/2006/relationships/slide" Target="slide56.xml"/><Relationship Id="rId6" Type="http://schemas.openxmlformats.org/officeDocument/2006/relationships/image" Target="../media/image10.gif"/><Relationship Id="rId7" Type="http://schemas.openxmlformats.org/officeDocument/2006/relationships/slide" Target="slide57.xml"/><Relationship Id="rId8" Type="http://schemas.openxmlformats.org/officeDocument/2006/relationships/image" Target="../media/image10.gif"/><Relationship Id="rId9" Type="http://schemas.openxmlformats.org/officeDocument/2006/relationships/slide" Target="slide58.xml"/><Relationship Id="rId10" Type="http://schemas.openxmlformats.org/officeDocument/2006/relationships/image" Target="../media/image10.gif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" Target="slide53.xml"/><Relationship Id="rId4" Type="http://schemas.openxmlformats.org/officeDocument/2006/relationships/image" Target="../media/image26.gif"/><Relationship Id="rId5" Type="http://schemas.openxmlformats.org/officeDocument/2006/relationships/slide" Target="slide54.xml"/><Relationship Id="rId6" Type="http://schemas.openxmlformats.org/officeDocument/2006/relationships/image" Target="../media/image26.gif"/><Relationship Id="rId7" Type="http://schemas.openxmlformats.org/officeDocument/2006/relationships/slide" Target="slide55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6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" Target="slide59.xml"/><Relationship Id="rId4" Type="http://schemas.openxmlformats.org/officeDocument/2006/relationships/image" Target="../media/image26.gif"/><Relationship Id="rId5" Type="http://schemas.openxmlformats.org/officeDocument/2006/relationships/slide" Target="slide60.xm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58.xm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58.xm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7.jpeg"/><Relationship Id="rId3" Type="http://schemas.openxmlformats.org/officeDocument/2006/relationships/slide" Target="slide62.xml"/><Relationship Id="rId4" Type="http://schemas.openxmlformats.org/officeDocument/2006/relationships/image" Target="../media/image10.gif"/><Relationship Id="rId5" Type="http://schemas.openxmlformats.org/officeDocument/2006/relationships/slide" Target="slide63.xml"/><Relationship Id="rId6" Type="http://schemas.openxmlformats.org/officeDocument/2006/relationships/image" Target="../media/image10.gif"/><Relationship Id="rId7" Type="http://schemas.openxmlformats.org/officeDocument/2006/relationships/slide" Target="slide64.xml"/><Relationship Id="rId8" Type="http://schemas.openxmlformats.org/officeDocument/2006/relationships/image" Target="../media/image10.gif"/><Relationship Id="rId9" Type="http://schemas.openxmlformats.org/officeDocument/2006/relationships/slide" Target="slide65.xml"/><Relationship Id="rId10" Type="http://schemas.openxmlformats.org/officeDocument/2006/relationships/image" Target="../media/image10.gif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slide" Target="slide66.xml"/><Relationship Id="rId4" Type="http://schemas.openxmlformats.org/officeDocument/2006/relationships/image" Target="../media/image26.gif"/><Relationship Id="rId5" Type="http://schemas.openxmlformats.org/officeDocument/2006/relationships/slide" Target="slide69.xml"/><Relationship Id="rId6" Type="http://schemas.openxmlformats.org/officeDocument/2006/relationships/image" Target="../media/image26.gif"/><Relationship Id="rId7" Type="http://schemas.openxmlformats.org/officeDocument/2006/relationships/slide" Target="slide70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26.gi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7.jpeg"/><Relationship Id="rId3" Type="http://schemas.openxmlformats.org/officeDocument/2006/relationships/slide" Target="slide72.xml"/><Relationship Id="rId4" Type="http://schemas.openxmlformats.org/officeDocument/2006/relationships/image" Target="../media/image10.gif"/><Relationship Id="rId5" Type="http://schemas.openxmlformats.org/officeDocument/2006/relationships/slide" Target="slide76.xml"/><Relationship Id="rId6" Type="http://schemas.openxmlformats.org/officeDocument/2006/relationships/image" Target="../media/image10.gif"/><Relationship Id="rId7" Type="http://schemas.openxmlformats.org/officeDocument/2006/relationships/slide" Target="slide77.xml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12.gif"/><Relationship Id="rId3" Type="http://schemas.openxmlformats.org/officeDocument/2006/relationships/slide" Target="slide73.xml"/><Relationship Id="rId4" Type="http://schemas.openxmlformats.org/officeDocument/2006/relationships/image" Target="../media/image6.gif"/><Relationship Id="rId5" Type="http://schemas.openxmlformats.org/officeDocument/2006/relationships/slide" Target="slide74.xml"/><Relationship Id="rId6" Type="http://schemas.openxmlformats.org/officeDocument/2006/relationships/image" Target="../media/image6.gif"/><Relationship Id="rId7" Type="http://schemas.openxmlformats.org/officeDocument/2006/relationships/slide" Target="slide75.xml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5"/>
          <p:cNvGrpSpPr/>
          <p:nvPr/>
        </p:nvGrpSpPr>
        <p:grpSpPr>
          <a:xfrm>
            <a:off x="304920" y="1844640"/>
            <a:ext cx="2057400" cy="3657600"/>
            <a:chOff x="304920" y="1844640"/>
            <a:chExt cx="2057400" cy="3657600"/>
          </a:xfrm>
        </p:grpSpPr>
        <p:sp>
          <p:nvSpPr>
            <p:cNvPr id="90" name="AutoShape 6"/>
            <p:cNvSpPr/>
            <p:nvPr/>
          </p:nvSpPr>
          <p:spPr>
            <a:xfrm>
              <a:off x="304920" y="1844640"/>
              <a:ext cx="2057400" cy="747720"/>
            </a:xfrm>
            <a:prstGeom prst="flowChartPunchedTap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学习目标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304920" y="3563640"/>
              <a:ext cx="1676160" cy="596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知识点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AutoShape 8"/>
            <p:cNvSpPr/>
            <p:nvPr/>
          </p:nvSpPr>
          <p:spPr>
            <a:xfrm>
              <a:off x="304920" y="4903560"/>
              <a:ext cx="1676160" cy="5986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技能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3" name="Text Box 9"/>
          <p:cNvSpPr/>
          <p:nvPr/>
        </p:nvSpPr>
        <p:spPr>
          <a:xfrm>
            <a:off x="4037400" y="1916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掌握典型性果菜类和叶菜类作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的无土栽培技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021560" y="3500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蔬菜无土栽培的类型；常见蔬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作物的生物学特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007160" y="488304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设施设计与建造技术；植株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技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118680" y="620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d31"/>
                </a:solidFill>
                <a:latin typeface="Times New Roman"/>
                <a:ea typeface="隶书"/>
              </a:rPr>
              <a:t>第九章 蔬菜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50680" y="765000"/>
            <a:ext cx="40863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三）栽培方式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3085920"/>
            <a:ext cx="259092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水培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基质培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4572000" y="34671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4"/>
          <a:stretch/>
        </p:blipFill>
        <p:spPr>
          <a:xfrm>
            <a:off x="3286080" y="2060640"/>
            <a:ext cx="52466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2476440" y="1019160"/>
            <a:ext cx="418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四）管理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208908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NI_0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43280" y="310356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3544920" y="2852640"/>
            <a:ext cx="304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育苗与定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环境调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0" name="Picture 8" descr="ANI_05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43280" y="367992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NI_05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43280" y="432756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365000" y="684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育苗与定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87280" y="1644480"/>
            <a:ext cx="85327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育苗方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穴盘育苗；塑料钵育苗；岩棉块育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苗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冬春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天；夏秋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天。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叶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心或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叶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定植密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株行距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＊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4" name="Picture 6" descr="ANI_05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90792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262400" y="684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环境调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Picture 5" descr="ANI_05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90792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24000" y="1844640"/>
            <a:ext cx="85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温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昼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夜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基质或液温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湿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空气湿度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%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基质湿度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90%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4149000" y="684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9" name="Picture 6" descr="ANI_05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90792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24000" y="1484280"/>
            <a:ext cx="8496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配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日本山崎黄瓜专用配方；日本园试通用配方。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.6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EC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的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开花前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4ms/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开花后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/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瓜膨大期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/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供液方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白天供液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，每次每株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L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31680" y="2736720"/>
            <a:ext cx="284796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季节和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栽培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2" name="Picture 4" descr="ANI_1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8229600" cy="152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xhs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590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ANI_0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296244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ANI_05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48000" y="361008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ANI_05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48000" y="42768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ANI_05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48000" y="4925880"/>
            <a:ext cx="914400" cy="250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1"/>
          <p:cNvSpPr/>
          <p:nvPr/>
        </p:nvSpPr>
        <p:spPr>
          <a:xfrm>
            <a:off x="3276720" y="909720"/>
            <a:ext cx="2808000" cy="647640"/>
          </a:xfrm>
          <a:prstGeom prst="flowChartAlternateProcess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二、番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908000" y="2982600"/>
            <a:ext cx="5500800" cy="21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物学特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对环境条件的要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68360" y="98100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1" name="Picture 4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ANI_0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319392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ANI_05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40000" y="38768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ANI_05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40000" y="450540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04060221000811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76480" y="1865160"/>
            <a:ext cx="3354480" cy="31957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2"/>
          <p:cNvGrpSpPr/>
          <p:nvPr/>
        </p:nvGrpSpPr>
        <p:grpSpPr>
          <a:xfrm>
            <a:off x="1287000" y="304920"/>
            <a:ext cx="6738840" cy="6229440"/>
            <a:chOff x="1287000" y="304920"/>
            <a:chExt cx="6738840" cy="6229440"/>
          </a:xfrm>
        </p:grpSpPr>
        <p:sp>
          <p:nvSpPr>
            <p:cNvPr id="187" name="Text Box 3"/>
            <p:cNvSpPr/>
            <p:nvPr/>
          </p:nvSpPr>
          <p:spPr>
            <a:xfrm>
              <a:off x="1545120" y="2341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根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Text Box 4"/>
            <p:cNvSpPr/>
            <p:nvPr/>
          </p:nvSpPr>
          <p:spPr>
            <a:xfrm>
              <a:off x="4170600" y="1197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茎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Text Box 5"/>
            <p:cNvSpPr/>
            <p:nvPr/>
          </p:nvSpPr>
          <p:spPr>
            <a:xfrm>
              <a:off x="6850440" y="2313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叶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6850440" y="4317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花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4299480" y="51354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果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Text Box 8"/>
            <p:cNvSpPr/>
            <p:nvPr/>
          </p:nvSpPr>
          <p:spPr>
            <a:xfrm>
              <a:off x="1496160" y="43941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种子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1287000" y="1346040"/>
              <a:ext cx="91224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直根系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3952440" y="304920"/>
              <a:ext cx="912240" cy="58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半蔓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6183720" y="1235160"/>
              <a:ext cx="1643760" cy="581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互生，羽状裂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382080" y="5508720"/>
              <a:ext cx="1643760" cy="581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两性，总状序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3873240" y="5952960"/>
              <a:ext cx="1400040" cy="581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浆果，多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1322280" y="5508720"/>
              <a:ext cx="1400040" cy="581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肾形，扁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Line 15"/>
            <p:cNvSpPr/>
            <p:nvPr/>
          </p:nvSpPr>
          <p:spPr>
            <a:xfrm flipV="1">
              <a:off x="1738440" y="194004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Line 16"/>
            <p:cNvSpPr/>
            <p:nvPr/>
          </p:nvSpPr>
          <p:spPr>
            <a:xfrm flipV="1">
              <a:off x="4378320" y="90000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 flipV="1">
              <a:off x="7059600" y="17902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Line 18"/>
            <p:cNvSpPr/>
            <p:nvPr/>
          </p:nvSpPr>
          <p:spPr>
            <a:xfrm>
              <a:off x="7059600" y="4987800"/>
              <a:ext cx="0" cy="5940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Line 19"/>
            <p:cNvSpPr/>
            <p:nvPr/>
          </p:nvSpPr>
          <p:spPr>
            <a:xfrm>
              <a:off x="1882800" y="50608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Line 20"/>
            <p:cNvSpPr/>
            <p:nvPr/>
          </p:nvSpPr>
          <p:spPr>
            <a:xfrm>
              <a:off x="4508640" y="573084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87680" y="866880"/>
            <a:ext cx="3713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方正姚体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姚体"/>
              </a:rPr>
              <a:t>生育周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12680" y="2558880"/>
            <a:ext cx="37688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发芽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幼苗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始花座果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结果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7" name="Picture 4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098800"/>
            <a:ext cx="8229600" cy="1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57120" y="658440"/>
            <a:ext cx="507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方正姚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550880"/>
          <a:ext cx="8610480" cy="5011920"/>
        </p:xfrm>
        <a:graphic>
          <a:graphicData uri="http://schemas.openxmlformats.org/drawingml/2006/table">
            <a:tbl>
              <a:tblPr/>
              <a:tblGrid>
                <a:gridCol w="3187440"/>
                <a:gridCol w="2664000"/>
                <a:gridCol w="2759040"/>
              </a:tblGrid>
              <a:tr h="55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生育期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最适气温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3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饱和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.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照时间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h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0" name="Picture 46" descr="ANI_056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2085840" y="83664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本章内容"/>
          <p:cNvPicPr/>
          <p:nvPr/>
        </p:nvPicPr>
        <p:blipFill>
          <a:blip r:embed="rId1"/>
          <a:stretch/>
        </p:blipFill>
        <p:spPr>
          <a:xfrm>
            <a:off x="3351240" y="771480"/>
            <a:ext cx="2876400" cy="884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780280" y="200664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第一节　果菜类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576880" y="3159000"/>
            <a:ext cx="43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第二节　叶菜类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Picture 19" descr="ANI_04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1800" y="2259000"/>
            <a:ext cx="339840" cy="33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I_04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0880" y="3395520"/>
            <a:ext cx="33984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08160" y="803160"/>
            <a:ext cx="653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二）栽培季节和品种选择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Picture 3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65744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89080" y="2133720"/>
          <a:ext cx="8512200" cy="4149720"/>
        </p:xfrm>
        <a:graphic>
          <a:graphicData uri="http://schemas.openxmlformats.org/drawingml/2006/table">
            <a:tbl>
              <a:tblPr/>
              <a:tblGrid>
                <a:gridCol w="2017440"/>
                <a:gridCol w="2087640"/>
                <a:gridCol w="1871640"/>
                <a:gridCol w="253548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茬口类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二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一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春番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秋番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越冬长季番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育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定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采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中杂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佳粉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L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40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中杂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佳粉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卡鲁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红冠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中杂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佳粉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卡鲁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56920" y="836280"/>
            <a:ext cx="4086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三）栽培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39868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水培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基质培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6" name="Picture 4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STA50026"/>
          <p:cNvPicPr/>
          <p:nvPr/>
        </p:nvPicPr>
        <p:blipFill>
          <a:blip r:embed="rId3"/>
          <a:stretch/>
        </p:blipFill>
        <p:spPr>
          <a:xfrm>
            <a:off x="4284720" y="2763720"/>
            <a:ext cx="46022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55920" y="1095120"/>
            <a:ext cx="406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四）栽培管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61560" y="2925720"/>
            <a:ext cx="4762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苗期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定植与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株调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0" name="Picture 4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224640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番茄育苗－2"/>
          <p:cNvPicPr/>
          <p:nvPr/>
        </p:nvPicPr>
        <p:blipFill>
          <a:blip r:embed="rId3"/>
          <a:stretch/>
        </p:blipFill>
        <p:spPr>
          <a:xfrm>
            <a:off x="5918040" y="321300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ANI_05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31748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ANI_05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8360" y="389556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ANI_05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360" y="461628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33520" y="836280"/>
            <a:ext cx="4183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苗期管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2253960"/>
            <a:ext cx="830556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方正姚体"/>
              </a:rPr>
              <a:t>营养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EC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ms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／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.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液温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气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昼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8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温差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7" name="Picture 5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731960"/>
            <a:ext cx="8153640" cy="1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47640" y="838080"/>
            <a:ext cx="6002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定植与营养液管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2178000"/>
            <a:ext cx="815364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株行距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＊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5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配方：山崎配方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EC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ms/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低季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/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高季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ms/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792440"/>
            <a:ext cx="8153640" cy="1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98480" y="761760"/>
            <a:ext cx="3989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植株调整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246040"/>
            <a:ext cx="39542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整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吊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留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除叶、打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落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摘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3" name="Picture 4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1792440"/>
            <a:ext cx="8153280" cy="112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番茄整枝方式"/>
          <p:cNvPicPr/>
          <p:nvPr/>
        </p:nvPicPr>
        <p:blipFill>
          <a:blip r:embed="rId3"/>
          <a:stretch/>
        </p:blipFill>
        <p:spPr>
          <a:xfrm>
            <a:off x="4648320" y="21337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31680" y="3025800"/>
            <a:ext cx="31352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季节和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6" name="Picture 5" descr="ANI_1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124000"/>
            <a:ext cx="8229600" cy="152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324972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48000" y="39322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48000" y="4599000"/>
            <a:ext cx="914400" cy="2509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1"/>
          <p:cNvSpPr/>
          <p:nvPr/>
        </p:nvSpPr>
        <p:spPr>
          <a:xfrm>
            <a:off x="3203640" y="909720"/>
            <a:ext cx="3097080" cy="647640"/>
          </a:xfrm>
          <a:prstGeom prst="flowChartAlternateProcess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三、甜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1" name="Picture 12" descr="金钟1"/>
          <p:cNvPicPr/>
          <p:nvPr/>
        </p:nvPicPr>
        <p:blipFill>
          <a:blip r:embed="rId10"/>
          <a:stretch/>
        </p:blipFill>
        <p:spPr>
          <a:xfrm>
            <a:off x="6056280" y="3400560"/>
            <a:ext cx="28368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834920" y="2923920"/>
            <a:ext cx="554508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物学特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对环境条件的要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268360" y="981000"/>
            <a:ext cx="467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4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95640" y="3213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195640" y="393372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195640" y="4608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3117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植物学特征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9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295560" cy="2955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82120" y="1708200"/>
            <a:ext cx="37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浅根性，深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5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995920" y="2565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直立，假二杈或三杈分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3180240" y="3429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单叶，互生，卵圆形或椭圆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2882880" y="4292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多白色，单生或簇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2698200" y="5229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浆果，形状多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6958080" y="486900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6495480" y="5734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肾形，淡黄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132000" y="2265480"/>
            <a:ext cx="247032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发芽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幼苗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始花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坐果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421080" y="979560"/>
            <a:ext cx="237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4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24308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2268360" y="2997360"/>
            <a:ext cx="179892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黄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AutoShape 6">
            <a:hlinkClick r:id="rId3" action="ppaction://hlinksldjump"/>
          </p:cNvPr>
          <p:cNvSpPr/>
          <p:nvPr/>
        </p:nvSpPr>
        <p:spPr>
          <a:xfrm>
            <a:off x="2268360" y="4510080"/>
            <a:ext cx="1798920" cy="647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番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AutoShape 7">
            <a:hlinkClick r:id="rId5" action="ppaction://hlinksldjump"/>
          </p:cNvPr>
          <p:cNvSpPr/>
          <p:nvPr/>
        </p:nvSpPr>
        <p:spPr>
          <a:xfrm>
            <a:off x="5364000" y="2997360"/>
            <a:ext cx="1656000" cy="64764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甜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AutoShape 8">
            <a:hlinkClick r:id="rId7" action="ppaction://hlinksldjump"/>
          </p:cNvPr>
          <p:cNvSpPr/>
          <p:nvPr/>
        </p:nvSpPr>
        <p:spPr>
          <a:xfrm>
            <a:off x="5364000" y="4508640"/>
            <a:ext cx="1657440" cy="64764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甜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9" descr="ANI_09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6000" y="1995480"/>
            <a:ext cx="8820000" cy="1382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930760" y="765000"/>
            <a:ext cx="37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第一节 果菜类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05160" y="942840"/>
            <a:ext cx="295200" cy="2955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42703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环境条件的要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01680" y="1557360"/>
          <a:ext cx="8540640" cy="4937040"/>
        </p:xfrm>
        <a:graphic>
          <a:graphicData uri="http://schemas.openxmlformats.org/drawingml/2006/table">
            <a:tbl>
              <a:tblPr/>
              <a:tblGrid>
                <a:gridCol w="3162240"/>
                <a:gridCol w="2641680"/>
                <a:gridCol w="27367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幼苗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6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果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7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饱和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.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63640" y="692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二）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9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304920" y="2062080"/>
          <a:ext cx="8540640" cy="4319640"/>
        </p:xfrm>
        <a:graphic>
          <a:graphicData uri="http://schemas.openxmlformats.org/drawingml/2006/table">
            <a:tbl>
              <a:tblPr/>
              <a:tblGrid>
                <a:gridCol w="1800000"/>
                <a:gridCol w="2319480"/>
                <a:gridCol w="1878120"/>
                <a:gridCol w="2543040"/>
              </a:tblGrid>
              <a:tr h="576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茬口类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二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一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春甜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秋甜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越冬长季甜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育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定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采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马拉托红色甜椒；卡匹奴黄色甜椒；拉姆紫色甜椒等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2627280" y="782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栽培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2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873080"/>
            <a:ext cx="8076960" cy="115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195640" y="2708280"/>
            <a:ext cx="4681440" cy="216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苗期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定植后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4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16360" y="29894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16360" y="37353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16360" y="443700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配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华南农大果菜配方；山崎甜椒配方；园试配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浓度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生长前期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.0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个剂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开花结果期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.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.5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个剂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pH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值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6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7.5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564000" y="692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9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87640" y="90792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5406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方正姚体"/>
                <a:ea typeface="方正姚体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1</a:t>
            </a:r>
            <a:r>
              <a:rPr b="1" lang="zh-CN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种子处理与播种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2</a:t>
            </a:r>
            <a:r>
              <a:rPr b="1" lang="zh-CN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环境控制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幼苗出土后昼温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25 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 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、夜温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15 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 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营养液浓度：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1.0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个剂量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基质湿度：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80%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空间湿度：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60%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564000" y="692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2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90792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1320" y="1557360"/>
            <a:ext cx="8591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温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生长前期：昼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、夜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结果期：昼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8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、夜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湿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基质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80%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；空间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60%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光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营养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5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植株调整：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吊蔓、绕蔓；留枝；留果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564000" y="6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定植后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5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90792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4"/>
          <p:cNvSpPr/>
          <p:nvPr/>
        </p:nvSpPr>
        <p:spPr>
          <a:xfrm>
            <a:off x="3203640" y="836640"/>
            <a:ext cx="3024000" cy="64764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、甜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964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栽培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复合基质槽培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8" name="Picture 6" descr="ANI_05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92720" y="260208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I_0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92720" y="332280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ANI_05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292720" y="397044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ANI_05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292720" y="458136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甜瓜"/>
          <p:cNvPicPr/>
          <p:nvPr/>
        </p:nvPicPr>
        <p:blipFill>
          <a:blip r:embed="rId10"/>
          <a:stretch/>
        </p:blipFill>
        <p:spPr>
          <a:xfrm>
            <a:off x="6516720" y="365436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ANI_10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8360" y="1916280"/>
            <a:ext cx="8229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619280" y="2923920"/>
            <a:ext cx="590544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物学特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对环境条件的要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2556000" y="998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32050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40000" y="39402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40000" y="4608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49800" y="620640"/>
            <a:ext cx="2590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1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295560" cy="2955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166120" y="1708200"/>
            <a:ext cx="37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深根性，深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25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2410920" y="2565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蔓性，分枝力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2779920" y="3429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单叶，互生，圆形或肾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413600" y="4292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黄色，雄花单性、雌花两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2574720" y="522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瓠果，圆或椭圆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6294600" y="5094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6271920" y="5877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扁平披针形，灰白、黄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276360" y="2625480"/>
            <a:ext cx="2469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发芽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抽蔓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果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3421080" y="1052640"/>
            <a:ext cx="237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姚体"/>
              </a:rPr>
              <a:t>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6" name="Picture 6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33344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3348000" y="909720"/>
            <a:ext cx="266400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、黄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栽培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管理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Picture 6" descr="2003112785153799"/>
          <p:cNvPicPr/>
          <p:nvPr/>
        </p:nvPicPr>
        <p:blipFill>
          <a:blip r:embed="rId3"/>
          <a:stretch/>
        </p:blipFill>
        <p:spPr>
          <a:xfrm>
            <a:off x="6948360" y="3141720"/>
            <a:ext cx="1656000" cy="30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NI_0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51640" y="26226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I_05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651640" y="332280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ANI_05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673600" y="40608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NI_05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651640" y="47242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NI_104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8360" y="1916280"/>
            <a:ext cx="8229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98100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396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01680" y="1700280"/>
          <a:ext cx="8540640" cy="4937040"/>
        </p:xfrm>
        <a:graphic>
          <a:graphicData uri="http://schemas.openxmlformats.org/drawingml/2006/table">
            <a:tbl>
              <a:tblPr/>
              <a:tblGrid>
                <a:gridCol w="3406680"/>
                <a:gridCol w="2397240"/>
                <a:gridCol w="27367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幼苗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果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4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饱和点（万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.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4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1763640" y="692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二）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1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304920" y="2133720"/>
          <a:ext cx="8540640" cy="3959280"/>
        </p:xfrm>
        <a:graphic>
          <a:graphicData uri="http://schemas.openxmlformats.org/drawingml/2006/table">
            <a:tbl>
              <a:tblPr/>
              <a:tblGrid>
                <a:gridCol w="1800000"/>
                <a:gridCol w="3259080"/>
                <a:gridCol w="348156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茬口类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二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春季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秋季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育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定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采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金丽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号、喇嘛黄、白雪公主等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95640" y="874440"/>
            <a:ext cx="496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栽培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2852280"/>
            <a:ext cx="8496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水培：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DFT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NFT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基质培：岩棉培、沙培、有机基质培、复合基质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5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4608360" cy="374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栽培槽与基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环境调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植株调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2195640" y="83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四）复合基质槽培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8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59280" y="25113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59280" y="30495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59280" y="36068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ANI_02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59280" y="414972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ANI_02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059280" y="46911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ANI_024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059280" y="526248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01680" y="1976400"/>
            <a:ext cx="854064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种子处理与播种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温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出土前，昼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大于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出土后，昼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湿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基质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%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空间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%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492360" y="76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7" name="Picture 6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67796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01680" y="2192040"/>
            <a:ext cx="8540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栽培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宽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cm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深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cm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长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基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草炭：蛭石：珍珠岩＝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5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上铺塑料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2987640" y="9158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栽培槽与基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0" name="Picture 6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93960"/>
            <a:ext cx="842472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24000" y="2120760"/>
            <a:ext cx="8540640" cy="39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缓苗期间：昼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开花坐果期：昼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8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果实膨大期：昼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2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空间湿度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%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348000" y="9079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环境调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3" name="Picture 6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20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46040" y="2349000"/>
            <a:ext cx="8251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整枝方式：单蔓；双蔓；四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授粉：上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2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疏叶、疏果：每株留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个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翻瓜：日落前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进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348000" y="8431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植株调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6" name="Picture 7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96524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配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浓度控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苗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0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定植到开花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结果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8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8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供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苗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/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d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成株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/d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供液量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L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419640" y="8431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9" name="Picture 7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749600"/>
            <a:ext cx="842472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17320" y="2349000"/>
            <a:ext cx="8086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时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早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标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瓜皮颜色、网纹形状、果柄状态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果梗与侧蔓呈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T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067280" y="91764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2" name="Picture 5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20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86080" y="2982960"/>
            <a:ext cx="4849920" cy="2246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413080" y="98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8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216072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ANI_0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71640" y="321300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ANI_05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771640" y="38606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ANI_05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71640" y="450864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2324160" y="981000"/>
            <a:ext cx="47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第二节　叶菜类无土栽培技术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AutoShape 5">
            <a:hlinkClick r:id="rId1" action="ppaction://hlinksldjump"/>
          </p:cNvPr>
          <p:cNvSpPr/>
          <p:nvPr/>
        </p:nvSpPr>
        <p:spPr>
          <a:xfrm>
            <a:off x="1979640" y="2997360"/>
            <a:ext cx="144000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莴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AutoShape 6">
            <a:hlinkClick r:id="rId3" action="ppaction://hlinksldjump"/>
          </p:cNvPr>
          <p:cNvSpPr/>
          <p:nvPr/>
        </p:nvSpPr>
        <p:spPr>
          <a:xfrm>
            <a:off x="1979640" y="4510080"/>
            <a:ext cx="2305080" cy="647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紫背天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AutoShape 7">
            <a:hlinkClick r:id="rId5" action="ppaction://hlinksldjump"/>
          </p:cNvPr>
          <p:cNvSpPr/>
          <p:nvPr/>
        </p:nvSpPr>
        <p:spPr>
          <a:xfrm>
            <a:off x="5867280" y="2997360"/>
            <a:ext cx="1440000" cy="64764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芹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AutoShape 8">
            <a:hlinkClick r:id="rId7" action="ppaction://hlinksldjump"/>
          </p:cNvPr>
          <p:cNvSpPr/>
          <p:nvPr/>
        </p:nvSpPr>
        <p:spPr>
          <a:xfrm>
            <a:off x="5867280" y="4510080"/>
            <a:ext cx="1727280" cy="64764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京水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8" name="Picture 9" descr="ANI_09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6000" y="2138400"/>
            <a:ext cx="882000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4">
            <a:hlinkClick r:id="rId1" action="ppaction://hlinksldjump"/>
          </p:cNvPr>
          <p:cNvSpPr/>
          <p:nvPr/>
        </p:nvSpPr>
        <p:spPr>
          <a:xfrm>
            <a:off x="2627280" y="765000"/>
            <a:ext cx="2521080" cy="64800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、莴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539640" y="3286080"/>
            <a:ext cx="4896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生物学特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栽培季节和品种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栽培方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管理技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1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19640" y="34480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19640" y="407664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219640" y="468648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ANI_05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219640" y="52578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盆钵水培红叶生菜"/>
          <p:cNvPicPr/>
          <p:nvPr/>
        </p:nvPicPr>
        <p:blipFill>
          <a:blip r:embed="rId11"/>
          <a:stretch/>
        </p:blipFill>
        <p:spPr>
          <a:xfrm>
            <a:off x="6084720" y="692280"/>
            <a:ext cx="2735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66920" y="2923920"/>
            <a:ext cx="532944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556000" y="998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8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63720" y="3186000"/>
            <a:ext cx="295560" cy="295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763720" y="382284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63720" y="4470480"/>
            <a:ext cx="29556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49800" y="620640"/>
            <a:ext cx="2590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3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295560" cy="2955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496960" y="1681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浅根性，须根发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1964520" y="2592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短缩，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808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3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137040" y="3429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单叶，簇生于短缩茎上，披针形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3045600" y="4292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浅黄色，头状花序聚合为圆锥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201960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瘦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6380280" y="5094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6247080" y="5877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黑色，黄褐色、银白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3421080" y="981000"/>
            <a:ext cx="28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方正姚体"/>
              </a:rPr>
              <a:t>生育周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87" name="Picture 6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33344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243252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营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2503800" y="4694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生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6880" y="1916280"/>
            <a:ext cx="91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发芽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幼苗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莲座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结球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5704560" y="44370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抽苔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开花结果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3995640" y="2276640"/>
            <a:ext cx="935280" cy="1439640"/>
          </a:xfrm>
          <a:custGeom>
            <a:avLst/>
            <a:gdLst>
              <a:gd name="textAreaLeft" fmla="*/ 597600 w 935280"/>
              <a:gd name="textAreaRight" fmla="*/ 935640 w 935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>
            <a:off x="4067280" y="4653000"/>
            <a:ext cx="865080" cy="792000"/>
          </a:xfrm>
          <a:custGeom>
            <a:avLst/>
            <a:gdLst>
              <a:gd name="textAreaLeft" fmla="*/ 552600 w 865080"/>
              <a:gd name="textAreaRight" fmla="*/ 865440 w 865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98100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396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01680" y="1700280"/>
          <a:ext cx="8540640" cy="4389480"/>
        </p:xfrm>
        <a:graphic>
          <a:graphicData uri="http://schemas.openxmlformats.org/drawingml/2006/table">
            <a:tbl>
              <a:tblPr/>
              <a:tblGrid>
                <a:gridCol w="3406680"/>
                <a:gridCol w="2397240"/>
                <a:gridCol w="27367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幼苗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球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实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照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长日照，需光种子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充足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pH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值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.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01680" y="2554200"/>
            <a:ext cx="85406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季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除夏季外均可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结球生菜；皱叶生菜；直立生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208160" y="803160"/>
            <a:ext cx="653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二）栽培季节和品种选择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9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657440"/>
            <a:ext cx="80769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5640" y="874440"/>
            <a:ext cx="496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栽培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700000" y="2421000"/>
            <a:ext cx="482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立柱叠盆式水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平面漂浮水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基质槽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2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2700360" y="7002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四）管理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4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2411280" y="2349360"/>
            <a:ext cx="4392720" cy="165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苗期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6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81160" y="262584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1160" y="3387600"/>
            <a:ext cx="2955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77680" y="2192040"/>
            <a:ext cx="736596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育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苗龄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天，具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片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定植密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早熟品种：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23×20cm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　　中、晚熟品种：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33×24cm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406728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0" name="Picture 6" descr="ANI_024"/>
          <p:cNvPicPr/>
          <p:nvPr/>
        </p:nvPicPr>
        <p:blipFill>
          <a:blip r:embed="rId1"/>
          <a:stretch/>
        </p:blipFill>
        <p:spPr>
          <a:xfrm>
            <a:off x="3413160" y="981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LIN_0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1604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"/>
          <p:cNvSpPr/>
          <p:nvPr/>
        </p:nvSpPr>
        <p:spPr>
          <a:xfrm>
            <a:off x="4299480" y="5135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789000" y="5952960"/>
            <a:ext cx="23166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(hu)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果，棒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1100520" y="473040"/>
            <a:ext cx="7250400" cy="5694840"/>
            <a:chOff x="1100520" y="473040"/>
            <a:chExt cx="7250400" cy="5694840"/>
          </a:xfrm>
        </p:grpSpPr>
        <p:sp>
          <p:nvSpPr>
            <p:cNvPr id="125" name="Text Box 6"/>
            <p:cNvSpPr/>
            <p:nvPr/>
          </p:nvSpPr>
          <p:spPr>
            <a:xfrm>
              <a:off x="1545120" y="2341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根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4170600" y="1336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茎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6850440" y="2313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叶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7233120" y="4149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花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1496160" y="43941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种子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1287000" y="1346040"/>
              <a:ext cx="912240" cy="58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浅根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4026600" y="473040"/>
              <a:ext cx="66852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蔓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091560" y="1235160"/>
              <a:ext cx="1643760" cy="58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互生，心脏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6463440" y="5508720"/>
              <a:ext cx="1887480" cy="581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单性，雌雄同株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1100520" y="5586480"/>
              <a:ext cx="1643760" cy="581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披针形，扁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V="1">
              <a:off x="1738440" y="194004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 flipV="1">
              <a:off x="4378320" y="104148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 flipV="1">
              <a:off x="7059600" y="17902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7451640" y="4869000"/>
              <a:ext cx="0" cy="593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1882800" y="50608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0" name="Line 23"/>
          <p:cNvSpPr/>
          <p:nvPr/>
        </p:nvSpPr>
        <p:spPr>
          <a:xfrm>
            <a:off x="4508640" y="5730840"/>
            <a:ext cx="0" cy="371520"/>
          </a:xfrm>
          <a:prstGeom prst="line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Picture 24" descr="袋状基质栽培－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03640" y="2205000"/>
            <a:ext cx="2425680" cy="279396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"/>
          <p:cNvSpPr/>
          <p:nvPr/>
        </p:nvSpPr>
        <p:spPr>
          <a:xfrm>
            <a:off x="5892840" y="57780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互生：每节上只长一片叶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31640" y="2060640"/>
            <a:ext cx="817272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配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浓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结球前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结球期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供液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白天：上、下午各循环一次，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min/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晚上：不循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4067280" y="76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4" name="Picture 6" descr="ANI_024"/>
          <p:cNvPicPr/>
          <p:nvPr/>
        </p:nvPicPr>
        <p:blipFill>
          <a:blip r:embed="rId1"/>
          <a:stretch/>
        </p:blipFill>
        <p:spPr>
          <a:xfrm>
            <a:off x="3413160" y="981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LIN_0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1604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>
            <a:hlinkClick r:id="rId1" action="ppaction://hlinksldjump"/>
          </p:cNvPr>
          <p:cNvSpPr/>
          <p:nvPr/>
        </p:nvSpPr>
        <p:spPr>
          <a:xfrm>
            <a:off x="2556000" y="836640"/>
            <a:ext cx="352872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二、紫背天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9528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生物学特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品种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繁殖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立柱盆钵基质培技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8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8000" y="260352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88000" y="320832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8000" y="37846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ANI_05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788000" y="437976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STA50283"/>
          <p:cNvPicPr/>
          <p:nvPr/>
        </p:nvPicPr>
        <p:blipFill>
          <a:blip r:embed="rId11"/>
          <a:srcRect l="18917" t="0" r="0" b="4283"/>
          <a:stretch/>
        </p:blipFill>
        <p:spPr>
          <a:xfrm>
            <a:off x="6227640" y="3573360"/>
            <a:ext cx="25131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1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6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255600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4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50920" y="2420640"/>
            <a:ext cx="8540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高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90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茎分枝性强，紫红色或绿色；叶互生，长卵状宽披针形，正面深绿色，背面紫色；花橙黄色，两性，头状花序顶生或腋生。一般不结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生育适温为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能耐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的低温；对光照要求不严格，较耐阴，但光照好时生长健壮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4"/>
          <p:cNvSpPr/>
          <p:nvPr/>
        </p:nvSpPr>
        <p:spPr>
          <a:xfrm>
            <a:off x="255600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二）品种选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7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95000" y="2494080"/>
            <a:ext cx="8180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红叶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叶背和茎为紫红色，又分大叶种与小叶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绿叶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茎基为淡紫色，叶绿色，分枝性差，叶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255600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繁殖方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0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3960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1.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扦插繁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株繁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播种繁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2" name="Picture 7" descr="插穗下切口处理2"/>
          <p:cNvPicPr/>
          <p:nvPr/>
        </p:nvPicPr>
        <p:blipFill>
          <a:blip r:embed="rId3"/>
          <a:stretch/>
        </p:blipFill>
        <p:spPr>
          <a:xfrm>
            <a:off x="5940360" y="3284640"/>
            <a:ext cx="280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1187280" y="76500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四）立柱盆钵式基质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4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77336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195640" y="2565000"/>
            <a:ext cx="5184720" cy="215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设施建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基质选择与处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6" name="Picture 9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43280" y="28386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43280" y="35132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43280" y="417996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"/>
          <p:cNvSpPr/>
          <p:nvPr/>
        </p:nvSpPr>
        <p:spPr>
          <a:xfrm>
            <a:off x="3924360" y="9079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设施建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0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STA50044"/>
          <p:cNvPicPr/>
          <p:nvPr/>
        </p:nvPicPr>
        <p:blipFill>
          <a:blip r:embed="rId3"/>
          <a:stretch/>
        </p:blipFill>
        <p:spPr>
          <a:xfrm>
            <a:off x="250920" y="1916280"/>
            <a:ext cx="3960720" cy="44290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7"/>
          <p:cNvSpPr/>
          <p:nvPr/>
        </p:nvSpPr>
        <p:spPr>
          <a:xfrm>
            <a:off x="4572000" y="2492280"/>
            <a:ext cx="2879640" cy="7923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建立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4572000" y="3716280"/>
            <a:ext cx="4248000" cy="7923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安装滴灌系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4">
            <a:hlinkClick r:id="rId1" action="ppaction://hlinksldjump"/>
          </p:cNvPr>
          <p:cNvSpPr/>
          <p:nvPr/>
        </p:nvSpPr>
        <p:spPr>
          <a:xfrm>
            <a:off x="4427640" y="620640"/>
            <a:ext cx="2879640" cy="7923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建立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5" name="Group 21"/>
          <p:cNvGrpSpPr/>
          <p:nvPr/>
        </p:nvGrpSpPr>
        <p:grpSpPr>
          <a:xfrm>
            <a:off x="1001160" y="2569320"/>
            <a:ext cx="7610760" cy="3557520"/>
            <a:chOff x="1001160" y="2569320"/>
            <a:chExt cx="7610760" cy="3557520"/>
          </a:xfrm>
        </p:grpSpPr>
        <p:sp>
          <p:nvSpPr>
            <p:cNvPr id="446" name="Rectangle 5"/>
            <p:cNvSpPr/>
            <p:nvPr/>
          </p:nvSpPr>
          <p:spPr>
            <a:xfrm rot="1278600">
              <a:off x="1585440" y="2653920"/>
              <a:ext cx="101340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 rot="1278600">
              <a:off x="3540240" y="2653920"/>
              <a:ext cx="101340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 rot="1278600">
              <a:off x="7014240" y="2653920"/>
              <a:ext cx="101340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9" name="Rectangle 8"/>
            <p:cNvSpPr/>
            <p:nvPr/>
          </p:nvSpPr>
          <p:spPr>
            <a:xfrm rot="1278600">
              <a:off x="5204880" y="2636640"/>
              <a:ext cx="101304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50" name="Group 11"/>
            <p:cNvGrpSpPr/>
            <p:nvPr/>
          </p:nvGrpSpPr>
          <p:grpSpPr>
            <a:xfrm>
              <a:off x="1277280" y="5244480"/>
              <a:ext cx="615240" cy="552240"/>
              <a:chOff x="1277280" y="5244480"/>
              <a:chExt cx="615240" cy="552240"/>
            </a:xfrm>
          </p:grpSpPr>
          <p:sp>
            <p:nvSpPr>
              <p:cNvPr id="451" name="Rectangle 9"/>
              <p:cNvSpPr/>
              <p:nvPr/>
            </p:nvSpPr>
            <p:spPr>
              <a:xfrm rot="1331400">
                <a:off x="1332000" y="5325120"/>
                <a:ext cx="505440" cy="3902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2" name="Oval 10"/>
              <p:cNvSpPr/>
              <p:nvPr/>
            </p:nvSpPr>
            <p:spPr>
              <a:xfrm>
                <a:off x="1370160" y="5346720"/>
                <a:ext cx="432000" cy="35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2"/>
            <p:cNvGrpSpPr/>
            <p:nvPr/>
          </p:nvGrpSpPr>
          <p:grpSpPr>
            <a:xfrm>
              <a:off x="1638000" y="4446000"/>
              <a:ext cx="615240" cy="552240"/>
              <a:chOff x="1638000" y="4446000"/>
              <a:chExt cx="615240" cy="552240"/>
            </a:xfrm>
          </p:grpSpPr>
          <p:sp>
            <p:nvSpPr>
              <p:cNvPr id="454" name="Rectangle 13"/>
              <p:cNvSpPr/>
              <p:nvPr/>
            </p:nvSpPr>
            <p:spPr>
              <a:xfrm rot="1331400">
                <a:off x="1692720" y="4526640"/>
                <a:ext cx="505440" cy="3902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5" name="Oval 14"/>
              <p:cNvSpPr/>
              <p:nvPr/>
            </p:nvSpPr>
            <p:spPr>
              <a:xfrm>
                <a:off x="1730880" y="4548240"/>
                <a:ext cx="432000" cy="35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15"/>
            <p:cNvGrpSpPr/>
            <p:nvPr/>
          </p:nvGrpSpPr>
          <p:grpSpPr>
            <a:xfrm>
              <a:off x="1984320" y="3633120"/>
              <a:ext cx="615240" cy="552240"/>
              <a:chOff x="1984320" y="3633120"/>
              <a:chExt cx="615240" cy="552240"/>
            </a:xfrm>
          </p:grpSpPr>
          <p:sp>
            <p:nvSpPr>
              <p:cNvPr id="457" name="Rectangle 16"/>
              <p:cNvSpPr/>
              <p:nvPr/>
            </p:nvSpPr>
            <p:spPr>
              <a:xfrm rot="1331400">
                <a:off x="2039040" y="3713760"/>
                <a:ext cx="505440" cy="3902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>
                <a:off x="2077200" y="3735360"/>
                <a:ext cx="432000" cy="35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8"/>
            <p:cNvGrpSpPr/>
            <p:nvPr/>
          </p:nvGrpSpPr>
          <p:grpSpPr>
            <a:xfrm>
              <a:off x="2328480" y="2834280"/>
              <a:ext cx="615600" cy="552600"/>
              <a:chOff x="2328480" y="2834280"/>
              <a:chExt cx="615600" cy="552600"/>
            </a:xfrm>
          </p:grpSpPr>
          <p:sp>
            <p:nvSpPr>
              <p:cNvPr id="460" name="Rectangle 19"/>
              <p:cNvSpPr/>
              <p:nvPr/>
            </p:nvSpPr>
            <p:spPr>
              <a:xfrm rot="1331400">
                <a:off x="2383560" y="2914920"/>
                <a:ext cx="505440" cy="3906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1" name="Oval 20"/>
              <p:cNvSpPr/>
              <p:nvPr/>
            </p:nvSpPr>
            <p:spPr>
              <a:xfrm>
                <a:off x="2421720" y="2936520"/>
                <a:ext cx="432000" cy="356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22"/>
          <p:cNvSpPr/>
          <p:nvPr/>
        </p:nvSpPr>
        <p:spPr>
          <a:xfrm>
            <a:off x="309096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人行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4027680" y="299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水泥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4093920" y="362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塑料转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Line 25"/>
          <p:cNvSpPr/>
          <p:nvPr/>
        </p:nvSpPr>
        <p:spPr>
          <a:xfrm flipV="1">
            <a:off x="1600200" y="3141360"/>
            <a:ext cx="0" cy="237492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Line 26"/>
          <p:cNvSpPr/>
          <p:nvPr/>
        </p:nvSpPr>
        <p:spPr>
          <a:xfrm flipV="1">
            <a:off x="1941480" y="2329920"/>
            <a:ext cx="0" cy="237492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Text Box 27"/>
          <p:cNvSpPr/>
          <p:nvPr/>
        </p:nvSpPr>
        <p:spPr>
          <a:xfrm>
            <a:off x="79848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镀锌钢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Line 28"/>
          <p:cNvSpPr/>
          <p:nvPr/>
        </p:nvSpPr>
        <p:spPr>
          <a:xfrm flipH="1" flipV="1">
            <a:off x="1116000" y="1628640"/>
            <a:ext cx="719280" cy="936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Line 29"/>
          <p:cNvSpPr/>
          <p:nvPr/>
        </p:nvSpPr>
        <p:spPr>
          <a:xfrm flipV="1">
            <a:off x="3564000" y="2349000"/>
            <a:ext cx="0" cy="5749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Line 30"/>
          <p:cNvSpPr/>
          <p:nvPr/>
        </p:nvSpPr>
        <p:spPr>
          <a:xfrm>
            <a:off x="2771640" y="3357720"/>
            <a:ext cx="1008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2268360" y="3933720"/>
            <a:ext cx="1582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3203640" y="5157720"/>
            <a:ext cx="936720" cy="358920"/>
          </a:xfrm>
          <a:prstGeom prst="line">
            <a:avLst/>
          </a:prstGeom>
          <a:ln w="9360">
            <a:solidFill>
              <a:srgbClr val="007a7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2627280" y="4365720"/>
            <a:ext cx="720720" cy="287280"/>
          </a:xfrm>
          <a:prstGeom prst="line">
            <a:avLst/>
          </a:prstGeom>
          <a:ln w="9360">
            <a:solidFill>
              <a:srgbClr val="007a7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4">
            <a:hlinkClick r:id="rId1" action="ppaction://hlinksldjump"/>
          </p:cNvPr>
          <p:cNvSpPr/>
          <p:nvPr/>
        </p:nvSpPr>
        <p:spPr>
          <a:xfrm>
            <a:off x="2700360" y="692280"/>
            <a:ext cx="4248000" cy="79200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安装滴灌系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AutoShape 5"/>
          <p:cNvSpPr/>
          <p:nvPr/>
        </p:nvSpPr>
        <p:spPr>
          <a:xfrm>
            <a:off x="395280" y="2781360"/>
            <a:ext cx="158436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贮液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2914560" y="2781360"/>
            <a:ext cx="1152720" cy="64764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水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>
            <a:off x="4932360" y="2781360"/>
            <a:ext cx="1152360" cy="647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阀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>
            <a:off x="6948360" y="2781360"/>
            <a:ext cx="1944720" cy="647640"/>
          </a:xfrm>
          <a:prstGeom prst="flowChartAlternate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供液总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948360" y="4149720"/>
            <a:ext cx="1152720" cy="64764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阀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AutoShape 10"/>
          <p:cNvSpPr/>
          <p:nvPr/>
        </p:nvSpPr>
        <p:spPr>
          <a:xfrm>
            <a:off x="6948360" y="5373720"/>
            <a:ext cx="1944720" cy="647640"/>
          </a:xfrm>
          <a:prstGeom prst="flowChartAlternate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供液支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AutoShape 11"/>
          <p:cNvSpPr/>
          <p:nvPr/>
        </p:nvSpPr>
        <p:spPr>
          <a:xfrm>
            <a:off x="3708360" y="5373720"/>
            <a:ext cx="1944720" cy="64764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供液毛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AutoShape 12"/>
          <p:cNvSpPr/>
          <p:nvPr/>
        </p:nvSpPr>
        <p:spPr>
          <a:xfrm>
            <a:off x="826920" y="5373720"/>
            <a:ext cx="1584360" cy="647640"/>
          </a:xfrm>
          <a:prstGeom prst="flowChartAlternateProcess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栽培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Line 13"/>
          <p:cNvSpPr/>
          <p:nvPr/>
        </p:nvSpPr>
        <p:spPr>
          <a:xfrm>
            <a:off x="2124000" y="3103560"/>
            <a:ext cx="647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4159080" y="3087720"/>
            <a:ext cx="6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6194520" y="3087720"/>
            <a:ext cx="647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Line 16"/>
          <p:cNvSpPr/>
          <p:nvPr/>
        </p:nvSpPr>
        <p:spPr>
          <a:xfrm>
            <a:off x="7500960" y="351648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Line 17"/>
          <p:cNvSpPr/>
          <p:nvPr/>
        </p:nvSpPr>
        <p:spPr>
          <a:xfrm>
            <a:off x="7489800" y="479736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Line 18"/>
          <p:cNvSpPr/>
          <p:nvPr/>
        </p:nvSpPr>
        <p:spPr>
          <a:xfrm flipH="1">
            <a:off x="5743080" y="5699160"/>
            <a:ext cx="1079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Line 19"/>
          <p:cNvSpPr/>
          <p:nvPr/>
        </p:nvSpPr>
        <p:spPr>
          <a:xfrm flipH="1">
            <a:off x="2522160" y="5699160"/>
            <a:ext cx="1079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3104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配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粗炉渣（直径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＋细炉渣（直径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m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消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457164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基质选择与处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2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43280" y="937800"/>
            <a:ext cx="3457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99960" y="2701440"/>
            <a:ext cx="3127320" cy="28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发芽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抽蔓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花结瓜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5" name="Picture 6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098800"/>
            <a:ext cx="8229600" cy="1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植株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主茎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时，摘心；每株留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个枝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液管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山崎苘蒿配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定植初期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7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0ms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以后增至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旋转立柱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次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/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d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洗盐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个月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655160" y="89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5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4">
            <a:hlinkClick r:id="rId1" action="ppaction://hlinksldjump"/>
          </p:cNvPr>
          <p:cNvSpPr/>
          <p:nvPr/>
        </p:nvSpPr>
        <p:spPr>
          <a:xfrm>
            <a:off x="2484360" y="981000"/>
            <a:ext cx="316728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三、芹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8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8000" y="260352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88000" y="328464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8000" y="3970440"/>
            <a:ext cx="9144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0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4"/>
          <p:cNvSpPr/>
          <p:nvPr/>
        </p:nvSpPr>
        <p:spPr>
          <a:xfrm>
            <a:off x="2484360" y="9079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2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2339640" y="2637000"/>
            <a:ext cx="5427720" cy="20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4" name="Picture 9" descr="ANI_0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62360" y="288612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ANI_04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00520" y="3559320"/>
            <a:ext cx="339480" cy="3394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ANI_04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16360" y="418788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1080" y="692280"/>
            <a:ext cx="2951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8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042280" y="1708200"/>
            <a:ext cx="33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浅根性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20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1949760" y="256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短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410920" y="3429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羽状复叶，互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250308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白色，复伞形花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2113560" y="522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双悬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7158240" y="4797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6690600" y="5589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细小，褐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35280" y="729720"/>
            <a:ext cx="237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2" name="Picture 6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ANI_024"/>
          <p:cNvPicPr/>
          <p:nvPr/>
        </p:nvPicPr>
        <p:blipFill>
          <a:blip r:embed="rId3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9"/>
          <p:cNvSpPr/>
          <p:nvPr/>
        </p:nvSpPr>
        <p:spPr>
          <a:xfrm>
            <a:off x="144360" y="2133720"/>
            <a:ext cx="882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；幼苗期；叶丛生长期；休眠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生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花芽分化期；抽薹期；开花结果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48000" y="692280"/>
            <a:ext cx="388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6" name="Picture 5" descr="BottomRow1"/>
          <p:cNvPicPr/>
          <p:nvPr/>
        </p:nvPicPr>
        <p:blipFill>
          <a:blip r:embed="rId1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ANI_024"/>
          <p:cNvPicPr/>
          <p:nvPr/>
        </p:nvPicPr>
        <p:blipFill>
          <a:blip r:embed="rId2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270000" y="2162160"/>
            <a:ext cx="8623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温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营养期：昼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地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光照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长日照。光饱和点为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0klx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0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.4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N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K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＝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4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1908000" y="85572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二）季节和品种选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30" name="Picture 5" descr="banner"/>
          <p:cNvPicPr/>
          <p:nvPr/>
        </p:nvPicPr>
        <p:blipFill>
          <a:blip r:embed="rId1"/>
          <a:stretch/>
        </p:blipFill>
        <p:spPr>
          <a:xfrm>
            <a:off x="755640" y="180036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6"/>
          <p:cNvSpPr/>
          <p:nvPr/>
        </p:nvSpPr>
        <p:spPr>
          <a:xfrm>
            <a:off x="1306800" y="2852640"/>
            <a:ext cx="729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季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3950280" y="2349360"/>
            <a:ext cx="66852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秋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3950280" y="3429000"/>
            <a:ext cx="66852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春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1329120" y="5010120"/>
            <a:ext cx="72936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3948840" y="4581360"/>
            <a:ext cx="668520" cy="58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本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3950280" y="5589720"/>
            <a:ext cx="668520" cy="581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西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6562440" y="3992400"/>
            <a:ext cx="1155960" cy="581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实秆芹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6510240" y="5288040"/>
            <a:ext cx="1155960" cy="5814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空秆芹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2627280" y="2637000"/>
            <a:ext cx="649440" cy="1079280"/>
          </a:xfrm>
          <a:custGeom>
            <a:avLst/>
            <a:gdLst>
              <a:gd name="textAreaLeft" fmla="*/ 415080 w 649440"/>
              <a:gd name="textAreaRight" fmla="*/ 649800 w 649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2627280" y="4797360"/>
            <a:ext cx="649440" cy="1079640"/>
          </a:xfrm>
          <a:custGeom>
            <a:avLst/>
            <a:gdLst>
              <a:gd name="textAreaLeft" fmla="*/ 415080 w 649440"/>
              <a:gd name="textAreaRight" fmla="*/ 649800 w 6494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075280" y="4149720"/>
            <a:ext cx="792000" cy="1440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banner"/>
          <p:cNvPicPr/>
          <p:nvPr/>
        </p:nvPicPr>
        <p:blipFill>
          <a:blip r:embed="rId1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2744640" y="2707920"/>
            <a:ext cx="4059360" cy="23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2484360" y="907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栽培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45" name="Picture 7" descr="ANI_044"/>
          <p:cNvPicPr/>
          <p:nvPr/>
        </p:nvPicPr>
        <p:blipFill>
          <a:blip r:embed="rId2"/>
          <a:stretch/>
        </p:blipFill>
        <p:spPr>
          <a:xfrm>
            <a:off x="3362400" y="425916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ANI_044"/>
          <p:cNvPicPr/>
          <p:nvPr/>
        </p:nvPicPr>
        <p:blipFill>
          <a:blip r:embed="rId3"/>
          <a:stretch/>
        </p:blipFill>
        <p:spPr>
          <a:xfrm>
            <a:off x="3348000" y="362592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ANI_044"/>
          <p:cNvPicPr/>
          <p:nvPr/>
        </p:nvPicPr>
        <p:blipFill>
          <a:blip r:embed="rId4"/>
          <a:stretch/>
        </p:blipFill>
        <p:spPr>
          <a:xfrm>
            <a:off x="3348000" y="297828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01680" y="1700280"/>
            <a:ext cx="8540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种子处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浸种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4h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 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下催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播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穴盘或定植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定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株高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株行距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×2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本芹）；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×3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西芹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4602960" y="817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0" name="Picture 5" descr="ANI_044"/>
          <p:cNvPicPr/>
          <p:nvPr/>
        </p:nvPicPr>
        <p:blipFill>
          <a:blip r:embed="rId1"/>
          <a:stretch/>
        </p:blipFill>
        <p:spPr>
          <a:xfrm>
            <a:off x="3348000" y="105264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01680" y="1844280"/>
            <a:ext cx="854064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配方：山崎配方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浓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初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5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一月后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半月后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8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供液方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幼小时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封行后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min/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夜晚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1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386960" y="817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3" name="Picture 5" descr="ANI_044"/>
          <p:cNvPicPr/>
          <p:nvPr/>
        </p:nvPicPr>
        <p:blipFill>
          <a:blip r:embed="rId1"/>
          <a:stretch/>
        </p:blipFill>
        <p:spPr>
          <a:xfrm>
            <a:off x="3203640" y="105264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0200" y="658440"/>
            <a:ext cx="5222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c5900"/>
                </a:solidFill>
                <a:uFillTx/>
                <a:latin typeface="Arial"/>
                <a:hlinkClick r:id="rId1" action="ppaction://hlinksldjump"/>
              </a:rPr>
              <a:t>3.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对环境条件的要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66760" y="1557360"/>
          <a:ext cx="8610480" cy="4981680"/>
        </p:xfrm>
        <a:graphic>
          <a:graphicData uri="http://schemas.openxmlformats.org/drawingml/2006/table">
            <a:tbl>
              <a:tblPr/>
              <a:tblGrid>
                <a:gridCol w="3187800"/>
                <a:gridCol w="2663640"/>
                <a:gridCol w="2759040"/>
              </a:tblGrid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7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幼苗期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昼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开花结瓜期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昼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光饱和点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.5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6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最适光强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29468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定植后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d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株高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418176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6" name="Picture 5" descr="ANI_044"/>
          <p:cNvPicPr/>
          <p:nvPr/>
        </p:nvPicPr>
        <p:blipFill>
          <a:blip r:embed="rId1"/>
          <a:stretch/>
        </p:blipFill>
        <p:spPr>
          <a:xfrm>
            <a:off x="3203640" y="105264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4"/>
          <p:cNvSpPr/>
          <p:nvPr/>
        </p:nvSpPr>
        <p:spPr>
          <a:xfrm>
            <a:off x="2627280" y="765000"/>
            <a:ext cx="2665440" cy="64800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四、京水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489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生物学特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栽培季节和品种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栽培管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9" name="Picture 6" descr="ANI_053"/>
          <p:cNvPicPr/>
          <p:nvPr/>
        </p:nvPicPr>
        <p:blipFill>
          <a:blip r:embed="rId2"/>
          <a:stretch/>
        </p:blipFill>
        <p:spPr>
          <a:xfrm>
            <a:off x="5148360" y="24382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ANI_053"/>
          <p:cNvPicPr/>
          <p:nvPr/>
        </p:nvPicPr>
        <p:blipFill>
          <a:blip r:embed="rId3"/>
          <a:stretch/>
        </p:blipFill>
        <p:spPr>
          <a:xfrm>
            <a:off x="5148360" y="306216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ANI_053"/>
          <p:cNvPicPr/>
          <p:nvPr/>
        </p:nvPicPr>
        <p:blipFill>
          <a:blip r:embed="rId4"/>
          <a:stretch/>
        </p:blipFill>
        <p:spPr>
          <a:xfrm>
            <a:off x="5148360" y="36766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0" descr="iXuEr_2006062317463413660"/>
          <p:cNvPicPr/>
          <p:nvPr/>
        </p:nvPicPr>
        <p:blipFill>
          <a:blip r:embed="rId5"/>
          <a:stretch/>
        </p:blipFill>
        <p:spPr>
          <a:xfrm>
            <a:off x="6516720" y="3500280"/>
            <a:ext cx="2303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2484360" y="9079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4" name="Picture 5" descr="banner"/>
          <p:cNvPicPr/>
          <p:nvPr/>
        </p:nvPicPr>
        <p:blipFill>
          <a:blip r:embed="rId1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339640" y="2637000"/>
            <a:ext cx="5427720" cy="20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6" name="Picture 7" descr="ANI_044"/>
          <p:cNvPicPr/>
          <p:nvPr/>
        </p:nvPicPr>
        <p:blipFill>
          <a:blip r:embed="rId2"/>
          <a:stretch/>
        </p:blipFill>
        <p:spPr>
          <a:xfrm>
            <a:off x="2862360" y="288612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ANI_044"/>
          <p:cNvPicPr/>
          <p:nvPr/>
        </p:nvPicPr>
        <p:blipFill>
          <a:blip r:embed="rId3"/>
          <a:stretch/>
        </p:blipFill>
        <p:spPr>
          <a:xfrm>
            <a:off x="2900520" y="3559320"/>
            <a:ext cx="339480" cy="3394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ANI_044"/>
          <p:cNvPicPr/>
          <p:nvPr/>
        </p:nvPicPr>
        <p:blipFill>
          <a:blip r:embed="rId4"/>
          <a:stretch/>
        </p:blipFill>
        <p:spPr>
          <a:xfrm>
            <a:off x="2916360" y="418788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421080" y="692280"/>
            <a:ext cx="2951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0" name="Picture 5" descr="ANI_024"/>
          <p:cNvPicPr/>
          <p:nvPr/>
        </p:nvPicPr>
        <p:blipFill>
          <a:blip r:embed="rId1"/>
          <a:stretch/>
        </p:blipFill>
        <p:spPr>
          <a:xfrm>
            <a:off x="2771640" y="9079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2503080" y="1681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浅根性，须根发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2595240" y="2565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短缩，基部分枝力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2226600" y="342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单叶，簇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250308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黄色，复总状花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202140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角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6279480" y="558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圆形，黄褐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797880" y="4797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35280" y="729720"/>
            <a:ext cx="237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4" name="Picture 5" descr="BottomRow1"/>
          <p:cNvPicPr/>
          <p:nvPr/>
        </p:nvPicPr>
        <p:blipFill>
          <a:blip r:embed="rId1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ANI_024"/>
          <p:cNvPicPr/>
          <p:nvPr/>
        </p:nvPicPr>
        <p:blipFill>
          <a:blip r:embed="rId2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7"/>
          <p:cNvSpPr/>
          <p:nvPr/>
        </p:nvSpPr>
        <p:spPr>
          <a:xfrm>
            <a:off x="324000" y="2133720"/>
            <a:ext cx="84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；幼苗期；叶丛生长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生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花芽分化期；抽薹期；开花结果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348000" y="692280"/>
            <a:ext cx="388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8" name="Picture 5" descr="BottomRow1"/>
          <p:cNvPicPr/>
          <p:nvPr/>
        </p:nvPicPr>
        <p:blipFill>
          <a:blip r:embed="rId1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ANI_024"/>
          <p:cNvPicPr/>
          <p:nvPr/>
        </p:nvPicPr>
        <p:blipFill>
          <a:blip r:embed="rId2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7"/>
          <p:cNvSpPr/>
          <p:nvPr/>
        </p:nvSpPr>
        <p:spPr>
          <a:xfrm>
            <a:off x="270000" y="2038320"/>
            <a:ext cx="86040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温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营养期：昼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18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808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光照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长日照植物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N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K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及微量元素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1908000" y="85572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二）季节和品种选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5" descr="banner"/>
          <p:cNvPicPr/>
          <p:nvPr/>
        </p:nvPicPr>
        <p:blipFill>
          <a:blip r:embed="rId1"/>
          <a:stretch/>
        </p:blipFill>
        <p:spPr>
          <a:xfrm>
            <a:off x="755640" y="180036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6"/>
          <p:cNvSpPr/>
          <p:nvPr/>
        </p:nvSpPr>
        <p:spPr>
          <a:xfrm>
            <a:off x="1306800" y="2852640"/>
            <a:ext cx="729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季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3948840" y="2349360"/>
            <a:ext cx="66852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948840" y="3429000"/>
            <a:ext cx="66852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秋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4300920" y="4581360"/>
            <a:ext cx="72936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909840" y="3716280"/>
            <a:ext cx="912240" cy="58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早生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6909840" y="4581360"/>
            <a:ext cx="912240" cy="581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中生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AutoShape 12"/>
          <p:cNvSpPr/>
          <p:nvPr/>
        </p:nvSpPr>
        <p:spPr>
          <a:xfrm>
            <a:off x="2627280" y="2637000"/>
            <a:ext cx="649440" cy="1079280"/>
          </a:xfrm>
          <a:custGeom>
            <a:avLst/>
            <a:gdLst>
              <a:gd name="textAreaLeft" fmla="*/ 415080 w 649440"/>
              <a:gd name="textAreaRight" fmla="*/ 649800 w 649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AutoShape 13"/>
          <p:cNvSpPr/>
          <p:nvPr/>
        </p:nvSpPr>
        <p:spPr>
          <a:xfrm>
            <a:off x="5651640" y="4006800"/>
            <a:ext cx="649080" cy="1798560"/>
          </a:xfrm>
          <a:custGeom>
            <a:avLst/>
            <a:gdLst>
              <a:gd name="textAreaLeft" fmla="*/ 414720 w 649080"/>
              <a:gd name="textAreaRight" fmla="*/ 649440 w 649080"/>
              <a:gd name="textAreaTop" fmla="*/ 46800 h 1798560"/>
              <a:gd name="textAreaBottom" fmla="*/ 175176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6909840" y="5516640"/>
            <a:ext cx="912240" cy="581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晚生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banner"/>
          <p:cNvPicPr/>
          <p:nvPr/>
        </p:nvPicPr>
        <p:blipFill>
          <a:blip r:embed="rId1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744640" y="2707920"/>
            <a:ext cx="4059360" cy="23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2484360" y="907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栽培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Picture 7" descr="ANI_044"/>
          <p:cNvPicPr/>
          <p:nvPr/>
        </p:nvPicPr>
        <p:blipFill>
          <a:blip r:embed="rId2"/>
          <a:stretch/>
        </p:blipFill>
        <p:spPr>
          <a:xfrm>
            <a:off x="3362400" y="425916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ANI_044"/>
          <p:cNvPicPr/>
          <p:nvPr/>
        </p:nvPicPr>
        <p:blipFill>
          <a:blip r:embed="rId3"/>
          <a:stretch/>
        </p:blipFill>
        <p:spPr>
          <a:xfrm>
            <a:off x="3348000" y="362592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ANI_044"/>
          <p:cNvPicPr/>
          <p:nvPr/>
        </p:nvPicPr>
        <p:blipFill>
          <a:blip r:embed="rId4"/>
          <a:stretch/>
        </p:blipFill>
        <p:spPr>
          <a:xfrm>
            <a:off x="3348000" y="297828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44240" y="1628640"/>
            <a:ext cx="5422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种子处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播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岩棉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/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剂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具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片叶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995640" y="76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0" name="Picture 5" descr="ANI_044"/>
          <p:cNvPicPr/>
          <p:nvPr/>
        </p:nvPicPr>
        <p:blipFill>
          <a:blip r:embed="rId1"/>
          <a:stretch/>
        </p:blipFill>
        <p:spPr>
          <a:xfrm>
            <a:off x="3059280" y="98100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301680" y="1699920"/>
            <a:ext cx="5565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浓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/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/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供液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白天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夜间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2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pH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.6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4602960" y="817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3" name="Picture 5" descr="ANI_044"/>
          <p:cNvPicPr/>
          <p:nvPr/>
        </p:nvPicPr>
        <p:blipFill>
          <a:blip r:embed="rId1"/>
          <a:stretch/>
        </p:blipFill>
        <p:spPr>
          <a:xfrm>
            <a:off x="3368520" y="100188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68160" y="76500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二）栽培季节和品种选择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9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324000" y="1916280"/>
          <a:ext cx="8496000" cy="4581360"/>
        </p:xfrm>
        <a:graphic>
          <a:graphicData uri="http://schemas.openxmlformats.org/drawingml/2006/table">
            <a:tbl>
              <a:tblPr/>
              <a:tblGrid>
                <a:gridCol w="1152360"/>
                <a:gridCol w="3311640"/>
                <a:gridCol w="4032000"/>
              </a:tblGrid>
              <a:tr h="507960">
                <a:tc rowSpan="2">
                  <a:txBody>
                    <a:bodyPr lIns="90000" rIns="900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栽培季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一年二茬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一年三茬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1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；　　　　　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翌年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；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914400"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长春密刺、津春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号、中农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号及国外引入的雌性系品种等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4"/>
          <p:cNvSpPr/>
          <p:nvPr/>
        </p:nvSpPr>
        <p:spPr>
          <a:xfrm>
            <a:off x="4326480" y="817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5" name="Picture 5" descr="ANI_044"/>
          <p:cNvPicPr/>
          <p:nvPr/>
        </p:nvPicPr>
        <p:blipFill>
          <a:blip r:embed="rId1"/>
          <a:stretch/>
        </p:blipFill>
        <p:spPr>
          <a:xfrm>
            <a:off x="3368520" y="1001880"/>
            <a:ext cx="339840" cy="3394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37432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小苗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高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5cm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7" name="Picture 7" descr="iXuEr_2006062317412035494"/>
          <p:cNvPicPr/>
          <p:nvPr/>
        </p:nvPicPr>
        <p:blipFill>
          <a:blip r:embed="rId2"/>
          <a:stretch/>
        </p:blipFill>
        <p:spPr>
          <a:xfrm>
            <a:off x="4932360" y="2276640"/>
            <a:ext cx="36576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6:46:10Z</dcterms:created>
  <dc:creator>pshy</dc:creator>
  <dc:description/>
  <dc:language>en-US</dc:language>
  <cp:lastModifiedBy>xbany</cp:lastModifiedBy>
  <dcterms:modified xsi:type="dcterms:W3CDTF">2019-06-25T07:43:43Z</dcterms:modified>
  <cp:revision>328</cp:revision>
  <dc:subject/>
  <dc:title>幻灯片 1</dc:title>
</cp:coreProperties>
</file>