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DF3-676E-4702-94F7-E9B1070C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735-EC96-42B6-B2F0-928A023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C60-E669-4384-BAAA-BF9F810E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3CE-A0FA-4CD8-8A9A-345BF4CA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357C-5529-43F1-8069-D1210228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02C-CC1F-4DDD-94EF-94B2B15B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B24-8F4B-4476-B25A-6A19C50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D525-59DA-4D44-80E9-77952F51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3610-9A18-4FB3-A35B-2565662D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0EC3-5C66-429E-B751-D481577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F03B-D698-4E06-8320-6E2746B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419-F08D-4A7D-962A-A47EBC8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3A95-4682-4AB2-91F3-59E7692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CEF3-C0C8-4088-A630-AFD51FC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3A5-83CB-42E3-9DCA-60DE2E7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F0E-025E-4BC1-AD44-203B68CA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D8B8-83C5-4745-9D9B-08F6A546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20D-B2C0-49EF-962A-710724A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AAB-905C-4C9C-AC06-ECCF26A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734-B16B-496E-B962-8A20ED7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EB7-5074-4911-B356-2B47968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DD7-20FC-4B33-AD7D-E8F6A2D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DAA-F18A-4A9F-BAD6-C55F054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790-662B-4272-B091-3393120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2_two_rings_hearts_md_wht"/>
          <p:cNvPicPr/>
          <p:nvPr/>
        </p:nvPicPr>
        <p:blipFill>
          <a:blip r:embed="rId2"/>
          <a:stretch/>
        </p:blipFill>
        <p:spPr>
          <a:xfrm>
            <a:off x="4038480" y="5943600"/>
            <a:ext cx="1006560" cy="914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河山图标"/>
          <p:cNvPicPr/>
          <p:nvPr/>
        </p:nvPicPr>
        <p:blipFill>
          <a:blip r:embed="rId3"/>
          <a:stretch/>
        </p:blipFill>
        <p:spPr>
          <a:xfrm>
            <a:off x="266688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happy_anniversary2"/>
          <p:cNvPicPr/>
          <p:nvPr/>
        </p:nvPicPr>
        <p:blipFill>
          <a:blip r:embed="rId4"/>
          <a:stretch/>
        </p:blipFill>
        <p:spPr>
          <a:xfrm>
            <a:off x="762120" y="0"/>
            <a:ext cx="761976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016-897D-4F18-84C5-4BF8BC8AE002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A07-ED58-4C9B-8911-82888A9E3F0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onkey_business_ape"/>
          <p:cNvPicPr/>
          <p:nvPr/>
        </p:nvPicPr>
        <p:blipFill>
          <a:blip r:embed="rId2"/>
          <a:stretch/>
        </p:blipFill>
        <p:spPr>
          <a:xfrm>
            <a:off x="0" y="0"/>
            <a:ext cx="1600200" cy="513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ape_with_laptop_md_wht"/>
          <p:cNvPicPr/>
          <p:nvPr/>
        </p:nvPicPr>
        <p:blipFill>
          <a:blip r:embed="rId3"/>
          <a:stretch/>
        </p:blipFill>
        <p:spPr>
          <a:xfrm>
            <a:off x="81154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河山图标"/>
          <p:cNvPicPr/>
          <p:nvPr/>
        </p:nvPicPr>
        <p:blipFill>
          <a:blip r:embed="rId4"/>
          <a:stretch/>
        </p:blipFill>
        <p:spPr>
          <a:xfrm>
            <a:off x="33526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"/>
          <p:cNvPicPr/>
          <p:nvPr/>
        </p:nvPicPr>
        <p:blipFill>
          <a:blip r:embed="rId5"/>
          <a:stretch/>
        </p:blipFill>
        <p:spPr>
          <a:xfrm>
            <a:off x="2971800" y="6350040"/>
            <a:ext cx="3581280" cy="507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1366-11F8-44D8-9B4C-9CA501D660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96F-D206-42B4-BB8F-9888BC69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F32-8E6F-44EB-BDAB-E07998B9D39F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灯片编号占位符 5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AE9-F18A-4F84-B162-6064E799857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692360" y="10317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2920" y="1978200"/>
            <a:ext cx="756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任课教师：谢    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话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3583873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-mai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huixie@sdau.edu.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室：校本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号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3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63F-AE63-4825-A035-3CC894C87E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6227640" y="6110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315-C3C8-49C5-A084-F075619A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8000" y="981000"/>
            <a:ext cx="882000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部分内容要强记：比如生物修复概念、机理及其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课后注意复习：温故而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掌握重点内容：重点内容不一定要考试，但 需要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端正学习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学的东西不可能马上用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考研和考博储备知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059280" y="189000"/>
            <a:ext cx="2808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A7C-B5B6-4EBA-959E-28D0E2EB426B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B2E-0552-496A-BC17-5BB10B29032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189000"/>
            <a:ext cx="9217080" cy="32864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加强课堂教学管理改善教风学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稳定课堂秩序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课教师是课堂管理的第一责任人，任课教师在授课的同时，负责管理课堂秩序，纠正学生旷课、迟到、早退、睡觉、聊天、玩手机、吃零食等不良行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严格过程管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加强教学过程管理，采取适当的方式进行考勤，严格执行学校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旷课三次及以上者不得参加所修课程考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规定。学生上课要认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录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任课教师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期检查学生的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原则上要求每讲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检查一次，把学生听课笔记检查情况作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程平时成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重要组成部分（至少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时成绩的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生上课无听课笔记者，平时成绩按零分计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对学生的课堂笔记评阅打分，并结合作业、课堂测验等加强平时成绩的管理，平时成绩不合格者，不能参加所修课程的结课考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严肃学生上课纪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互尊重对方；保持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803-CF57-42FE-B986-77F922206786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7F6-23C2-4461-B558-2B2CD1B1ACD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785880"/>
            <a:ext cx="856944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课程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环境工程专业的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专业特色课，性质为选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本课程的学习可以使学生了解和掌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对生物的影响、污染物的生物效应检测、环境质量的生物监测与评价、环境污染的生物净化原理和生物修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使学生能够充分理解并应用生物修复技术及其控制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2152-7018-4E13-965E-96A88A3F93D0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2134-0E6B-41EA-9C16-A8CF6076E2A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125360"/>
            <a:ext cx="9144000" cy="37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主要参考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1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孔繁祥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世纪教材，  高等教育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0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耿春女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建材工业出版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5.5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3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段昌群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版 科学出版社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4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熊治廷 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化学工业出版社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第    一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5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李顺鹏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，中国农业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2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6]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学新 浙江大学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精品课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CDE-5D65-43D2-ABBE-10C2D5CBEBA4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408-D7F2-462E-B54F-514FD56D7CF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25360"/>
          <a:ext cx="9144000" cy="4607280"/>
        </p:xfrm>
        <a:graphic>
          <a:graphicData uri="http://schemas.openxmlformats.org/drawingml/2006/table">
            <a:tbl>
              <a:tblPr/>
              <a:tblGrid>
                <a:gridCol w="7020000"/>
                <a:gridCol w="2124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授课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安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绪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一章  环境污染物在生态系统中的行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二章  污染物对生物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三章  污染物的生物效应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四章  环境质量的生物监测与生物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五章  环境污染生物净化的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六章  污染环境的生物修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讲授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7"/>
          <p:cNvSpPr/>
          <p:nvPr/>
        </p:nvSpPr>
        <p:spPr>
          <a:xfrm>
            <a:off x="2571840" y="3556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1BD1-6C1D-4467-A89B-05E89BB1D4CD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8DB-B6FA-4D99-B502-F147F0A794E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4797360"/>
            <a:ext cx="471636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00000" y="1125360"/>
            <a:ext cx="3097440" cy="9352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0" y="2781360"/>
            <a:ext cx="414036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959280" y="260280"/>
            <a:ext cx="5184720" cy="45385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科学中重大的环境问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生物学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形成与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对象与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与相关学科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国环境生物学的优先研究领域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59A9-9286-49EF-8E5C-B55F561EAF0F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3E37-E11E-497A-9BA4-5D251A5EBE8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2"/>
          <p:cNvSpPr/>
          <p:nvPr/>
        </p:nvSpPr>
        <p:spPr>
          <a:xfrm>
            <a:off x="0" y="4221000"/>
            <a:ext cx="450072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1916280"/>
            <a:ext cx="4175280" cy="934920"/>
          </a:xfrm>
          <a:custGeom>
            <a:avLst/>
            <a:gdLst>
              <a:gd name="textAreaLeft" fmla="*/ 0 w 4175280"/>
              <a:gd name="textAreaRight" fmla="*/ 4175640 w 41752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2" y="0"/>
                </a:lnTo>
                <a:lnTo>
                  <a:pt x="21600" y="10800"/>
                </a:lnTo>
                <a:lnTo>
                  <a:pt x="164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95280" y="836640"/>
            <a:ext cx="2305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9280" y="1628640"/>
            <a:ext cx="5184720" cy="209664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污染物在生态系统中的行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章 污染物对生物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章 污染物的生物效应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质量的生物监测与生物评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7920" y="3921120"/>
            <a:ext cx="372744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147A-E533-48CC-8891-204AED61A907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066-B577-4E8D-B7BA-72CC71FE0BF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0" y="1773360"/>
            <a:ext cx="5724360" cy="7189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3429000"/>
            <a:ext cx="4102200" cy="93492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95280" y="692280"/>
            <a:ext cx="2089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08360" y="2852640"/>
            <a:ext cx="5435640" cy="21283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章 环境污染生物净化的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六章 污染环境的生物修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七章 现代生物技术与环境污染治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八章  环境生物学在环境影响评价中的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568-12CA-480F-9D18-6EDC7B70F6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C78-BC30-48DB-A20A-96541ED89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981000"/>
            <a:ext cx="8567640" cy="5211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本课程的成绩核算由两部分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成绩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笔记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无课堂笔记者，平时成绩为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题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论文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土壤污染的生物修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闭卷考试成绩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考试题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词解释、选择、填空、简述和论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4726800" y="201600"/>
            <a:ext cx="41400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本课程考核方式和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6:07:38Z</dcterms:created>
  <dc:creator>pc4</dc:creator>
  <dc:description/>
  <dc:language>en-US</dc:language>
  <cp:lastModifiedBy>xh</cp:lastModifiedBy>
  <dcterms:modified xsi:type="dcterms:W3CDTF">2019-02-20T07:05:07Z</dcterms:modified>
  <cp:revision>286</cp:revision>
  <dc:subject/>
  <dc:title>幻灯片 1</dc:title>
</cp:coreProperties>
</file>