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2D0A-3184-4AD5-B263-EBD00B299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4DB5-AC75-404F-ACC4-BB83B88F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469F-338B-4B87-8956-E8AA5DC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29EE-0CCA-4CF9-849E-FE8ADE4BE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44D30-DA22-4E3C-85BC-6232F000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447A-3EFF-4FAA-8B5D-F282C53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7988A-64D8-478E-98A9-184D7855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37127-1A8C-4CC2-8144-E258EB7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9D733-7563-4822-B178-91AC567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7540-4E3D-46BF-9AD5-FC5C2E4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5CBC1-E581-4170-AE73-B616D1F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4F9D-625A-40CB-AD7F-1C727A4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1EB7-8382-4F3F-87C1-BC57BE5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EBE49-C46B-4894-84ED-D819CEF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98D3-7697-44B1-A2FD-15E5475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CAE3D-EB1C-4ED4-A196-91E9543E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C47A1-DED6-4355-B9A0-E085503A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607A5-8099-4F78-9D1A-FF23047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12C33-DD3B-4121-8D32-A40C29D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6F3E1-5135-40BF-8F87-89CB2076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8EE57-C0FA-40E7-B9E9-EDB1A2D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F6DFE-046E-4066-AF52-55DE47B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EDB1-427F-4A4B-8803-9226134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099B2-9EBC-4C18-82D9-33BDD14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4C9E1-CB71-480B-B45F-7502731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F778B-F451-4CAD-B751-5EC8A73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A068E-4CA0-4564-BC6E-6CC9709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C0EEA-63C0-4271-B81C-D1ACF10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EDB1E-921B-4F55-833F-D9BC2811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C6E19-4AA5-4B66-8DBF-A3EB52D3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25C05-0D17-4B9E-BD62-21895367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2FF6F-4AA5-40EF-BDF2-92F5972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52EB6-0B1F-4D74-9082-49B7651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AEE1-0958-427F-9CC7-36D333E7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D0AC1-973A-40DD-AB4C-99D5BF1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CCEEA-A2EB-47E2-BA08-69E910E4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C5DA2-7A77-41BF-80F3-CDB1BBC7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721B0-DDA3-43C1-B4D5-66CB4AB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EF6BC-CAE3-478E-86B7-34FBF8A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ADBA3-9D8E-4CDF-96F6-01475C32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45481-57EF-40E5-8EDE-4327929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93D5E-2CE9-45E8-BE19-E64FC69C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4DEB4-23EF-44BC-BFD8-5F0B5150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B5C6C-A580-4F4F-A6D3-1A07C1BC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84ED-A235-4239-A512-68692F37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D93A6-5A71-42ED-900A-BF28DCA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EF0D9-DFC0-4C45-AC42-C5E50EBE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3DAF6-3A98-4016-8E37-7633A13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829C6-B0D7-40A4-8A73-3DDE664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1EEAC-1FF4-43F0-BE62-0D4A4C4A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07891-853E-4C83-9453-217CAA3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FF774-5DCE-42C9-8899-8A29047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66F29-D2B6-4561-9A95-E486A36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B1EB8-B40F-48D0-9435-BFBCCAB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856FB-7E28-4C53-80F8-684B5D14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A579-1C2F-4FF0-A65C-1691441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1EBD7-AFFB-4B88-8109-38A6FFB9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C7B74-1773-4535-A0B1-8A5DF77A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8C2C9-97A6-4272-BC77-9C1472C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E14E-F368-41CF-AC38-5D0482B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C10AB-E87F-4B65-A172-1C2EBBDB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4A6DB-E12C-4C58-9E11-4C879E71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1E021-05A5-4FE5-A3AD-112205BD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08D74-E9A0-45BF-8782-DA3F9D8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EAF1A-806C-4A43-B3D0-CBFEF18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B27C2-E6D7-4538-8E74-794BA11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2728-1E55-4375-B912-2F6E11D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39CE8-8225-4BF7-8E14-74D9AE9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5BDE8-DEFD-48BB-8787-22C7F28E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B99BE-08AB-44D4-8DDA-3C0184ED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1E784-0D50-4F78-912A-6402E629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86895-5BEB-41B9-9200-EE62703C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C37CD-C397-4363-8D9A-F66B66F3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F066F-FA8B-474D-8BA7-46354BA4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2E549-5C23-48F5-B739-027C3B0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A19B9-4E61-4EA9-8B0C-E650D5D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2045C-1CAA-4075-A881-A6B8F7E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4EAE-7A72-451C-ACAA-C911BD1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F47D7-5420-4B06-B9AE-6D1A36A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D5B3A-326A-4FE7-825C-A5CE6CE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2C3ED-E7CA-4FC8-82E9-3A2F5C7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6A1B1-43C8-4667-A77A-4130236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E7DDA-8FFD-49A9-97AB-8BBD1738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F1634-C6CC-4D8C-B76D-78B777CD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42B38-EE16-438B-906F-053BE104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FFB0D-AE59-4014-9AB9-1360894B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34DCA-9AE9-417E-A4FC-CB48CD64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639E2-FA4A-4356-95E9-CD3ACF1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AAF4-545B-453A-AF0C-BD2D6FCE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911E9-006C-4FF1-84B0-D3B681BF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62F97-A5CE-4FFF-94EF-3E061E9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3C3EF-13F3-4194-84CF-19DE4AE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BBB76-E1FC-40C8-8104-8708B2B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97616-66CE-41A8-B346-07F4965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CF21D-B2E9-4569-AF11-9DB18230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3B149-E386-4424-93D6-DF1E9F40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0" y="6381360"/>
            <a:ext cx="1116000" cy="47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3ED-C7E0-49BA-917B-D8EE1A714B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CF7-1088-4265-8AE1-85914FA5BED4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E0A-AF70-4A69-A533-77D981A711A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E605-D683-4E3C-975E-21BEA58BC8E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4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66AE-D184-40FE-B999-6C9CC2A0D43A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DF6-E3EB-4783-A807-F9AB439A176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2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4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BE90-6325-462D-B3E7-4679F6D377B8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44DA-A960-460E-BF62-9CB1D2A5955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9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2FE-DC70-42A1-87DA-7CAFBA1D9A7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B29-3349-4719-9693-F18AAF1B2FC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6BF-3803-46DE-A58B-71BAD5B0BB2B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7FE-0DCA-4FD9-A6DD-648EF8BFF6D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8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C4BF-691C-4076-8866-35EC96C887A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651-D336-4232-9087-12AE7DF3988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332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9A2E-9A4C-4118-9DAC-B1FD8DABE4E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E6F8-35AD-4515-A578-FFA419775C0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iphotos.baidu.com/nanbin/pic/item/7b05839437e5e814d21b7008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3465-B92E-4208-BB00-50C5027DF6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EAFB-F173-48BA-B5CC-3D7D0012232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物对污染物在环境中行为的影响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D07-112F-4C5B-9A24-458311C01F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48A2-1C43-4CA3-9C30-AE642B3CFE8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8" name="Picture 2" descr="W020070531561410488810"/>
          <p:cNvPicPr/>
          <p:nvPr/>
        </p:nvPicPr>
        <p:blipFill>
          <a:blip r:embed="rId1"/>
          <a:stretch/>
        </p:blipFill>
        <p:spPr>
          <a:xfrm>
            <a:off x="1692360" y="119700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3200400" y="838080"/>
            <a:ext cx="3962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蓝藻漂浮的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F702-5E34-49F8-9FAA-71E56882E9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1E0-3CB1-4556-AA29-9B75C0A0E6A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2" name="Picture 2" descr="W020070531561410653915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>
            <a:off x="2786040" y="533520"/>
            <a:ext cx="5138640" cy="1066680"/>
          </a:xfrm>
          <a:prstGeom prst="cloudCallout">
            <a:avLst>
              <a:gd name="adj1" fmla="val -38254"/>
              <a:gd name="adj2" fmla="val 69939"/>
            </a:avLst>
          </a:prstGeom>
          <a:solidFill>
            <a:srgbClr val="cc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湖岸的石墙堤处都涂满了绿色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A37-6D76-44A8-8E88-1CDCE4A280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68B-D2BE-42DA-AC02-10D7F3AE01A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6" name="Picture 2" descr="W020070531561411762932"/>
          <p:cNvPicPr/>
          <p:nvPr/>
        </p:nvPicPr>
        <p:blipFill>
          <a:blip r:embed="rId1"/>
          <a:stretch/>
        </p:blipFill>
        <p:spPr>
          <a:xfrm>
            <a:off x="312408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3"/>
          <p:cNvSpPr/>
          <p:nvPr/>
        </p:nvSpPr>
        <p:spPr>
          <a:xfrm>
            <a:off x="1905120" y="380880"/>
            <a:ext cx="6172200" cy="1828800"/>
          </a:xfrm>
          <a:prstGeom prst="cloudCallout">
            <a:avLst>
              <a:gd name="adj1" fmla="val 14324"/>
              <a:gd name="adj2" fmla="val 105037"/>
            </a:avLst>
          </a:pr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锡十八湾太湖边部分水域积聚了大量的蓝藻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869-FDD9-4512-B1DA-218F61EBC6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81F-7D71-4FCA-A91E-74349639891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0" name="Picture 2" descr="W020070531561411898899"/>
          <p:cNvPicPr/>
          <p:nvPr/>
        </p:nvPicPr>
        <p:blipFill>
          <a:blip r:embed="rId1"/>
          <a:stretch/>
        </p:blipFill>
        <p:spPr>
          <a:xfrm>
            <a:off x="1905120" y="11430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/>
          <p:cNvSpPr/>
          <p:nvPr/>
        </p:nvSpPr>
        <p:spPr>
          <a:xfrm>
            <a:off x="3657600" y="304920"/>
            <a:ext cx="2743200" cy="838080"/>
          </a:xfrm>
          <a:prstGeom prst="cloudCallout">
            <a:avLst>
              <a:gd name="adj1" fmla="val -44962"/>
              <a:gd name="adj2" fmla="val 70074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7EC-F64C-4B39-B1D5-E1E84A9A7E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D182-0928-49D6-AF9E-768B58A9C9E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4" name="Picture 2" descr="W020070531561412078148"/>
          <p:cNvPicPr/>
          <p:nvPr/>
        </p:nvPicPr>
        <p:blipFill>
          <a:blip r:embed="rId1"/>
          <a:stretch/>
        </p:blipFill>
        <p:spPr>
          <a:xfrm>
            <a:off x="1763640" y="134136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3"/>
          <p:cNvSpPr/>
          <p:nvPr/>
        </p:nvSpPr>
        <p:spPr>
          <a:xfrm>
            <a:off x="2133720" y="228600"/>
            <a:ext cx="4343400" cy="1219320"/>
          </a:xfrm>
          <a:prstGeom prst="cloudCallout">
            <a:avLst>
              <a:gd name="adj1" fmla="val 21601"/>
              <a:gd name="adj2" fmla="val 220050"/>
            </a:avLst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景观桥下堆积着厚厚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B97-9FAC-443A-BA2A-0C52AF6C3A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C626-6A88-4FB5-816E-7934F33EFB5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8" name="Picture 3" descr="7b05839437e5e814d21b7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052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7e3abea14a35e7814710640d"/>
          <p:cNvPicPr/>
          <p:nvPr/>
        </p:nvPicPr>
        <p:blipFill>
          <a:blip r:embed="rId3"/>
          <a:stretch/>
        </p:blipFill>
        <p:spPr>
          <a:xfrm>
            <a:off x="0" y="1052640"/>
            <a:ext cx="4535640" cy="35463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6948360" y="404640"/>
            <a:ext cx="194328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水葫芦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0" y="4724280"/>
            <a:ext cx="9144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滇池、太湖、黄浦江及武汉东湖等著名水体，均出现过水葫芦泛滥成灾的情况，耗费巨资也无法根治。水葫芦给滇池造成损失的案例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入侵物种危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经典案例之一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日期占位符 2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740-858B-42A7-A496-9A8EF86A90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3" name="灯片编号占位符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281-E90F-41B6-B6C0-76C2D8625E0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44" name="Picture 6" descr="01300000336597127012446380852"/>
          <p:cNvPicPr/>
          <p:nvPr/>
        </p:nvPicPr>
        <p:blipFill>
          <a:blip r:embed="rId1"/>
          <a:stretch/>
        </p:blipFill>
        <p:spPr>
          <a:xfrm>
            <a:off x="0" y="549360"/>
            <a:ext cx="8496360" cy="56642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395280" y="836640"/>
            <a:ext cx="424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人工打捞水葫芦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A0C-6311-49D9-8EE5-0821DD30C8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F19-59E9-445A-8197-43DFB46CF58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1116000" y="189000"/>
            <a:ext cx="6408720" cy="581400"/>
          </a:xfrm>
          <a:prstGeom prst="rect">
            <a:avLst/>
          </a:prstGeom>
          <a:solidFill>
            <a:srgbClr val="008080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三）微生物代谢产物与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900000" y="1197000"/>
            <a:ext cx="7062840" cy="14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硫化氢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低浓度：恶臭，污水处理厂污泥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高浓度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进入下水道的工人中毒和窒息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76720" y="335772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反硫化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1476360" y="350028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5435640" y="3429000"/>
            <a:ext cx="180180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1403280" y="436572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机硫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5435640" y="4365720"/>
            <a:ext cx="180180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5" name="AutoShape 9"/>
          <p:cNvSpPr/>
          <p:nvPr/>
        </p:nvSpPr>
        <p:spPr>
          <a:xfrm>
            <a:off x="3276720" y="422100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异养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C3B-9D59-4828-9ADA-A4A24038C2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3A6A-5ED2-48D6-ADAE-57F6173CC3A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55640" y="981000"/>
            <a:ext cx="7772400" cy="28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酸性矿水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产生：化学氧化和耐酸细菌的联合作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大量金属离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周围农田、植被和水生生物鱼类等受到威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E9BF-9191-410E-BE06-01C0B1E667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82B-78A2-47A4-9348-FD78E805FA3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457200" y="2819520"/>
            <a:ext cx="7705800" cy="162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情况下，环境中是不会积累亚硝酸的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腌制食品：含有大量的亚硝酸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硝酸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在人体内）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可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代谢产物胺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发生反应生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亚硝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亚硝胺是一种致癌物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1187280" y="90792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2987640" y="836640"/>
            <a:ext cx="2521080" cy="1081080"/>
          </a:xfrm>
          <a:prstGeom prst="rightArrow">
            <a:avLst>
              <a:gd name="adj1" fmla="val 50000"/>
              <a:gd name="adj2" fmla="val 583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还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4" name="Oval 5"/>
          <p:cNvSpPr/>
          <p:nvPr/>
        </p:nvSpPr>
        <p:spPr>
          <a:xfrm>
            <a:off x="5219640" y="98100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1116000" y="184464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2771640" y="1773360"/>
            <a:ext cx="3889440" cy="108108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化能自养硝酸化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6588000" y="191628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8" name="AutoShape 9"/>
          <p:cNvSpPr/>
          <p:nvPr/>
        </p:nvSpPr>
        <p:spPr>
          <a:xfrm>
            <a:off x="2268360" y="260280"/>
            <a:ext cx="5661360" cy="647640"/>
          </a:xfrm>
          <a:prstGeom prst="cloudCallout">
            <a:avLst>
              <a:gd name="adj1" fmla="val -29129"/>
              <a:gd name="adj2" fmla="val 70097"/>
            </a:avLst>
          </a:prstGeom>
          <a:solidFill>
            <a:srgbClr val="ffff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硝酸和亚硝酸盐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D6FD-3B03-40E2-BE58-AD4D96E9DE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952-43BD-413D-8D5F-5E9674F9E01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979640" y="404640"/>
            <a:ext cx="46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引起的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1357200"/>
            <a:ext cx="8893080" cy="39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生物污染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黑体"/>
              </a:rPr>
              <a:t>Biological Pollution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人和生物有害的微生物、寄生虫等病原体和变应原等污染水、气、土壤和食品，影响生物产量和质量，危害人类健康，这种污染称为生物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Arial"/>
              </a:rPr>
              <a:t>霉菌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悬铃木花粉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由人体、动物、土壤和植物碎屑携带的细菌和病毒 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R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尘螨以及猫、狗和鸟类身上脱落的毛发、皮屑。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季严防室内生物污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019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月，非洲猪瘟事件（莱芜）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521-809B-4349-9088-4A8B9A4FBE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6AB8-05FA-44D8-8685-B3134297099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0" y="981000"/>
            <a:ext cx="914400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在其生长、代谢过程中所产生的毒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2268360" y="0"/>
            <a:ext cx="5112000" cy="836640"/>
          </a:xfrm>
          <a:prstGeom prst="cloudCallout">
            <a:avLst>
              <a:gd name="adj1" fmla="val -34162"/>
              <a:gd name="adj2" fmla="val 121537"/>
            </a:avLst>
          </a:pr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微生物毒素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363E-3799-43F1-B7AD-A48B03703C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A3D-54C4-470D-8DD6-C13479E9506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395280" y="836640"/>
            <a:ext cx="8532720" cy="45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曲霉毒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flaox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确定结构黄曲霉毒素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，其中以黄曲霉毒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毒性最大，致癌性最强，霉变食品中很多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岛状毒素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euteoskyr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烈性肝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镰刀霉配质糖苷和枝孢菌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2752-5579-4ECC-9F23-D9D3BFAAB6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253-77A8-4725-B671-3BE1358BDF5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914400"/>
            <a:ext cx="830592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毒毒素：神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肠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线菌毒素：致癌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藻类毒素：海洋中的甲藻类、淡水中的蓝细菌和盐湖中的金藻类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375-0105-4058-B7C9-34B5ACC064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476B-32BF-489D-82C2-30C11E2D122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1" name="AutoShape 2"/>
          <p:cNvSpPr/>
          <p:nvPr/>
        </p:nvSpPr>
        <p:spPr>
          <a:xfrm>
            <a:off x="395280" y="-171360"/>
            <a:ext cx="7162920" cy="761760"/>
          </a:xfrm>
          <a:prstGeom prst="cloudCallout">
            <a:avLst>
              <a:gd name="adj1" fmla="val -24532"/>
              <a:gd name="adj2" fmla="val 126041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的生物转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250920" y="765000"/>
            <a:ext cx="8620200" cy="393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通过多种途径进入环境：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燃烧、农药、采矿、冶金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心的元素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汞、砷、镉、铬、铅、锡、锑、铜、镍、钒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低浓度的重金属对大多数生物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毒性与重金属形态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生物具有适应金属化合物而生长并代谢这些物质的活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代谢活动可改变其形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BCA0-192B-4304-AA68-D253AF43B9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7134-646D-4E60-A541-7D82644E15E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4920" y="836640"/>
            <a:ext cx="896472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在一定浓度时对微生物有毒害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浓度的重金属对大多数微生物都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对微生物的毒性强度与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浓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存在状态有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价铬比三价铬毒得多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各种汞化物中，甲基汞的毒性最强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机锡比无机锡毒，烷基锡比芳基锡毒，三烷基锡比四烷基锡更毒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C09-B32A-478C-8F88-7020E29366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904-53AA-4812-821B-AEEA51ACD62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0" y="304920"/>
            <a:ext cx="8839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题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属对微生物的毒性强度与（ ）有关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存在状态   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和其存在状态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价态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环境中微生物对金属的转化，主要是（   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457200" y="5105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C  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化还原和甲基化作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C5F-8F0F-4B0C-95A1-C82CDB532D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4380-C149-48B4-AF21-EF52A814642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95280" y="1484280"/>
            <a:ext cx="7416720" cy="159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微生物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代谢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改变环境中金属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改变它们的性质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改变其生物效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诸葛亮四纵孟获后其部属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饮哑泉水中毒之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2362320" y="380880"/>
            <a:ext cx="6476760" cy="762120"/>
          </a:xfrm>
          <a:prstGeom prst="cloudCallout">
            <a:avLst>
              <a:gd name="adj1" fmla="val -65365"/>
              <a:gd name="adj2" fmla="val 700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250920" y="3933720"/>
            <a:ext cx="2133360" cy="1150920"/>
          </a:xfrm>
          <a:prstGeom prst="flowChartAlternateProcess">
            <a:avLst/>
          </a:prstGeom>
          <a:solidFill>
            <a:srgbClr val="ccff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铜矿石中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溶于水的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2556000" y="3860640"/>
            <a:ext cx="4876560" cy="1295640"/>
          </a:xfrm>
          <a:prstGeom prst="rightArrow">
            <a:avLst>
              <a:gd name="adj1" fmla="val 50000"/>
              <a:gd name="adj2" fmla="val 94096"/>
            </a:avLst>
          </a:prstGeom>
          <a:solidFill>
            <a:srgbClr val="ff9900"/>
          </a:solidFill>
          <a:ln w="763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亚铁硫杆菌等嗜酸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7164360" y="3860640"/>
            <a:ext cx="1368360" cy="1295640"/>
          </a:xfrm>
          <a:prstGeom prst="flowChartMultidocument">
            <a:avLst/>
          </a:prstGeom>
          <a:solidFill>
            <a:srgbClr val="ffff00"/>
          </a:solidFill>
          <a:ln w="414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硫酸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8963-7722-48B0-ADD9-437EEF5244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F1D-5EAF-4BC0-9749-037AA15D963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835280" y="333360"/>
            <a:ext cx="44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187280" y="260280"/>
            <a:ext cx="60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汞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84360" y="1916280"/>
            <a:ext cx="7777080" cy="27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中的无机汞可以下列三种形式存在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氧化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柠檬酸细菌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irobacter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枯草芽孢杆菌、巨大芽孢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还原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铜绿假单胞菌、大肠埃希氏菌、变形杆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1908000" y="1052640"/>
            <a:ext cx="5185080" cy="609480"/>
          </a:xfrm>
          <a:prstGeom prst="ellipse">
            <a:avLst/>
          </a:prstGeom>
          <a:solidFill>
            <a:srgbClr val="ffff99"/>
          </a:solidFill>
          <a:ln w="73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汞的氧化和还原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C1D-21B6-4E93-AB40-5D3E8C18DC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BCC0-0CAE-469C-8683-DD446A7156D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2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F85A-0380-405E-A4C9-CEA39DB3D6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EF4-7094-4159-8869-FD66B83D4F8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79280" y="1628640"/>
            <a:ext cx="8785440" cy="2705040"/>
          </a:xfrm>
          <a:prstGeom prst="rect">
            <a:avLst/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抗汞的假单胞菌株处理含总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工业废水，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将废水中汞化物转化成元素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回收利用，水的含汞量则大大减少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科学院北京微生物研究所将假单胞菌的抗汞质粒转移给受体菌，使后者的抗汞水平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752480" y="228600"/>
            <a:ext cx="3962520" cy="838080"/>
          </a:xfrm>
          <a:prstGeom prst="cloudCallout">
            <a:avLst>
              <a:gd name="adj1" fmla="val 13583"/>
              <a:gd name="adj2" fmla="val 117800"/>
            </a:avLst>
          </a:prstGeom>
          <a:solidFill>
            <a:srgbClr val="ffff99"/>
          </a:solidFill>
          <a:ln w="475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术研究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7BE-6B61-4CB6-A36D-8003E0DB4B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3DEA-5EBC-4AED-9E5D-38465710B53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684360" y="1125360"/>
            <a:ext cx="8135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性污染对于食品安全的威胁很突出，数据表明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污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危害我国食品安全的首要因素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生物性污染具有</a:t>
            </a: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不确定性和控制难度大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，容易造成局部地区的暴发和流行，因而备受食品安全监管部门的关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4179-7DBB-4FB1-B32D-BD70C926E8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D6DC-2F0F-4A15-980C-750F4558BD6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0" y="1125360"/>
            <a:ext cx="9144000" cy="2252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吉林医学院从第二松花江表层底泥中分离、筛选出三株抗汞假单胞菌，经驯化，去除氯化汞的效率相当高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g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微生物能将金属浓集于自身细胞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对于减轻环境污染，维持生态平衡有重要意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A90-2E04-4474-9987-EC683A428D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22E0-A79B-4F74-933D-08DB2CF7E01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539640" y="836640"/>
            <a:ext cx="7777440" cy="40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汞的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水俣病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汞甲基化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甲烷菌、匙形梭菌、荧光假单胞菌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甲基汞溶于水，为鱼贝吸收而浓缩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甲基汞逸出水体，进入大气，污染扩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D37-9276-45EB-BC4F-34B36D314C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D39-D016-4D7C-8929-EC39CF4894A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755640" y="1989000"/>
            <a:ext cx="723888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能进行甲基汞降解作用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能降解甲基汞的微生物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需氧菌、兼性厌氧菌和专性厌氧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2B7-4AA8-46B6-954C-64AC5F12C4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864-3457-4467-9A69-A3BC8ECAAB5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900000" y="189000"/>
            <a:ext cx="6048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砷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826920" y="2133720"/>
            <a:ext cx="73440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为类金属，微量元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的有机、无机化合物有毒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性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5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砒霜为三价砷化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2E83-C2C4-4435-8049-DF2346D60D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D86E-A0E3-4A6E-9BBB-BABED1854FE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763640" y="0"/>
            <a:ext cx="4537080" cy="1009800"/>
          </a:xfrm>
          <a:prstGeom prst="cloudCallout">
            <a:avLst>
              <a:gd name="adj1" fmla="val 65537"/>
              <a:gd name="adj2" fmla="val 70439"/>
            </a:avLst>
          </a:prstGeom>
          <a:solidFill>
            <a:srgbClr val="cc99ff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砷的氧化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A04-72AF-4D8B-BB63-7248FD32C6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788-620B-4716-BFAF-BEDF56DE455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0" y="2060640"/>
            <a:ext cx="7235640" cy="863640"/>
            <a:chOff x="0" y="2060640"/>
            <a:chExt cx="7235640" cy="863640"/>
          </a:xfrm>
        </p:grpSpPr>
        <p:sp>
          <p:nvSpPr>
            <p:cNvPr id="530" name="Oval 4"/>
            <p:cNvSpPr/>
            <p:nvPr/>
          </p:nvSpPr>
          <p:spPr>
            <a:xfrm>
              <a:off x="0" y="2060640"/>
              <a:ext cx="2045160" cy="790560"/>
            </a:xfrm>
            <a:prstGeom prst="ellipse">
              <a:avLst/>
            </a:prstGeom>
            <a:solidFill>
              <a:srgbClr val="ffff99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亚砷酸盐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531" name="AutoShape 5"/>
            <p:cNvSpPr/>
            <p:nvPr/>
          </p:nvSpPr>
          <p:spPr>
            <a:xfrm>
              <a:off x="2046600" y="2132280"/>
              <a:ext cx="5189040" cy="792000"/>
            </a:xfrm>
            <a:prstGeom prst="rightArrow">
              <a:avLst>
                <a:gd name="adj1" fmla="val 50000"/>
                <a:gd name="adj2" fmla="val 163795"/>
              </a:avLst>
            </a:prstGeom>
            <a:solidFill>
              <a:srgbClr val="00ffff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假单胞菌、黄单胞菌、节杆菌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532" name="Oval 6"/>
          <p:cNvSpPr/>
          <p:nvPr/>
        </p:nvSpPr>
        <p:spPr>
          <a:xfrm>
            <a:off x="7128000" y="2133720"/>
            <a:ext cx="183672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砷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FB34-131A-428F-9F88-27AA924D80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AC26-BF5C-4A17-A969-280DE4EDFEF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1187280" y="1628640"/>
            <a:ext cx="676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加到颜料中使色彩鲜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684360" y="292428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916360" y="2924280"/>
            <a:ext cx="2104920" cy="792000"/>
          </a:xfrm>
          <a:prstGeom prst="rightArrow">
            <a:avLst>
              <a:gd name="adj1" fmla="val 50000"/>
              <a:gd name="adj2" fmla="val 66443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霉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5076720" y="2852640"/>
            <a:ext cx="286704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三甲基砷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403280" y="404640"/>
            <a:ext cx="5184720" cy="863640"/>
          </a:xfrm>
          <a:prstGeom prst="cloudCallout">
            <a:avLst>
              <a:gd name="adj1" fmla="val 19995"/>
              <a:gd name="adj2" fmla="val 86763"/>
            </a:avLst>
          </a:prstGeom>
          <a:solidFill>
            <a:srgbClr val="99cc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砷的甲基化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2411280" y="4149720"/>
            <a:ext cx="5545440" cy="1295280"/>
          </a:xfrm>
          <a:prstGeom prst="cloudCallout">
            <a:avLst>
              <a:gd name="adj1" fmla="val 17189"/>
              <a:gd name="adj2" fmla="val -84069"/>
            </a:avLst>
          </a:prstGeom>
          <a:solidFill>
            <a:srgbClr val="cc99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蒜气味的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剧毒物质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973D-4BBB-443C-ACB6-EE180295D9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5AD-52D0-4A1F-BE23-50295EBACC7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990720" y="762120"/>
            <a:ext cx="7543800" cy="6426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（三）硒的氧化、还原和甲基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2411280" y="1484280"/>
            <a:ext cx="2952720" cy="792360"/>
          </a:xfrm>
          <a:prstGeom prst="cloudCallout">
            <a:avLst>
              <a:gd name="adj1" fmla="val -20537"/>
              <a:gd name="adj2" fmla="val 104310"/>
            </a:avLst>
          </a:prstGeom>
          <a:solidFill>
            <a:srgbClr val="31b6f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富硒大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900000" y="27813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量与中毒水平之间的安全幅度很小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6" name="Oval 5"/>
          <p:cNvSpPr/>
          <p:nvPr/>
        </p:nvSpPr>
        <p:spPr>
          <a:xfrm>
            <a:off x="611280" y="342900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硒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627280" y="3429000"/>
            <a:ext cx="1871640" cy="792000"/>
          </a:xfrm>
          <a:prstGeom prst="rightArrow">
            <a:avLst>
              <a:gd name="adj1" fmla="val 50000"/>
              <a:gd name="adj2" fmla="val 59080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紫色硫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8" name="Oval 7"/>
          <p:cNvSpPr/>
          <p:nvPr/>
        </p:nvSpPr>
        <p:spPr>
          <a:xfrm>
            <a:off x="4572000" y="3429000"/>
            <a:ext cx="230508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硒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7F1-07CF-4F06-AC71-80646D6BE2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18D4-8417-4191-8483-616D318C087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143000" y="1143000"/>
            <a:ext cx="6934320" cy="28371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四）其他重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铅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锡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镉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锑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F9CF-6840-4004-AA25-319DB8C0E1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D8E-F74E-42E9-8AC2-0AFA10E0531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0" y="907920"/>
            <a:ext cx="9144000" cy="38412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五）重金属生物转化的环境效应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对有毒金属的解毒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过分泌或呼吸作用排出形成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有机金属化合物</a:t>
            </a:r>
            <a:r>
              <a:rPr b="1" lang="zh-CN" sz="2800" spc="-1" strike="noStrike">
                <a:solidFill>
                  <a:srgbClr val="4584d3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被排出的金属化合物，可能对高等生物具有更大的危害性</a:t>
            </a: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可把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化合态金属还原成单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将金属从生物接触的环境中清除。例如汞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8542-540E-406A-95CA-01731AD409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7BD-91FA-4FEE-8C0F-D31C5ABEECB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763640" y="189000"/>
            <a:ext cx="46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环境中的病原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40000" y="1125360"/>
            <a:ext cx="3816360" cy="5205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24000" y="1844640"/>
            <a:ext cx="8569080" cy="19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993366"/>
              </a:buClr>
              <a:buSzPct val="12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污水处理与污水灌溉可引起空气污染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9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污灌前进行污水消毒，以减少含菌气溶胶的传播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C38B-AF5E-41FF-9CB3-60265674CA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6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559-CA01-461B-8A58-9DB3EC0F5B2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7" name="AutoShape 2"/>
          <p:cNvSpPr/>
          <p:nvPr/>
        </p:nvSpPr>
        <p:spPr>
          <a:xfrm>
            <a:off x="2916360" y="0"/>
            <a:ext cx="2554200" cy="907920"/>
          </a:xfrm>
          <a:custGeom>
            <a:avLst/>
            <a:gdLst>
              <a:gd name="textAreaLeft" fmla="*/ 447480 w 2554200"/>
              <a:gd name="textAreaRight" fmla="*/ 2106720 w 2554200"/>
              <a:gd name="textAreaTop" fmla="*/ 159120 h 907920"/>
              <a:gd name="textAreaBottom" fmla="*/ 7488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84" y="3784"/>
                </a:lnTo>
                <a:lnTo>
                  <a:pt x="10800" y="0"/>
                </a:lnTo>
                <a:lnTo>
                  <a:pt x="17816" y="3784"/>
                </a:lnTo>
                <a:lnTo>
                  <a:pt x="21600" y="10800"/>
                </a:lnTo>
                <a:lnTo>
                  <a:pt x="17816" y="17816"/>
                </a:lnTo>
                <a:lnTo>
                  <a:pt x="10800" y="21600"/>
                </a:lnTo>
                <a:lnTo>
                  <a:pt x="3784" y="17816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826920" y="90792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六节 影响污染物在生态系统中行为的因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990720" y="1905120"/>
            <a:ext cx="322092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1692360" y="2708280"/>
            <a:ext cx="36464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2340000" y="3573360"/>
            <a:ext cx="287964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D576-8E66-4F73-B882-5C0CAB6501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70AC-1B65-4AC6-ADBB-778AE0EC1DA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3276720" y="1905120"/>
            <a:ext cx="1655640" cy="2531880"/>
          </a:xfrm>
          <a:custGeom>
            <a:avLst/>
            <a:gdLst>
              <a:gd name="textAreaLeft" fmla="*/ 1057680 w 1655640"/>
              <a:gd name="textAreaRight" fmla="*/ 1656000 w 1655640"/>
              <a:gd name="textAreaTop" fmla="*/ 65880 h 2531880"/>
              <a:gd name="textAreaBottom" fmla="*/ 2466000 h 25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5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的种类差异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和器官差异性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4500720" y="3284640"/>
            <a:ext cx="3456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育期和年龄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5435640" y="4149720"/>
            <a:ext cx="172872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别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539640" y="2666880"/>
            <a:ext cx="302580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CFB-F10D-4636-BEEB-971203E955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7FA-BE86-40EB-B700-1916B32CDC2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2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类和理化性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4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存在形态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5" name="Oval 5"/>
          <p:cNvSpPr/>
          <p:nvPr/>
        </p:nvSpPr>
        <p:spPr>
          <a:xfrm>
            <a:off x="4500720" y="328464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和暴露时间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6" name="Oval 6"/>
          <p:cNvSpPr/>
          <p:nvPr/>
        </p:nvSpPr>
        <p:spPr>
          <a:xfrm>
            <a:off x="4788000" y="4076640"/>
            <a:ext cx="287964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相互作用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3059280" y="4941720"/>
            <a:ext cx="3960720" cy="719280"/>
          </a:xfrm>
          <a:prstGeom prst="wedgeRoundRectCallout">
            <a:avLst>
              <a:gd name="adj1" fmla="val 25111"/>
              <a:gd name="adj2" fmla="val -90398"/>
              <a:gd name="adj3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协同、相加、独立和拮抗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8" name="Oval 8"/>
          <p:cNvSpPr/>
          <p:nvPr/>
        </p:nvSpPr>
        <p:spPr>
          <a:xfrm>
            <a:off x="228600" y="2743200"/>
            <a:ext cx="28796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84A-04F2-4C5E-8CED-8D6DBEE080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08D-9FA6-4B1B-BC22-C2EC2B8797F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1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4643280" y="1628640"/>
            <a:ext cx="360072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、湿度和光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4500720" y="2781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介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4427640" y="393372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际环境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380880" y="2819520"/>
            <a:ext cx="288000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7A3-6B73-460E-B1C8-C11F3D4E9C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061-55AF-4190-92EC-43A459C9AED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6858000" y="1916280"/>
            <a:ext cx="2286000" cy="2514600"/>
          </a:xfrm>
          <a:prstGeom prst="wedgeRoundRectCallout">
            <a:avLst>
              <a:gd name="adj1" fmla="val -99444"/>
              <a:gd name="adj2" fmla="val -17361"/>
              <a:gd name="adj3" fmla="val 16667"/>
            </a:avLst>
          </a:prstGeom>
          <a:solidFill>
            <a:srgbClr val="ccffff"/>
          </a:solidFill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分泌物中大量的有机酸和酚类等物质可与重金属形成络合物，有利植物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D31-DAE9-419E-9EC1-064D145054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92F-CCAB-47C8-8FF3-CB8FD52AA18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6642000" y="1628640"/>
            <a:ext cx="2502000" cy="3649680"/>
          </a:xfrm>
          <a:prstGeom prst="wedgeRoundRectCallout">
            <a:avLst>
              <a:gd name="adj1" fmla="val -83504"/>
              <a:gd name="adj2" fmla="val 14638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微生物的代谢活性，产酸导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降，产生重金属螯合物，导致重金属溶解，被微生物细胞吸附或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A99-D26F-4BB6-AEC0-15B7EB75B3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97D1-5C80-4162-8105-D7C0DCEEC6B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6659640" y="1197000"/>
            <a:ext cx="2286000" cy="3505320"/>
          </a:xfrm>
          <a:prstGeom prst="wedgeRoundRectCallout">
            <a:avLst>
              <a:gd name="adj1" fmla="val -83263"/>
              <a:gd name="adj2" fmla="val 61365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使用污泥的土壤中，菌根促进植物的生长，根瘤数和重量，提高植物体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的含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日期占位符 1"/>
          <p:cNvSpPr/>
          <p:nvPr/>
        </p:nvSpPr>
        <p:spPr>
          <a:xfrm>
            <a:off x="521964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D696-92ED-4B2E-9B49-1813F039CF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607-F9BE-4BE5-8C1E-C39C76FC505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250920" y="692280"/>
            <a:ext cx="86421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释下列基本概念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先控制污染物、污染物迁移、污染物转化、超积累植物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OP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在环境中的迁移方式和转化途径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转运？污染物透过细胞膜的方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污染物在体内的生物转化？生物转化过程和主要反应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浓缩、生物积累、生物放大和浓缩系数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阐述微生物对金属汞、砷的生物转化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影响污染物在生态系统中的行为的主要因素有哪些方面？举例说明这些因素的影响方式和影响程度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超量积累植物具有什么特点？研究超量积累植物有什么意义？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FB4-95D1-4DD6-9B00-2B2F473C99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6F8-B332-43A0-9070-B9EB6BCC4F9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0" y="620640"/>
            <a:ext cx="8893080" cy="41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作业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的环境问题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在本学科中存在的主要优先领域有哪些方面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外环境生物学重要期刊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生物转运？污染物透过细胞膜的方式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污染物在体内的生物转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简述生物转化过程和主要反应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浓缩、生物积累、生物放大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优先控制污染物、超积累植物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OP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4EBC-F842-47A9-B4E4-6298F4BA3B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63C-6B1F-448D-8067-7F04979E51A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34000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971800" y="1143000"/>
            <a:ext cx="220968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中病原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0920" y="1844640"/>
            <a:ext cx="8353440" cy="39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lmon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污染的水源被饮用可能导致人体肠胃或伤寒暴发流行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贺氏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，引起痢疾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霍乱弧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brio cholera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霍乱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病毒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nterovirus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型肝炎病毒、呼肠锅病毒等都引起水体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B22-874E-4DF2-940E-2B9C0F041C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0CB-7AC0-495A-8368-6E258DBE99D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241128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土壤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981000"/>
            <a:ext cx="8964720" cy="32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土壤是微生物居住场所，造成土壤微生物污染主要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彻底无害处理的人、畜粪便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处理的生活污水、医院污水和含有病原体的工业废水进行农田灌溉和利用其污泥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畜尸体处理不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200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年在四川暴发的人感染猪链球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E83-534B-419C-8B7F-CB4A35BEC0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39D-3338-4859-950B-3DD802FBC80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2195640" y="189000"/>
            <a:ext cx="5040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 水体的富营养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468360" y="1268280"/>
            <a:ext cx="7491240" cy="16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作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utrophi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的氮、磷等营养元素物质进入水体，使水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藻类等浮游生物旺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殖，从而破坏水体的生态平衡的现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7" name="Picture 4" descr="7e3abea14a2ce781471064e6"/>
          <p:cNvPicPr/>
          <p:nvPr/>
        </p:nvPicPr>
        <p:blipFill>
          <a:blip r:embed="rId1"/>
          <a:stretch/>
        </p:blipFill>
        <p:spPr>
          <a:xfrm>
            <a:off x="6553080" y="4038480"/>
            <a:ext cx="2256120" cy="15782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329256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948-34FC-4B70-9D71-CAA2BC28B2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917C-424E-4BA6-85CB-DE70A370A80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0" y="333360"/>
            <a:ext cx="9144000" cy="45291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表现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外观呈色，变浊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中散发出不良气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解氧含量下降。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生生物死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藻毒素。水溶性和耐热性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种肝毒素，是肝癌的强烈促癌剂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污染饮用水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营养化水体中藻类主要为蓝细菌（蓝藻）和绿藻，有鱼腥藻属、微囊藻属、颤藻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CA05-ECDA-4070-8370-807DA25275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C5E-986D-48E4-9B31-F063A6FA1C5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4" name="Picture 2" descr="W020070531561411645724"/>
          <p:cNvPicPr/>
          <p:nvPr/>
        </p:nvPicPr>
        <p:blipFill>
          <a:blip r:embed="rId1"/>
          <a:stretch/>
        </p:blipFill>
        <p:spPr>
          <a:xfrm>
            <a:off x="1476360" y="907920"/>
            <a:ext cx="6629400" cy="49737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3"/>
          <p:cNvSpPr/>
          <p:nvPr/>
        </p:nvSpPr>
        <p:spPr>
          <a:xfrm>
            <a:off x="3962520" y="533520"/>
            <a:ext cx="29718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1b6fd"/>
          </a:solidFill>
          <a:ln w="936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太湖湖畔漂浮着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09:31Z</dcterms:created>
  <dc:creator>swjfm</dc:creator>
  <dc:description/>
  <dc:language>en-US</dc:language>
  <cp:lastModifiedBy>xh</cp:lastModifiedBy>
  <cp:lastPrinted>1997-03-02T15:35:10Z</cp:lastPrinted>
  <dcterms:modified xsi:type="dcterms:W3CDTF">2019-03-13T06:42:47Z</dcterms:modified>
  <cp:revision>409</cp:revision>
  <dc:subject/>
  <dc:title>幻灯片 1</dc:title>
</cp:coreProperties>
</file>